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A7BD-DC9E-44DB-9ABE-05018F9846B7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7DF9-762B-4883-912D-4B4FFFC46550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B47-6859-42C4-B6C4-1D053EDC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272-DAB3-48B6-9BF0-CC6A308C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D25-E2E2-4786-BC66-D278BFBA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2A9-AD32-421B-AB65-1683C2D9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6B9-E922-463B-989D-4157C13C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1A7-0F57-466B-AF41-ED7E126C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68F-6024-45C3-9DBA-DF860BC2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560-EA0C-489E-9573-0E041BC6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323-0414-4702-9C9C-0DE08A30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589-9533-4B40-8D5B-00F28313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C7F-5A01-45CF-A121-A087145D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70E-1DED-4BB5-9BC6-74D9CBB6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83C9-5976-4B3A-8465-BFFDA912706F}" type="slidenum">
              <a:rPr b="0" lang="ru-RU" sz="9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360" y="5848200"/>
            <a:ext cx="4738680" cy="68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Black"/>
              </a:rPr>
              <a:t>Выполнила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i="1" lang="ru-RU" sz="2200" spc="-1" strike="noStrike">
                <a:solidFill>
                  <a:srgbClr val="000000"/>
                </a:solidFill>
                <a:latin typeface="Arial Black"/>
              </a:rPr>
              <a:t> Федченко И.В.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441360"/>
            <a:ext cx="777708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51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ециальный транспорт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https://i.ytimg.com/vi/nMmtdlAb7BI/maxresdefault.jpg"/>
          <p:cNvPicPr/>
          <p:nvPr/>
        </p:nvPicPr>
        <p:blipFill>
          <a:blip r:embed="rId1"/>
          <a:stretch/>
        </p:blipFill>
        <p:spPr>
          <a:xfrm>
            <a:off x="1547640" y="1557360"/>
            <a:ext cx="7040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region.center/source/TULA/2019/2019/32.jpg"/>
          <p:cNvPicPr/>
          <p:nvPr/>
        </p:nvPicPr>
        <p:blipFill>
          <a:blip r:embed="rId1"/>
          <a:stretch/>
        </p:blipFill>
        <p:spPr>
          <a:xfrm>
            <a:off x="6480" y="3265560"/>
            <a:ext cx="5141880" cy="346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img.dni.ru/binaries/v3_main/333103.jpg"/>
          <p:cNvPicPr/>
          <p:nvPr/>
        </p:nvPicPr>
        <p:blipFill>
          <a:blip r:embed="rId2"/>
          <a:stretch/>
        </p:blipFill>
        <p:spPr>
          <a:xfrm>
            <a:off x="4673520" y="-65160"/>
            <a:ext cx="4235400" cy="333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s://avatars.mds.yandex.net/get-zen_doc/1362956/pub_5af701065816690b0a01725f_5af70d3b5a104f8cefdf6ea3/scale_1200"/>
          <p:cNvPicPr/>
          <p:nvPr/>
        </p:nvPicPr>
        <p:blipFill>
          <a:blip r:embed="rId3"/>
          <a:stretch/>
        </p:blipFill>
        <p:spPr>
          <a:xfrm>
            <a:off x="212760" y="26028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s://st2.depositphotos.com/5613078/12249/v/950/depositphotos_122497194-stock-illustration-siren-set-police-flasher.jpg"/>
          <p:cNvPicPr/>
          <p:nvPr/>
        </p:nvPicPr>
        <p:blipFill>
          <a:blip r:embed="rId4"/>
          <a:stretch/>
        </p:blipFill>
        <p:spPr>
          <a:xfrm>
            <a:off x="5867280" y="4105440"/>
            <a:ext cx="304344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" name="Picture 4" descr="https://fs00.infourok.ru/images/doc/283/289201/img2.jpg"/>
          <p:cNvPicPr/>
          <p:nvPr/>
        </p:nvPicPr>
        <p:blipFill>
          <a:blip r:embed="rId1"/>
          <a:stretch/>
        </p:blipFill>
        <p:spPr>
          <a:xfrm>
            <a:off x="0" y="419040"/>
            <a:ext cx="912168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https://fs00.infourok.ru/images/doc/283/289201/img1.jpg"/>
          <p:cNvPicPr/>
          <p:nvPr/>
        </p:nvPicPr>
        <p:blipFill>
          <a:blip r:embed="rId1"/>
          <a:stretch/>
        </p:blipFill>
        <p:spPr>
          <a:xfrm>
            <a:off x="63360" y="549360"/>
            <a:ext cx="90871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https://ds03.infourok.ru/uploads/ex/0058/00030d97-a1fecae6/img15.jpg"/>
          <p:cNvPicPr/>
          <p:nvPr/>
        </p:nvPicPr>
        <p:blipFill>
          <a:blip r:embed="rId1"/>
          <a:stretch/>
        </p:blipFill>
        <p:spPr>
          <a:xfrm>
            <a:off x="155520" y="122400"/>
            <a:ext cx="898056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api-pytyakh.ooogoroda.mobi/uploads%2Fimages%2Fpytyakh%2Forganisation%2F%D0%BF%D0%BE%D0%B6%D0%B0%D1%80%D0%BA%D0%B0_1524906636.jpg"/>
          <p:cNvPicPr/>
          <p:nvPr/>
        </p:nvPicPr>
        <p:blipFill>
          <a:blip r:embed="rId1"/>
          <a:stretch/>
        </p:blipFill>
        <p:spPr>
          <a:xfrm>
            <a:off x="87480" y="333360"/>
            <a:ext cx="903744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http://carakoom.com/data/blogs/787/32076/image/2407776126.jpg"/>
          <p:cNvPicPr/>
          <p:nvPr/>
        </p:nvPicPr>
        <p:blipFill>
          <a:blip r:embed="rId1"/>
          <a:stretch/>
        </p:blipFill>
        <p:spPr>
          <a:xfrm>
            <a:off x="-11160" y="765000"/>
            <a:ext cx="9155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https://avatars.mds.yandex.net/get-pdb/1790044/f057939a-9df1-4504-8b3b-9b49a9a16081/s1200?webp=false"/>
          <p:cNvPicPr/>
          <p:nvPr/>
        </p:nvPicPr>
        <p:blipFill>
          <a:blip r:embed="rId1"/>
          <a:stretch/>
        </p:blipFill>
        <p:spPr>
          <a:xfrm>
            <a:off x="468360" y="279360"/>
            <a:ext cx="848340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img-fotki.yandex.ru/get/476282/397223269.9/0_1b86d5_56c9ded4_XXXL.jpg"/>
          <p:cNvPicPr/>
          <p:nvPr/>
        </p:nvPicPr>
        <p:blipFill>
          <a:blip r:embed="rId1"/>
          <a:stretch/>
        </p:blipFill>
        <p:spPr>
          <a:xfrm>
            <a:off x="179280" y="765000"/>
            <a:ext cx="8859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avatars.mds.yandex.net/get-zen_doc/1686199/pub_5e444394b83d707e09fb4e3c_5e4444490a4cb02ee4282da4/scale_1200"/>
          <p:cNvPicPr/>
          <p:nvPr/>
        </p:nvPicPr>
        <p:blipFill>
          <a:blip r:embed="rId1"/>
          <a:stretch/>
        </p:blipFill>
        <p:spPr>
          <a:xfrm>
            <a:off x="250920" y="981000"/>
            <a:ext cx="86900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Windows User</cp:lastModifiedBy>
  <dcterms:modified xsi:type="dcterms:W3CDTF">2022-11-07T21:50:39Z</dcterms:modified>
  <cp:revision>40</cp:revision>
  <dc:subject/>
  <dc:title>Слайд 1</dc:title>
</cp:coreProperties>
</file>