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601-9E96-479D-9612-8A29BA7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EA7-F4FE-40F8-97C9-ABB2485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3FF-1BFD-406C-AFE9-CB0763D2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7EB-2D39-46A0-B6DF-A51D70AE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BAB0-3C67-41AE-A0DE-CC85253C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B68-88DF-49DB-9E7D-B2A9933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325-FB62-462A-9837-7E8366B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E87-736D-46E6-ACBC-38FC04D1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F232-88B0-44B0-B1B1-33B9FDF9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9108-90ED-4DB9-A2D7-CB11EEF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FC7B-2023-4155-94A1-E7295F8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672-65DB-438A-AE4A-0F58D0D1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0575-7FB8-402A-804C-D7C5765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8663-E54B-43F3-A65D-C420DA5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5B0-E351-4DED-BB6E-59BA13E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7B7D-BBC2-4F37-AE7E-CC2BCCD1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D9E-6444-43AC-BD69-67A0779B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30DE-A7D4-4DA1-8C65-14A2396C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8FD7-D9F8-457A-95CA-C36373B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DFBD-A56E-447A-A4C5-C9940FB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19AC-018C-4D0B-9D1B-198B97D1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5100-39D5-4406-8B6C-CFD3C99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B52-6F08-47DA-853F-DF18EA8D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B6C6-B1EF-41AA-B539-986D97C6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01A0-3338-464B-9522-85EBCF3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4084-1D70-4892-815C-50515B3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D615-A8D2-42AE-8FDC-CB1F7D3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2D60-E00C-4A50-9445-88C9D77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EDC8-05AB-4AF7-BC64-E584FF46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35B5-7FEC-4ABF-B55B-7560337A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343A-2AB8-468A-9136-A1E22E88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F933-B5E2-4071-9D59-5549A04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10BC-3344-4728-880D-5D74026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B75-9366-4242-AA51-883E579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54E5-FB91-42B9-9AB2-E7B74443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B6B6-2079-48F4-9744-CA67C6DE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5FAF-AF23-449D-8D42-E12127E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E073-9609-438B-9F1B-CE0FA2B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DFFF-CBDF-4CCB-A1E0-B068F1E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1E51-0BE5-485A-BC9D-BEA755F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63779-9643-455F-A0AD-976AF419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29B2-5955-401F-BB2F-809982C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18AD-F3FD-4CE8-B129-A327BFD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049-C53B-422B-A8A3-33CC908E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08D-993A-42D3-A14E-90CAC4E3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F27-3EE7-4508-8276-00AE133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2C6-3406-4311-A440-3227D64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E11-E464-41DF-9EA5-5D8799D8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1B7-7E42-4DF8-B2AF-FF895F4AD9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6AA-0971-4344-97DB-CC41F6D404D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AAB4-B6F0-4EB9-AAC0-09A3C2EC259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04C-3955-4EDE-9866-DB7E523BCAB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969840" y="1249200"/>
            <a:ext cx="759456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285840" y="857160"/>
            <a:ext cx="857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ы в повелительной форме единственного числа (повел, ф. ед. ч.) отвечают на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? что сделай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уходи, спрячь, откр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ы в повелительной форме множественного числа (повел, ф. мн. ч.) отвечают на вопрос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те? что сделайт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42920" y="5716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71680" y="492840"/>
            <a:ext cx="8286480" cy="582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23  упр.1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, сидим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д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азогреют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грейте, разогреешь; не грусти, не грустит, не грустим; повторяют, повторяет, повторяйте; не улетай, не улетаю, не улетают; подскажут, 'подскажи, подсказал; помогите, помогут, помогу; закрываем, закрывал, закрывайте; приглашали, приглашай, приглашают; поздравь, поздравил, поздрави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85840" y="237960"/>
            <a:ext cx="8229600" cy="23338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357120" y="2643120"/>
            <a:ext cx="82155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…. ….. 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нить … …..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ить …. …. 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ать ….. ….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готовить … ….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15920" y="212760"/>
            <a:ext cx="8693280" cy="15368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1428840" y="1357200"/>
            <a:ext cx="621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должить любое предл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выполнял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опробу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714240" y="1857240"/>
            <a:ext cx="764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ТР.124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Упр. 14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577360" cy="121284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285840" y="78588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лаголы бывают близки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: смотрит-глядит, работает- тру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аголы бывают противоположными по 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: говорить-молчать, прятать-на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аголы используют для   с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 воет, как зв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трицания с глаголами используют частиц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с глаголами пишется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ённая форма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делать? 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2"/>
          <p:cNvSpPr/>
          <p:nvPr/>
        </p:nvSpPr>
        <p:spPr>
          <a:xfrm>
            <a:off x="1214280" y="1357200"/>
            <a:ext cx="7286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«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нежный к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граем в игру.   (1- называет глагол  2 – повторяет глагол и добавляет еще, 3- повторяет два предыдущих глагола + еще глагол…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4200" y="3642840"/>
            <a:ext cx="8072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йди лишнее слово в каждой строке. Почему лишнее?</a:t>
            </a:r>
            <a:br>
              <a:rPr sz="4500"/>
            </a:br>
            <a:br>
              <a:rPr sz="45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ишь     идешь   мастериш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е      молчите   прыгает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ет          пилит     помнит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285840" y="214308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1042920" y="573120"/>
            <a:ext cx="7472520" cy="15303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1000080" y="1928880"/>
            <a:ext cx="750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и,  не, скуки, (1)Умелые, зн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дей, насмешишь, 1Поспешишь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48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Чистописание. Запиши пословицы, объясни орфограммы.  </a:t>
            </a: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Умелые руки </a:t>
            </a:r>
            <a:r>
              <a:rPr b="1" i="1" lang="ru-RU" sz="5900" spc="-1" strike="noStrike">
                <a:solidFill>
                  <a:srgbClr val="ff0000"/>
                </a:solidFill>
                <a:latin typeface="Calibri"/>
              </a:rPr>
              <a:t>не </a:t>
            </a: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знают скуки.</a:t>
            </a: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Поспешиш</a:t>
            </a:r>
            <a:r>
              <a:rPr b="1" i="1" lang="ru-RU" sz="59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-людей насмешиш</a:t>
            </a:r>
            <a:r>
              <a:rPr b="1" i="1" lang="ru-RU" sz="59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Картинки по запросу &quot;правописание окончаний глаголов 2 лица единственного числа&quot;"/>
          <p:cNvPicPr/>
          <p:nvPr/>
        </p:nvPicPr>
        <p:blipFill>
          <a:blip r:embed="rId2"/>
          <a:stretch/>
        </p:blipFill>
        <p:spPr>
          <a:xfrm>
            <a:off x="1000080" y="17859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85840" y="743040"/>
            <a:ext cx="83041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57120" y="621360"/>
            <a:ext cx="8501040" cy="61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44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говоре друг с другом мы часто обращаемся к собеседникам с какой-либо просьб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Закрой, пожалуйста, окно.)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ом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Оденьтесь потеплее 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приказом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Класс, стройся!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04920" y="1359000"/>
            <a:ext cx="405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11-08T08:33:26Z</dcterms:modified>
  <cp:revision>68</cp:revision>
  <dc:subject/>
  <dc:title>Слайд 1</dc:title>
</cp:coreProperties>
</file>