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0D8E-C0A7-4D23-A8BE-9EBC41198E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7476-80AD-4E8F-ABFB-EAAC128D3D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D7E1-11B3-4233-8E19-CC49115383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7EAB-B052-459C-9606-6B1339C74A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006-5968-45E3-9356-8A6480C2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574-F964-4EB5-8924-D35C2D08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A57-1B33-4E8D-964B-A2859C1B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528-11D6-4313-9320-2CB9E5BA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0E7D-F543-45BC-A059-A1316F00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EC4B-6278-4DF6-903A-4FAFE411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9E96-6268-4B0B-BC33-DB50F943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6256-0A42-4B60-B382-AED8509F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8ACD-75ED-4FA0-A05D-DE8A44D4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257F-F193-4779-8579-4BD4F0D5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771B-BDA9-43F9-A77A-3A8A2E76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E33-D395-44C9-ABE7-4DD59A8E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2074-8CB3-461C-8E9E-E836D8A1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7DF3-CFF6-4EA6-BF26-CCD02AAF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8B40-0225-48CA-9E2C-0386170C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EEED-AC4F-4FD9-83F8-1AD5FAB9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D131-E52E-4E05-B05B-C8B38F03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5270F-64AF-41DB-AE1E-25C92305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1B290-95D6-4FDD-968E-72D39B4A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1305-152E-4E2D-8D1F-67BC040A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5F53-6E9A-4194-952E-5E9AC1FE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49C78-0BE7-4661-BDFD-FDC711C0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6F8-2E5E-43F8-8875-C31194FF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B346-B0DE-4122-848C-643ACF62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F89EF-E83F-4728-99E0-1006A762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B506F-0291-4D8D-9D9A-C18C7424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0F291-70A1-46DB-A9A0-74296715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1C1D-C0ED-47C5-8A39-5200E216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A9C2-F87F-48FF-A44A-18625331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832A3-B428-4CC2-A983-74D3D5B8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B4855-1C4F-4EAA-8374-90C07D1A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32329-C7D3-4152-ABBF-E8B49224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D04B7-781B-4B6F-8466-285B101D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873-50FB-4B50-B38F-D1AB64F3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EB83-4D84-46A0-A4F6-34175127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8C2D7-E3E3-44CA-939E-AF9BF94A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53BA6-9742-4155-9937-05E8BA46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F2A24-2DD4-43AB-AADD-9A10DC7F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86FE0-C1A2-4450-9EA5-34A2A6BB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7F6DA-F310-4730-B8D1-C31002F8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9FEAE-C4D0-4EFD-93BA-E097B647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1E613-078E-4629-9990-D1591306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A7A00-FA2C-4DBC-AB34-52769CE7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50BB2-C74E-4C4C-B475-3E3D79FA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BC0-F9E1-4C5E-A36B-9F205DC1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8748D-A524-446E-98CF-937B3AA0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A164E-DD04-4A94-AF6A-4F0194A4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16033-728D-4473-A037-930746A8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E8C61-1A49-47D0-8B06-5E559E24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E3987-76EE-4477-ACE8-F762CC8C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7C368-86DA-41C9-8C6C-20DFA013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925C2-42E4-40D7-9DEC-16E75DED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8D5FC-37E5-4922-8AF7-54C33E43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7CCD4-CB37-40F6-884E-89225564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C6B1C-E570-4BB9-B71E-744DF0AD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61B-C271-4364-B4FF-82235FD0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E2380-F606-4B47-A642-946D8195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018-00EF-4A8D-A55A-52CD4406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C17-9159-4E82-BB07-BF494094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680-04FC-4FDF-B53C-669DF15E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EF54-4EFC-446C-B644-3705479D88BC}" type="slidenum">
              <a:rPr b="0" lang="ru-RU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5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75AD-BBBB-4598-81F3-1A8DD44CF3F9}" type="slidenum">
              <a:rPr b="0" lang="ru-RU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539D-F12D-48AA-90DE-2EB84247062D}" type="slidenum">
              <a:rPr b="0" lang="ru-RU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105520"/>
            <a:ext cx="84693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E85F-2512-4535-B435-632FDD651A7E}" type="slidenum">
              <a:rPr b="0" lang="ru-RU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8CA0-48E2-490A-9B6F-86111C78896B}" type="slidenum">
              <a:rPr b="0" lang="ru-RU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64880" y="-2054160"/>
            <a:ext cx="10248840" cy="37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ИГНАЛЫ РЕГУЛИРОВЩ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220" name="Рисунок 1" descr=""/>
          <p:cNvPicPr/>
          <p:nvPr/>
        </p:nvPicPr>
        <p:blipFill>
          <a:blip r:embed="rId1"/>
          <a:stretch/>
        </p:blipFill>
        <p:spPr>
          <a:xfrm>
            <a:off x="1774800" y="2009880"/>
            <a:ext cx="578664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28320" y="695160"/>
            <a:ext cx="712332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9d9d9"/>
                </a:solidFill>
                <a:latin typeface="Century Schoolbook"/>
              </a:rPr>
              <a:t>В наше время увидеть на дороге регулировщика с полосатым жезлом - большая редкость. А когда-то они были неотъемлемой частью городского пейзажа. Наверное, потому что поставить человека было дешевле, чем железный столб светофора. Как утверждают исторические источники, первые регулировщики в нашей стране появились ещё в царское  время. В 1908 году, сначала в столице империи – Санкт-Петербурге, а затем и в Москве полицейским «на более бойких по движению улицах присвоены белые трости для регулирования движения и безопасности пешеходов». Самые ранние фотографии относятся ко второй половине 1920-х гг., когда регулировщиков стало больше в связи с интенсификацией автотранспортного движения.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3" descr=""/>
          <p:cNvPicPr/>
          <p:nvPr/>
        </p:nvPicPr>
        <p:blipFill>
          <a:blip r:embed="rId1"/>
          <a:stretch/>
        </p:blipFill>
        <p:spPr>
          <a:xfrm>
            <a:off x="655560" y="264960"/>
            <a:ext cx="2560680" cy="37260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4" descr=""/>
          <p:cNvPicPr/>
          <p:nvPr/>
        </p:nvPicPr>
        <p:blipFill>
          <a:blip r:embed="rId2"/>
          <a:stretch/>
        </p:blipFill>
        <p:spPr>
          <a:xfrm>
            <a:off x="3681360" y="192240"/>
            <a:ext cx="2978280" cy="43243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"/>
          <p:cNvPicPr/>
          <p:nvPr/>
        </p:nvPicPr>
        <p:blipFill>
          <a:blip r:embed="rId3"/>
          <a:stretch/>
        </p:blipFill>
        <p:spPr>
          <a:xfrm>
            <a:off x="5916600" y="2127240"/>
            <a:ext cx="2836800" cy="41799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7" descr=""/>
          <p:cNvPicPr/>
          <p:nvPr/>
        </p:nvPicPr>
        <p:blipFill>
          <a:blip r:embed="rId4"/>
          <a:stretch/>
        </p:blipFill>
        <p:spPr>
          <a:xfrm>
            <a:off x="2197080" y="2879640"/>
            <a:ext cx="3254400" cy="38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98640" y="277560"/>
            <a:ext cx="678816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ИДЫ ПЕРЕКРЕСТКО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2951280" cy="1871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2880000" cy="1871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3097440" cy="194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5" descr=""/>
          <p:cNvPicPr/>
          <p:nvPr/>
        </p:nvPicPr>
        <p:blipFill>
          <a:blip r:embed="rId4"/>
          <a:stretch/>
        </p:blipFill>
        <p:spPr>
          <a:xfrm>
            <a:off x="5076720" y="3860640"/>
            <a:ext cx="2822760" cy="18734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0"/>
          <p:cNvSpPr/>
          <p:nvPr/>
        </p:nvSpPr>
        <p:spPr>
          <a:xfrm>
            <a:off x="1547640" y="32457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естообразн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5867280" y="32457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-образн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1619280" y="5806080"/>
            <a:ext cx="17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-образн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16"/>
          <p:cNvSpPr/>
          <p:nvPr/>
        </p:nvSpPr>
        <p:spPr>
          <a:xfrm flipV="1" rot="10785000">
            <a:off x="4425120" y="58719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организацией кругового движ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740880" y="547560"/>
            <a:ext cx="7139160" cy="61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468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ировщик подает жестами рук сигналы, понятные водителям и пешехода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40" indent="468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лучшей видимости сигналов регулировщик может применять жезл или диск с красным световозвращател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40" indent="468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бование об остановке транспортного средства подается с помощью громкоговорящего устройства или жестом руки, направленной на транспортное средство. Водитель должен остановиться в указанном мес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40" indent="468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й сигнал свистком подается для привлечения внимания участников дви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3"/>
          <p:cNvSpPr/>
          <p:nvPr/>
        </p:nvSpPr>
        <p:spPr>
          <a:xfrm>
            <a:off x="517680" y="401760"/>
            <a:ext cx="770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и вытянуты в сторо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ли опущены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ороны левого и правого бока разрешено движение трамваю прямо, безрельсовым транспортным средствам прямо и направо, пешеходам разрешено переходить проезжую часть; со стороны груди и спины движение всех транспортных средств и пешеходов запреще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2244600" y="3581280"/>
            <a:ext cx="40338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95400" y="449280"/>
            <a:ext cx="82566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             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равая рука вытянута вперед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 стороны левого бока разрешен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вижение трамваю налево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зрельсовым транспортным средствам во всех направлениях; со стороны груди всем транспортным средствам разрешено движение только направо; со стороны правого бока и спины движение всех транспортных средств запрещено; пешеходам разрешено переходить проезжую часть за спиной регулировщ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2538360" y="3281400"/>
            <a:ext cx="312588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596880" y="635040"/>
            <a:ext cx="7488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Рука поднята вверх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вижение всех транспортных средств и пешеходов запрещено во всех направлениях, кроме случаев, предусмотренных пункто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.14 Прави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Рисунок 2" descr=""/>
          <p:cNvPicPr/>
          <p:nvPr/>
        </p:nvPicPr>
        <p:blipFill>
          <a:blip r:embed="rId1"/>
          <a:stretch/>
        </p:blipFill>
        <p:spPr>
          <a:xfrm>
            <a:off x="2927520" y="2398680"/>
            <a:ext cx="3063600" cy="35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17240" y="554040"/>
            <a:ext cx="77166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468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ители и пешеходы должны выполнять требования сигналов и распоряжений регулировщика, даже если они противоречат сигналам светофора, требованиям дорожных знаков или размет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468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учае если значения сигналов светофора противоречат требованиям дорожных знаков приоритета, водители должны руководствоваться сигналами светофор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468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железнодорожных переездах одновременно с красным мигающим сигналом светофора может подаваться звуковой сигнал, дополнительно информирующий пешеходов о запрещении движения через переез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6:24:29Z</dcterms:created>
  <dc:creator>wae</dc:creator>
  <dc:description/>
  <dc:language>en-US</dc:language>
  <cp:lastModifiedBy>acer</cp:lastModifiedBy>
  <dcterms:modified xsi:type="dcterms:W3CDTF">2020-11-09T21:18:55Z</dcterms:modified>
  <cp:revision>85</cp:revision>
  <dc:subject/>
  <dc:title>СИГНАЛЫ СВЕТОФОРА И РЕГУЛИРОВЩИКА</dc:title>
</cp:coreProperties>
</file>