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17.png" ContentType="image/png"/>
  <Override PartName="/ppt/media/chimes.wav" ContentType="audio/x-wav"/>
  <Override PartName="/ppt/media/image16.jpeg" ContentType="image/jpeg"/>
  <Override PartName="/ppt/media/image15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2781-AF7A-4183-9A12-A6E5C40F2E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ADC0-C9A3-494E-B47E-1600413F63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9C27-F073-480D-8D7D-894A635C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370E-AD84-4A13-A253-05758F58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31916-5D17-4CF7-8D94-2DAF5950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ACC8A-CC8A-405E-87E6-2877568B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6D568-722F-4971-8590-3882D53C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2575D-5C96-4A8E-BD71-4EBADB3D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29076-0A0B-468C-A0FB-9AD884BA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23727-5FE1-433E-9FAC-867F8C49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F6E63-F421-4C1D-B291-B0FDE606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E5F58-D5E2-4682-B802-0F9181DB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464DD-B6FB-4B62-99CF-B54B02678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BC75-01A0-4C71-A5D3-EE04CDB3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0C42-7086-432C-B72C-0B87814E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4724-EFFC-4EE7-A09A-D6B8EA746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966D-E61C-4186-8340-F890F5C7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CCFB-77B2-4496-9E13-09ACC6D4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39BB-D035-4474-B15A-A1B7127C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59B9-0D3F-4446-970C-D37D42F5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7961-4BC2-49B6-B16F-0AB62B88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4DF2-0CF9-4B89-9A8F-618EB66D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B4C6-568F-4F0A-A71C-1A87149F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C466-0EF1-4D62-8C3B-A6145A9F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83EA-03DD-4AA2-87ED-E5CDC0A5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BB42-672B-453A-BBF1-66243146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1930-9377-41B9-8381-DEE0F0E1A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C66C-D813-4B09-996A-A2D50563D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C1728-0278-4C98-9EED-1EAF19823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96509-3483-4E27-8E12-F1E6812A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0C0F4-6CB7-4EEA-959D-FD489BE1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7B9E2-139B-4B49-B2C5-806CA49D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24F0F-322A-41CB-94A7-27459A15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CF8F-D5A1-4E7A-9C0C-F9CC8023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E4047-C2C1-4908-B73F-E5588486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63E36-1E1F-44AA-9AC8-21535F3F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64090-18B9-4EED-A15A-9A71E1E6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3EF15-29F8-4567-AA7F-FA117EEA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FD696-5CCD-40C1-8FB8-FBE3DB64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8D70B-4849-4E3A-B432-1EA2D5047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CFF73-5C37-4CAE-9959-4C831C0D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30EB4-2986-4C5D-BA0D-7F67DA23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DB408-BB41-4813-8CBE-47E2FB2E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97A03-EBE8-4975-8703-03893888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9834-48E8-4F6C-9E2B-BBCCF81C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EC915-D166-4DB8-AAB5-4B36BB28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3818D-2DB3-4934-A7F9-03E3D05C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F3509-6CFE-4E2D-A557-D73684F3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36160-36D6-4B55-B598-87E6149F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63F37-78FE-4BBB-AFA1-707A747E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7125B-78DC-478B-A037-8E5A593F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865DF-AF80-4621-BFCA-6644DF13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D3F04-FC93-4BBE-9311-EBE2ACC1D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03F01-7ED1-41B1-A00B-930E0B494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F94EB-B4DF-4724-B4F2-B0F907FC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995B-2061-46DF-ADFC-94815720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3F64E-3F8F-4DCA-A9FC-C0D1B58F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E8461-D9C4-42C1-A8DC-D012B9C8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60431-CA09-4288-96AE-F2ACA818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89D1F-5A6F-45B4-BA40-7A8D8624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5EB38-756E-4855-956E-63F2ACE3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15C35-CD23-4064-89DA-772E65F6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81743-1F24-4554-93AF-DB278E7F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28A6B-3113-4E72-8B05-76422128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46330-4D41-4187-86E7-A894EDBC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8BE60-3CD3-4B5C-9F6A-6A223BE26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7FFD-672A-4004-8F85-403ADD08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9F8E7-4D5A-4267-AF12-83987C1E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B12DB-8A6B-462C-9C20-D8B3D450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F3646-8B16-4836-954E-5D9D6EAB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4B35C-DE00-4ED1-8909-33E891EF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477C1-002E-49F4-B4C6-379184BC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C25BE-C93A-428A-A33F-AEBC2FE6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9DBB5-46C9-43DE-8BF4-6B2F7FC4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6BC26-7766-4158-BB29-E81BE3B3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A959F-3AD1-4E3B-B3A4-3DE0C8C4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63AF9-E11F-430B-AF2E-78736EB3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0710-F309-499C-82F3-F3BB294B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28F2A-278A-4152-AD4D-E12F23C7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88F40-A40A-4EAB-AB70-4FEC50A59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ABA69-9D08-45AF-8426-40EE8188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E7B06-9BCF-4E0F-A798-740C7419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01B54-5143-4691-B85F-F2725EAE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6A4D7-D7DF-41C9-BECA-F1348241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9D07D-5069-43E0-B515-CB8FC3F6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77BF7-4397-42A6-ACB0-B03BD3B1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BB22E-E09F-4D72-93CC-DBB33729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56596-3BF1-4EB2-9E95-E583E03C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52E8-8DA0-4581-97F0-8077AB01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18386-A0C3-438F-A8DC-2856DA58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01332-77DC-49C6-BAF0-0CBFFE99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26737-4B26-499B-9511-3660EB86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ED54F-BC6B-4FCA-874B-511DA715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68D1E-FF3F-405D-9095-D614F59E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715D2-470A-480F-94B5-71D7C1CA2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2AA53-E873-4BBE-A86C-BE429B88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84FB0-083C-4A71-B63A-E8A83CF3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E6CB5-002D-4CF5-9657-7B3FADA7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930E1-9A39-4922-8CDA-BDDC2CB5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4D73-75C1-4DDC-89BB-13CE577D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2446C-18AD-4359-87A3-54D2DAD8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BB9F3-F60C-4AEF-8422-450DE795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06BF1-6C2D-45B3-962B-C0ABBCB0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83AF6-BEFA-4763-93F5-5AD0F26B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55C27-D5CE-465F-936A-BED6ADAD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F36C3-744B-4ECE-A623-D9ED2CBA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C5CE5-EB27-45C1-9F0F-BC674A0F7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384E3-34FE-4B11-9B72-E55CC9FE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C5C30-89F6-4E05-9978-A47862EE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0832A-E805-44B7-966A-B1B97352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6CEC-AD12-4593-BA8B-CA3149B0288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FABD-B9CC-45DF-BE0D-9163DF25BF5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3D2B-31B9-4F77-ADEC-A7A1A429ACC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861E-5E29-4184-891F-06817494388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9364-5363-471A-8344-9BC7952FD88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E196-7019-4B6D-8A62-9F0D22C78BD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4DF5-A126-4AC0-B2CF-5495A9C5017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3FC0-723F-4F8F-98A0-318F3E58662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650E-3DDA-41AD-97F8-44E2A2D53E0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353880" y="-6480"/>
            <a:ext cx="7766280" cy="13971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214280"/>
            <a:ext cx="768672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71d18"/>
                </a:solidFill>
                <a:latin typeface="Franklin Gothic Book"/>
              </a:rPr>
              <a:t>  </a:t>
            </a:r>
            <a:r>
              <a:rPr b="1" lang="ru-RU" sz="3200" spc="-1" strike="noStrike">
                <a:solidFill>
                  <a:srgbClr val="271d18"/>
                </a:solidFill>
                <a:latin typeface="Franklin Gothic Book"/>
              </a:rPr>
              <a:t>х+75   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71d18"/>
                </a:solidFill>
                <a:latin typeface="Franklin Gothic Book"/>
              </a:rPr>
              <a:t>             </a:t>
            </a:r>
            <a:r>
              <a:rPr b="1" lang="ru-RU" sz="3200" spc="-1" strike="noStrike">
                <a:solidFill>
                  <a:srgbClr val="271d18"/>
                </a:solidFill>
                <a:latin typeface="Franklin Gothic Book"/>
              </a:rPr>
              <a:t>(15-8)+у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71d18"/>
                </a:solidFill>
                <a:latin typeface="Franklin Gothic Book"/>
              </a:rPr>
              <a:t>                                 </a:t>
            </a:r>
            <a:r>
              <a:rPr b="1" lang="ru-RU" sz="3200" spc="-1" strike="noStrike">
                <a:solidFill>
                  <a:srgbClr val="271d18"/>
                </a:solidFill>
                <a:latin typeface="Franklin Gothic Book"/>
              </a:rPr>
              <a:t>34-(х+10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71d18"/>
                </a:solidFill>
                <a:latin typeface="Franklin Gothic Book"/>
              </a:rPr>
              <a:t>        </a:t>
            </a:r>
            <a:r>
              <a:rPr b="1" lang="ru-RU" sz="3200" spc="-1" strike="noStrike">
                <a:solidFill>
                  <a:srgbClr val="271d18"/>
                </a:solidFill>
                <a:latin typeface="Franklin Gothic Book"/>
              </a:rPr>
              <a:t>(а-12)-(х-86)               (х-у)-(7+а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71d18"/>
                </a:solidFill>
                <a:latin typeface="Franklin Gothic Book"/>
              </a:rPr>
              <a:t>(у+99)+(76-4)            (25+у)-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71d18"/>
                </a:solidFill>
                <a:latin typeface="Franklin Gothic Book"/>
              </a:rPr>
              <a:t>                      </a:t>
            </a:r>
            <a:r>
              <a:rPr b="1" lang="ru-RU" sz="3200" spc="-1" strike="noStrike">
                <a:solidFill>
                  <a:srgbClr val="271d18"/>
                </a:solidFill>
                <a:latin typeface="Franklin Gothic Book"/>
              </a:rPr>
              <a:t>(89-17)-(х+у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Рисунок 5" descr="фон.png"/>
          <p:cNvPicPr/>
          <p:nvPr/>
        </p:nvPicPr>
        <p:blipFill>
          <a:blip r:embed="rId2"/>
          <a:stretch/>
        </p:blipFill>
        <p:spPr>
          <a:xfrm>
            <a:off x="0" y="0"/>
            <a:ext cx="11417400" cy="900108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оугольник 6"/>
          <p:cNvSpPr/>
          <p:nvPr/>
        </p:nvSpPr>
        <p:spPr>
          <a:xfrm>
            <a:off x="0" y="0"/>
            <a:ext cx="88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egoe Print"/>
              </a:rPr>
              <a:t>Дорогие ребя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egoe Print"/>
              </a:rPr>
              <a:t>Мы, жители волшебной страны Мудрецов, хотим пригласить Вас в гости. Но добраться до нас смогут только самые умные и находчивые. На пути Вам встретятся разные препятствия, преодолеть которые можно только с помощью знаний по математике! Очень надеемся на скорую встреч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Рисунок 5" descr="лодка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420840" y="-139680"/>
            <a:ext cx="8474040" cy="1139760"/>
          </a:xfrm>
          <a:prstGeom prst="rect">
            <a:avLst/>
          </a:prstGeom>
          <a:ln w="0">
            <a:noFill/>
          </a:ln>
        </p:spPr>
      </p:pic>
      <p:sp>
        <p:nvSpPr>
          <p:cNvPr id="427" name="TextBox 4"/>
          <p:cNvSpPr/>
          <p:nvPr/>
        </p:nvSpPr>
        <p:spPr>
          <a:xfrm>
            <a:off x="928800" y="1143000"/>
            <a:ext cx="7500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Franklin Gothic Book"/>
              </a:rPr>
              <a:t>Сумма 17 и 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Franklin Gothic Book"/>
              </a:rPr>
              <a:t>Разность у и 57+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Franklin Gothic Book"/>
              </a:rPr>
              <a:t>Сумма 50 и а-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Franklin Gothic Book"/>
              </a:rPr>
              <a:t>Разность х+14 и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Franklin Gothic Book"/>
              </a:rPr>
              <a:t>Сумма 81</a:t>
            </a:r>
            <a:r>
              <a:rPr b="1" lang="en-US" sz="40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Franklin Gothic Book"/>
              </a:rPr>
              <a:t>и х-14+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Franz_Liszt_-_02_-_Liebestraum_No.3[mp3lemon.net].mp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294157" fill="hold"/>
                                        <p:tgtEl>
                                          <p:spTgt spid="4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Содержимое 4" descr="человечки.jpg"/>
          <p:cNvPicPr/>
          <p:nvPr/>
        </p:nvPicPr>
        <p:blipFill>
          <a:blip r:embed="rId1"/>
          <a:stretch/>
        </p:blipFill>
        <p:spPr>
          <a:xfrm>
            <a:off x="2143080" y="1714680"/>
            <a:ext cx="4786200" cy="5143320"/>
          </a:xfrm>
          <a:prstGeom prst="rect">
            <a:avLst/>
          </a:prstGeom>
          <a:ln w="0">
            <a:noFill/>
          </a:ln>
        </p:spPr>
      </p:pic>
      <p:sp>
        <p:nvSpPr>
          <p:cNvPr id="430" name="TextBox 5"/>
          <p:cNvSpPr/>
          <p:nvPr/>
        </p:nvSpPr>
        <p:spPr>
          <a:xfrm>
            <a:off x="571680" y="500040"/>
            <a:ext cx="73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egoe Script"/>
              </a:rPr>
              <a:t>Вот мы и встретились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420840" y="706320"/>
            <a:ext cx="8474040" cy="21034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0" y="24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3b30"/>
                </a:solidFill>
                <a:latin typeface="Franklin Gothic Book"/>
              </a:rPr>
              <a:t>(128+х)-25, если х= 0; 15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3b30"/>
                </a:solidFill>
                <a:latin typeface="Franklin Gothic Book"/>
              </a:rPr>
              <a:t>у-(х+34), если у=120; х=26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3" name="Franz_Liszt_-_02_-_Liebestraum_No.3[mp3lemon.net].mp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294157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353880" y="396720"/>
            <a:ext cx="8466120" cy="9986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0" y="14997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3b30"/>
                </a:solidFill>
                <a:latin typeface="Franklin Gothic Book"/>
              </a:rPr>
              <a:t>Если х=0, то (128+0)-25=103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3b30"/>
                </a:solidFill>
                <a:latin typeface="Franklin Gothic Book"/>
              </a:rPr>
              <a:t>Если х=15, то  (128+15)-25=118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3b30"/>
                </a:solidFill>
                <a:latin typeface="Franklin Gothic Book"/>
              </a:rPr>
              <a:t>Если у=120, х=26, то  120-(26+34)=60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Содержимое 4" descr="полетели.jpg"/>
          <p:cNvPicPr/>
          <p:nvPr/>
        </p:nvPicPr>
        <p:blipFill>
          <a:blip r:embed="rId1"/>
          <a:stretch/>
        </p:blipFill>
        <p:spPr>
          <a:xfrm>
            <a:off x="1071720" y="428760"/>
            <a:ext cx="664344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1"/>
          <a:stretch/>
        </p:blipFill>
        <p:spPr>
          <a:xfrm>
            <a:off x="682560" y="500040"/>
            <a:ext cx="8742600" cy="44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575160" y="609120"/>
            <a:ext cx="5340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Рисунок 5" descr="шар1.jpg"/>
          <p:cNvPicPr/>
          <p:nvPr/>
        </p:nvPicPr>
        <p:blipFill>
          <a:blip r:embed="rId1"/>
          <a:stretch/>
        </p:blipFill>
        <p:spPr>
          <a:xfrm>
            <a:off x="0" y="0"/>
            <a:ext cx="535788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TextBox 6"/>
          <p:cNvSpPr/>
          <p:nvPr/>
        </p:nvSpPr>
        <p:spPr>
          <a:xfrm>
            <a:off x="5500800" y="1714680"/>
            <a:ext cx="3357360" cy="344556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Segoe Print"/>
              </a:rPr>
              <a:t>А полетиммы  на воздушном ша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517680" y="291960"/>
            <a:ext cx="8632800" cy="49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6"/>
          <p:cNvSpPr/>
          <p:nvPr/>
        </p:nvSpPr>
        <p:spPr>
          <a:xfrm>
            <a:off x="1187280" y="836640"/>
            <a:ext cx="7345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) 25+1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2) 1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: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4-6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3) а + (5 +8)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4) 47 -36 + х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5) у-45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-6480" y="407880"/>
            <a:ext cx="8229600" cy="14875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2680"/>
            <a:ext cx="72388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Числовое выражение состоит из….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Буквенное выражение состоит из…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Franz_Liszt_-_02_-_Liebestraum_No.3[mp3lemon.net].mp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294157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Содержимое 4" descr="полетели.jpg"/>
          <p:cNvPicPr/>
          <p:nvPr/>
        </p:nvPicPr>
        <p:blipFill>
          <a:blip r:embed="rId1"/>
          <a:stretch/>
        </p:blipFill>
        <p:spPr>
          <a:xfrm>
            <a:off x="1071720" y="428760"/>
            <a:ext cx="6643440" cy="5643360"/>
          </a:xfrm>
          <a:prstGeom prst="rect">
            <a:avLst/>
          </a:prstGeom>
          <a:ln w="0">
            <a:noFill/>
          </a:ln>
        </p:spPr>
      </p:pic>
      <p:sp>
        <p:nvSpPr>
          <p:cNvPr id="419" name="TextBox 5"/>
          <p:cNvSpPr/>
          <p:nvPr/>
        </p:nvSpPr>
        <p:spPr>
          <a:xfrm>
            <a:off x="1234440" y="5934240"/>
            <a:ext cx="619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Segoe Print"/>
              </a:rPr>
              <a:t>К полету готовы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706320" y="646200"/>
            <a:ext cx="8218440" cy="126828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214200" y="2071800"/>
            <a:ext cx="868680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              </a:t>
            </a: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х+19                                а-12   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                               </a:t>
            </a: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(х+98)-21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(15-9)+87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                         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                              </a:t>
            </a: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(х-у)+(а+4)    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(с+5)-(х-7)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Рисунок 4" descr="приземлились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3" name="Mozart_Wolfgang_Amadeus_-_10_-_Allegro_Moderato[mp3lemon.net].mp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508552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1213920" y="999720"/>
            <a:ext cx="5340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4e3b30"/>
                </a:solidFill>
                <a:latin typeface="Franklin Gothic Book"/>
              </a:rPr>
              <a:t>4·х+10</a:t>
            </a:r>
            <a:endParaRPr b="0" lang="en-US" sz="5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4e3b30"/>
                </a:solidFill>
                <a:latin typeface="Franklin Gothic Book"/>
              </a:rPr>
              <a:t>10·х+4 </a:t>
            </a:r>
            <a:endParaRPr b="0" lang="en-US" sz="5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4e3b30"/>
                </a:solidFill>
                <a:latin typeface="Franklin Gothic Book"/>
              </a:rPr>
              <a:t>4·10+х</a:t>
            </a:r>
            <a:endParaRPr b="0" lang="en-US" sz="5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1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6T14:36:02Z</dcterms:created>
  <dc:creator>Иван</dc:creator>
  <dc:description/>
  <dc:language>en-US</dc:language>
  <cp:lastModifiedBy>1</cp:lastModifiedBy>
  <dcterms:modified xsi:type="dcterms:W3CDTF">2022-10-27T02:26:38Z</dcterms:modified>
  <cp:revision>107</cp:revision>
  <dc:subject/>
  <dc:title>Слайд 1</dc:title>
</cp:coreProperties>
</file>