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C39-AE32-45DF-9158-B019AE26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D8D-A97E-48A7-8819-3B6863B1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D7C-44B8-4F4F-98B1-86FCB564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1B0-0CEB-4A5C-9E22-547407BF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0D1B-9AE9-40AF-BF8B-4351777C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29BA-78C1-4DA6-8A2C-F8EAEDFD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F688-8366-41A1-8661-1532A5C0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F957-FF1C-4CC0-AD8C-28F42DD7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85D9-40AD-4AA6-B07C-470B0D16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9A68-F925-4B80-93BA-D7A668C8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2F4F-E840-47A5-AAFD-631AFE3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38F-2753-4DFC-888E-9F6E2F3B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3040-8FD5-4BA5-9051-1A78CD35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EA55-F12C-4558-BD0E-F7E717A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BE2B-33D4-484A-9645-C556DC0B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245F-0F52-42FA-8250-6475C05D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6892-D4BB-4AF7-8F9D-FB823522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F758C-05C4-45AD-B58B-D1C41C6E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4BA96-B200-4436-8828-074888DE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89F2E-23F0-4DD6-BC5B-A9D9CE80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30029-261B-4028-8328-0ECEFF5A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804DB-79C2-4EA6-A634-F59FFCD2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87F-1B5E-4814-A354-E45B56D8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5F183-F403-452C-8BAC-F765B8F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2EB20-2222-41D7-AD91-0A88315D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D595F-8D40-4746-926D-C5B0B58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0030E-F811-4384-A2DD-D1DBF749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43113-4C34-4CC7-9A04-88F3EE5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32897-4A0A-4AE1-B466-2586DE56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A5394-4960-48D8-A15E-DD4B2025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CF9D-B2E9-4AA3-B30B-0A84874D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E4502-B2D1-41E2-939F-04876DA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4F250-BCDC-4202-9A78-B1B305F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571-860F-4940-8EA4-911F3864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EC33-E8C9-4CC8-A365-F886E098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7834-86CF-4F1E-9912-CE5DCAAD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99E48-5E15-4E98-8013-D3AE409E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B1D2-3D83-4D0C-9821-D94453AD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CBDF-FF55-4D70-8D3A-5794045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4F40-5F72-4661-ACEE-3DB0C88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DF75-5935-400D-95C1-977B47DA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B015-68B0-4BBF-B0E7-C387F5B6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122A-C2E1-4998-9D27-E9BA683F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5F3A9-7449-494D-821A-4260043B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144-C923-4FB3-AF16-F31DFEA7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7F3FE-BE92-4579-9F91-B2FD434F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1F8B0-BF87-4EB7-838E-6A052F8A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0CA7E-10F5-4902-9088-C3207F9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0E0CD-3297-48BD-9AB2-D988156C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FD8EF-C1DF-4EE1-902F-42AE5C31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6EF9E-8472-4C96-ACD7-71439580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D92EE-112E-470F-BC8C-FB341A0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35CD0-F901-429D-9B54-09716C56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E198A-4F08-4953-87DA-21CA9BD0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068B6-0F5F-44D5-919B-66D7CFCE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425-7AD8-47A6-A43E-367E1B55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5106A-8A37-4EB1-BA24-144FC5A5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8A154-A7DE-40BA-AB79-6838510E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B2B20-6A6B-4969-BC87-C2982E25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9B59D-CAE9-46EE-A1ED-86EE4E44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019B3-8A99-40DD-A239-65F324FB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652C7-E63B-4F8C-AD13-C5F1B57D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01FAA-ACBA-4C00-9617-4439626F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24DF5-4D13-4FBC-BE36-D58E98F7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2D68D-FBD8-4676-8C64-C330CD6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CAF1B-047C-4F71-9B0E-3D234DB8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F37-B929-4505-9DB7-0BB9777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28C5B-8A2E-40FC-88AF-D2017886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E669B-9F7B-4C63-A9ED-D47CF080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DCCB1-525D-4D1D-AEC2-3D6BCCB4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BE4A4-9940-4480-99B8-1FE57EF4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BC1C25-EA0F-4A4B-9743-89BFABB6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CF4E6-8742-4243-A639-FD0EE1E0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F9B36-8460-4CC3-BBEB-285CD4EA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18011-5A10-4762-83C7-D8EB2C75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B503A-B158-4C28-B480-1E5AF292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79072-2C2D-4454-A30E-33CC8BF4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01F-F265-4752-867B-1A243201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7FA22-3580-418A-A6CC-5556BF0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2341B-DEA1-4B7A-9551-3A9BD222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98FE7-2722-4110-9673-416BEC5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0D187-E35E-4A93-85C1-E46353C9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4D827-6C06-4066-917B-C08CDDDA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ECD-B353-432C-B4A3-C7580F2A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598F-D23A-43CF-98BB-1B0F36D079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7778-3207-4CCD-8AF1-06265DD138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0423-F973-44EB-ACB2-0F0B3E3F6C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2A5-A651-4EBF-B33E-89C0CEF99A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7630-E82B-4E32-8A31-BEBC634CE1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CCA1-4D24-485E-8925-DE3972EFCE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3B10-A94C-47E4-A7D3-8433DEFD5D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431720" y="2421000"/>
            <a:ext cx="740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родные игрушк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4382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3850920" y="1600200"/>
            <a:ext cx="4321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ей и дел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озяйству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женщины столько, что иногда кажется, что переделать всё необходимое просто невозможно. Тогда на помощь  придет эта кукла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Содержимое 6" descr="десятиручка1.jpg"/>
          <p:cNvPicPr/>
          <p:nvPr/>
        </p:nvPicPr>
        <p:blipFill>
          <a:blip r:embed="rId2"/>
          <a:stretch/>
        </p:blipFill>
        <p:spPr>
          <a:xfrm>
            <a:off x="324000" y="1700280"/>
            <a:ext cx="351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ЫЛИ ИСПОЛЬЗОВАНЫ МАТЕРИАЛЫ САЙТОВ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pelagea-kukla.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ukrkukla.at.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krupenichka.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rukukla.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5640" y="620640"/>
            <a:ext cx="6172200" cy="12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b32c1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Calibri"/>
                <a:ea typeface="바탕"/>
              </a:rPr>
              <a:t>ТРАДИЦИОННЫЕ НАРОДНЫЕ ИГРУШК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060720" y="198756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438200"/>
          </a:xfrm>
          <a:prstGeom prst="rect">
            <a:avLst/>
          </a:prstGeom>
          <a:ln w="0">
            <a:noFill/>
          </a:ln>
        </p:spPr>
      </p:pic>
      <p:pic>
        <p:nvPicPr>
          <p:cNvPr id="355" name="Содержимое 8" descr="пеленашки много.jpg"/>
          <p:cNvPicPr/>
          <p:nvPr/>
        </p:nvPicPr>
        <p:blipFill>
          <a:blip r:embed="rId2"/>
          <a:stretch/>
        </p:blipFill>
        <p:spPr>
          <a:xfrm>
            <a:off x="324000" y="1600200"/>
            <a:ext cx="3456000" cy="4572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924360" y="1599840"/>
            <a:ext cx="4248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долго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рождения ребенка будущая мать мастерила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енашк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мволическое изображение новорожденного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438200"/>
          </a:xfrm>
          <a:prstGeom prst="rect">
            <a:avLst/>
          </a:prstGeom>
          <a:ln w="0">
            <a:noFill/>
          </a:ln>
        </p:spPr>
      </p:pic>
      <p:pic>
        <p:nvPicPr>
          <p:cNvPr id="358" name="Содержимое 6" descr="столбушка.jpg"/>
          <p:cNvPicPr/>
          <p:nvPr/>
        </p:nvPicPr>
        <p:blipFill>
          <a:blip r:embed="rId2"/>
          <a:stretch/>
        </p:blipFill>
        <p:spPr>
          <a:xfrm>
            <a:off x="66600" y="1700280"/>
            <a:ext cx="3929040" cy="4243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995640" y="1600200"/>
            <a:ext cx="4105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дети рождались здоровыми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ильными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емье царил лад, дома нужно было держать куклу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бушк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438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3419280" y="1600200"/>
            <a:ext cx="4824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фигуре столбушки, которая должна была покровительствовать деторождению, приматывали несколько крошечных пеленашек. Получалось изображение многодетной женщины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Содержимое 8" descr="столбушка с детьми.jpg"/>
          <p:cNvPicPr/>
          <p:nvPr/>
        </p:nvPicPr>
        <p:blipFill>
          <a:blip r:embed="rId2"/>
          <a:stretch/>
        </p:blipFill>
        <p:spPr>
          <a:xfrm>
            <a:off x="136440" y="1557360"/>
            <a:ext cx="3380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7467840" cy="143352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4" descr="крупеничка 1.jpg"/>
          <p:cNvPicPr/>
          <p:nvPr/>
        </p:nvPicPr>
        <p:blipFill>
          <a:blip r:embed="rId2"/>
          <a:stretch/>
        </p:blipFill>
        <p:spPr>
          <a:xfrm>
            <a:off x="250920" y="1773360"/>
            <a:ext cx="3836880" cy="4103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066920" y="1628280"/>
            <a:ext cx="4105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пеничку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ыпали несколько горстей гречки или пшеницы из нового урожая, и весь год эта пышнотелая куколка охраняла достаток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лагополучие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е</a:t>
            </a:r>
            <a:r>
              <a:rPr b="0" lang="ru-RU" sz="33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4382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4" descr="лихоманки 1.jpg"/>
          <p:cNvPicPr/>
          <p:nvPr/>
        </p:nvPicPr>
        <p:blipFill>
          <a:blip r:embed="rId2"/>
          <a:stretch/>
        </p:blipFill>
        <p:spPr>
          <a:xfrm>
            <a:off x="250920" y="1557360"/>
            <a:ext cx="4105080" cy="43052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355640" y="1600200"/>
            <a:ext cx="3961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филактики болезней в семье дальновидные хозяйки мастерили ещ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целую связку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ясовиц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хомано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438200"/>
          </a:xfrm>
          <a:prstGeom prst="rect">
            <a:avLst/>
          </a:prstGeom>
          <a:ln w="0">
            <a:noFill/>
          </a:ln>
        </p:spPr>
      </p:pic>
      <p:pic>
        <p:nvPicPr>
          <p:cNvPr id="370" name="Содержимое 4" descr="день-ночь.jpg"/>
          <p:cNvPicPr/>
          <p:nvPr/>
        </p:nvPicPr>
        <p:blipFill>
          <a:blip r:embed="rId2"/>
          <a:stretch/>
        </p:blipFill>
        <p:spPr>
          <a:xfrm>
            <a:off x="324000" y="1916280"/>
            <a:ext cx="3095640" cy="4128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3492360" y="1600200"/>
            <a:ext cx="4680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сё в жизни шло своим чередом и ничто не нарушало заведенный порядок,  держали в избе неразлучную пару кукол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-ноч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а – светлая, другая – темная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438200"/>
          </a:xfrm>
          <a:prstGeom prst="rect">
            <a:avLst/>
          </a:prstGeom>
          <a:ln w="0">
            <a:noFill/>
          </a:ln>
        </p:spPr>
      </p:pic>
      <p:pic>
        <p:nvPicPr>
          <p:cNvPr id="373" name="Содержимое 4" descr="неразлучники.jpg"/>
          <p:cNvPicPr/>
          <p:nvPr/>
        </p:nvPicPr>
        <p:blipFill>
          <a:blip r:embed="rId2"/>
          <a:stretch/>
        </p:blipFill>
        <p:spPr>
          <a:xfrm>
            <a:off x="250920" y="1628640"/>
            <a:ext cx="4041720" cy="4321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355640" y="1600200"/>
            <a:ext cx="3961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женам принято было дарить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злучников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ика этой парной куклы очевидна: ее дарят, чтобы молодая семья шла всю жизнь рука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руку.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3:43:14Z</dcterms:created>
  <dc:creator>Марина</dc:creator>
  <dc:description/>
  <dc:language>en-US</dc:language>
  <cp:lastModifiedBy>Miroshnikova</cp:lastModifiedBy>
  <dcterms:modified xsi:type="dcterms:W3CDTF">2022-11-06T19:26:01Z</dcterms:modified>
  <cp:revision>7</cp:revision>
  <dc:subject/>
  <dc:title>Слайд 1</dc:title>
</cp:coreProperties>
</file>