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0C780-F7F5-4E72-ADE2-EC8A8E72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FADFD-4750-4CBB-A832-D78100334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650A-CB0D-4B7F-9414-041F83FEF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A454-948E-423A-AFAA-C454575B1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85F84-0009-4C1D-B74C-CC65FBDC5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72A33-A18B-4AEF-8618-086D37AAA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50920" y="1628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 формирования читательской грамот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Лови ошиб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algn="just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мение анализировать информ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менять знания в нестандарт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; умение критически оцени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Логическая цепоч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628640"/>
            <a:ext cx="835344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А. С. Пушкина: Москва — Царскосельский лицей — "Старик Державин нас заметил…" — Петербург — Село Михайловское — Ссылка на юг…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Класт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мастер-класс\8\img0.jpg"/>
          <p:cNvPicPr/>
          <p:nvPr/>
        </p:nvPicPr>
        <p:blipFill>
          <a:blip r:embed="rId1"/>
          <a:srcRect l="0" t="0" r="0" b="11953"/>
          <a:stretch/>
        </p:blipFill>
        <p:spPr>
          <a:xfrm>
            <a:off x="179280" y="1197000"/>
            <a:ext cx="8713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«Тонкий» и «Толстый» в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1410840"/>
            <a:ext cx="40370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нкие вопро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 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ва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 ли вы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520" y="1411200"/>
            <a:ext cx="40384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стые вопро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бъясн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 думает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 считает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разниц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, ес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есл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Словар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604880"/>
            <a:ext cx="8137440" cy="29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ём помогает рационально и эффективно провести словарную работу, которая должна быть организована при первичном знакомстве с любым тек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640" y="62064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, слышать, чувствовать тек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ять речевую память учащего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словарный зап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усваивать учеб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эстетический вк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собственное мнение, высказывать и аргументиров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ить систему работы по формированию читательской грамотности на уроках русского языка и литературы посредством определенных методических приёмов.</a:t>
            </a:r>
            <a:br>
              <a:rPr sz="2600"/>
            </a:b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тие умений ориентироваться в источниках информации, находить, перерабатывать, передавать и принимать требуемую информацию, пользоваться разными стратегиями при её переработке, отвергая ненужную и неверную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4643280" y="189000"/>
            <a:ext cx="3961080" cy="97164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3960440" h="97155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25280" y="333360"/>
            <a:ext cx="889344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Читательская грамотность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первая ступень в функциональной грамотност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Читательская грамотност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человека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нимать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пользовать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енны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кс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ышлять о них и заниматься чтением для того, чтоб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стигать своих цел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ять свои знания и возможности, участвовать в социальной жизн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95280" y="260280"/>
            <a:ext cx="8497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тельские ум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ть главную мысль всего текста или его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информацию, содержащуюся в тек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ывать текстовую информацию с учетом цели дальнейшего исполь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информацию из текста в изменённой ситу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и оценивать степень достоверности, содержащейся в текст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квейн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20908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Autofit/>
          </a:bodyPr>
          <a:p>
            <a:pPr marL="457200" indent="-457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Васил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, красив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, восхищается, мечт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после бала пораж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ча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Опорный конспект» или «Конкурс шпарг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395000"/>
            <a:ext cx="86421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участников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 поступок главного геро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жизненные ценност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( способность, умение…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 примеры предложений , подтверждающие твою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вывод: главная мысль заключается в том, чт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875640" y="1395360"/>
            <a:ext cx="201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«Письмо с дырками (пробелами)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й взгляд, жизненные ценности - это (способность, умение человека)…. Что же в жизни по-настоящему важно?……..Только ……………..люди смогут…………………………….. Докажу своё суждение прим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ся к тексту Г.Скребицкого, в котором говорится (рассказывается) о….. ……, которые………… Доказательством этому служат предложения …………………………. Главный герой (подведи итог их поступкам)…………… Это и есть 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суждение я могу подтвердить примером из жизненного опыта. ………….………….. Такой поступок свидетельствует о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 к сказанному, можно отметить, что по-настоящему важн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«Верите ли вы, что…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79280" y="1268280"/>
            <a:ext cx="8785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Учитель</cp:lastModifiedBy>
  <dcterms:modified xsi:type="dcterms:W3CDTF">2022-02-04T12:15:07Z</dcterms:modified>
  <cp:revision>139</cp:revision>
  <dc:subject/>
  <dc:title>Слайд 1</dc:title>
</cp:coreProperties>
</file>