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42C-F59B-431F-8A58-C4575ECA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22F-4D33-4A2F-8AEF-AD32AD46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668-1958-44D5-9882-0C858748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3F0-D6EC-4480-A7AC-DA8D47CC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52C-2921-4914-9507-9621ABA4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490-8C6D-478B-8149-61751C77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223-F5B9-484A-8BB3-9545D744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3B3-6B2B-4231-BAD8-4DA9F6B5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6F2-2102-4CAE-AB8A-9C7741C0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082-84DA-4E82-A7EB-CAD89EC9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203-3B7D-4251-88C2-FB6CF32D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F78-E626-4C3D-8CA0-D76ACAAE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F274-617E-4AE4-ABFD-321709365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24000" y="6165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: Рахманова С.В.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560" y="345960"/>
            <a:ext cx="807912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 do we know about Hallow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612440"/>
            <a:ext cx="800244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American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British celebrate Halloween on October 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Halloween mean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ly  → hallow-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en  →  evening-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ч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low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 rot="928800">
            <a:off x="2339640" y="5444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 rot="20468400">
            <a:off x="4471920" y="536364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H="1" flipV="1">
            <a:off x="4356000" y="5157720"/>
            <a:ext cx="503280" cy="43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 rot="1491000">
            <a:off x="2339640" y="558972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2916360" y="5157720"/>
            <a:ext cx="576000" cy="43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0" descr="happy-halloween-clip-art-happy-halloween.png"/>
          <p:cNvPicPr/>
          <p:nvPr/>
        </p:nvPicPr>
        <p:blipFill>
          <a:blip r:embed="rId1"/>
          <a:stretch/>
        </p:blipFill>
        <p:spPr>
          <a:xfrm>
            <a:off x="4859280" y="4703760"/>
            <a:ext cx="4595760" cy="21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26560" y="404280"/>
            <a:ext cx="6945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ople want to look lik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d22e55"/>
                </a:solidFill>
                <a:uFillTx/>
                <a:latin typeface="Arial"/>
              </a:rPr>
              <a:t>skel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d22e55"/>
                </a:solidFill>
                <a:uFillTx/>
                <a:latin typeface="Arial"/>
              </a:rPr>
              <a:t>ghosts</a:t>
            </a:r>
            <a:r>
              <a:rPr b="0" lang="en-US" sz="3200" spc="-1" strike="noStrike" u="sng">
                <a:solidFill>
                  <a:srgbClr val="d22e55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Cj03982010000[1]"/>
          <p:cNvPicPr/>
          <p:nvPr/>
        </p:nvPicPr>
        <p:blipFill>
          <a:blip r:embed="rId2"/>
          <a:stretch/>
        </p:blipFill>
        <p:spPr>
          <a:xfrm>
            <a:off x="7524720" y="260280"/>
            <a:ext cx="144468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Cj02988430000[1]"/>
          <p:cNvPicPr/>
          <p:nvPr/>
        </p:nvPicPr>
        <p:blipFill>
          <a:blip r:embed="rId3"/>
          <a:stretch/>
        </p:blipFill>
        <p:spPr>
          <a:xfrm>
            <a:off x="2843280" y="836640"/>
            <a:ext cx="1817640" cy="1644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00000" y="2781360"/>
            <a:ext cx="705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ople go from house to house and say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”Trick or trea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ople give other people c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 play tri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Cj04061800000[1]"/>
          <p:cNvPicPr/>
          <p:nvPr/>
        </p:nvPicPr>
        <p:blipFill>
          <a:blip r:embed="rId4"/>
          <a:stretch/>
        </p:blipFill>
        <p:spPr>
          <a:xfrm>
            <a:off x="6084720" y="3429000"/>
            <a:ext cx="746280" cy="76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Cj03965340000[1]"/>
          <p:cNvPicPr/>
          <p:nvPr/>
        </p:nvPicPr>
        <p:blipFill>
          <a:blip r:embed="rId5"/>
          <a:stretch/>
        </p:blipFill>
        <p:spPr>
          <a:xfrm>
            <a:off x="6804000" y="4076640"/>
            <a:ext cx="615960" cy="69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Cj04108190000[1]"/>
          <p:cNvPicPr/>
          <p:nvPr/>
        </p:nvPicPr>
        <p:blipFill>
          <a:blip r:embed="rId6"/>
          <a:stretch/>
        </p:blipFill>
        <p:spPr>
          <a:xfrm>
            <a:off x="5651640" y="4581360"/>
            <a:ext cx="912600" cy="78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709308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187280" y="5516640"/>
            <a:ext cx="70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ом Хэллоуина является пустая тыква с вырезанными глазами, носом и ртом, внутрь которой ставится зажженная свеча. Это традиционный атрибут Хэллоуина носит название Jack–o –Lan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sun9-88.userapi.com/impg/dtpWyGM2JRH3iX6470XPLAAIG3-4Zp1S15cnMA/xegCURTyg1s.jpg?size=800x800&amp;quality=95&amp;sign=733e0259634f30a37719a92d4f199156&amp;type=album"/>
          <p:cNvPicPr/>
          <p:nvPr/>
        </p:nvPicPr>
        <p:blipFill>
          <a:blip r:embed="rId1"/>
          <a:stretch/>
        </p:blipFill>
        <p:spPr>
          <a:xfrm>
            <a:off x="900000" y="222120"/>
            <a:ext cx="741708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35:51Z</dcterms:created>
  <dc:creator>princess</dc:creator>
  <dc:description/>
  <dc:language>en-US</dc:language>
  <cp:lastModifiedBy>User</cp:lastModifiedBy>
  <dcterms:modified xsi:type="dcterms:W3CDTF">2022-11-08T11:32:06Z</dcterms:modified>
  <cp:revision>15</cp:revision>
  <dc:subject/>
  <dc:title>Слайд 1</dc:title>
</cp:coreProperties>
</file>