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7D58-7597-4F25-B252-808EE545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74BB-65AD-4FA4-B7E8-A2398822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D5F35-12DC-4254-ACB6-3EAD99EE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88AD8-DD7B-4277-B2C7-02FEA907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31628-B1DC-4671-8062-BD9A8C82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A7F32-4175-4B72-9177-0BC9B6A6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F5DC0-DACE-4D56-9E5D-3992F1C1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96BEB-BD37-4363-8728-4E537AD1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51D9B-FF0B-403D-944F-2EB2962E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6F62E-5FDF-4986-925E-6E763920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9AE8A-9EFA-4FF6-9840-3223B4EA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6EBCE-FD3D-4D88-BFA6-D0FF51D0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238C-E9AD-4E4C-ACE3-7A4410D6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82216-5E58-4A38-8E57-0095C2F0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F21A2-9675-4D38-983B-D0C59231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FDA09-A109-431E-BC3B-C6E0A523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47F7A-8AEB-4EC9-9763-C7C0A4B1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7B4A2-EEB3-46C1-B3A7-C794BD4E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778D8-6D1C-4E21-A8E4-9D5AB636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BB964-5BE3-4A0B-B38B-9DE89F6B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E03BA-7B2E-41DC-8D11-1541028A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441E1-96CD-4B44-9E88-C9675F4C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DDD81-79E0-40C8-950A-8DF70DCE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D1B7-A094-4CC5-BC37-413061A1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C0D52-F5E5-4F71-935A-E0279CBB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BF64F-A8CE-4C16-BAA5-45482C6D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C6086-B97C-4A24-9EEA-4C76116F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FA98D-35D9-4C99-BC49-2F95CFC4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C9B79-5DB5-467A-BAEA-95D2618E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29004-DA9A-456D-B666-E1E3A557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33380-1313-4CAC-8CC5-D057BAA9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C1FE9-0FC8-4FAC-88A4-6CE88A8E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96C15-9171-43EB-BD3F-DCC79364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CB12D-DFD8-4FC9-A2E3-E92BDDEA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2DDB-B3CC-4B50-A625-73B35A0B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22D66-2596-4100-80B3-7475A302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18C3C-8823-4247-9FD9-59F460D7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06EC1-7469-4B6E-AE73-9098E796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952F5-5795-4476-99CA-01EEA55A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4E965-E5EE-4C5B-91E5-1C2C9412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EF427-B911-46A5-A362-6BC72B42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B3EE6-7EBB-40C3-AF00-77EFCE9D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EA282-01A3-44B7-ACCE-EF081D1C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8F27A-562D-4FE2-9A0A-8456623D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F9C85-1C64-4426-8356-F1D858AE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617C-8905-44C4-9127-BBED0022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07F0F-1E1C-4E35-B52E-D7CCB368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CB48C-7DF7-4554-9BA2-A3C6C0C1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221C9-9FED-481C-AA78-4A7D4B17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8C7CF-9BD5-4325-9D92-FBB3928D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0A60C-27D2-49FD-9313-7AFB4128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D2EF5-D39B-4733-8AFC-E102B33B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84F580-FFC6-4D93-B800-6909E56E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55136-8401-40A9-954B-A9F4044F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92C08-AEB7-4C0A-BC38-BDC600FE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CA0DAD-3FF3-42A6-9F1A-61DBF4E6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CBFD-2B90-4206-A4D9-2ABDC022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8C0CF-2430-446E-9ED9-ED04CBA4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B7C2D-7308-4751-969D-59B71524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4DA25-A08F-4CCD-A073-BD045808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7FF6A-DDF8-4CFD-9B69-5CDA37FD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8BE46-D082-457B-8CE3-53330C7A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57CF8B-6417-4FD0-A3DD-171A3DD2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2B04B-E068-4857-B737-96993551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E88E08-C71B-4C8E-B054-75DA073B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D07C08-1FB4-4CD1-BB97-76144C29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09F2EF-0164-4B6C-AF17-301E687E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DC54-4D90-40B9-B097-D8792A4B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9FCDA2-F00C-499E-B328-6AE1BA75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FDCD84-880F-46B8-8AEC-A0418CC6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3241D2-EC32-4933-8E65-9FE8397F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0ABA40-C89C-4041-99B9-1CA344C6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8E14D-2260-4FBC-B59C-397ACCB6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CA9E13-F303-4DDC-A02C-9F71FCF4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BE0AEF-6347-4904-9008-46D7286E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D0B96D-DE16-42CF-8270-AE158AB9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81B76-AAEA-4422-9C58-453592BC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48010D-CD01-4215-8143-537B7C92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021C-CECA-455E-A35B-4E97A8FF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286706-FD24-4C99-BBA1-D35F0A05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B6963E-1646-4D36-ABB8-FF9E612A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82DD7-D5D4-4C32-963D-F0F965EB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92EC66-0B8E-4DAA-A96E-ABCB4BBB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994005-21DE-4546-8ACC-E15FABC2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CD6B96-CF3A-475C-BF32-9BB9DFA4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17A8E6-1A01-4C25-A62F-5852A6B4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4F01BD-7217-4F43-B779-45490F02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C14F7B-56DE-41BB-8055-CAADAA51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65DCA4-8F03-40D3-81FC-7141E14E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8F27-ABBD-47A6-B9AA-15233468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2260EB-E1D5-4EBD-AEC2-230B318F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624BD3-FD6F-4DFC-AD6F-92EF9798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C761E8-D2C8-496A-9837-BD5F7849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812910-A091-4943-A081-1D00FA25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EC1075-EEAC-431A-92C2-B54F87EA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EE8655-3028-4795-969F-71F4C4EF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2CA70C-C454-404F-AECD-DADD9858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D1B768-731E-4FA0-BDC1-A9D885E8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CB2E8B-C91F-414D-8F04-98BE14B1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687E79-C63C-4A7F-B559-1FDA3897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4F74-3CF8-440B-888E-51A38BC9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59B935-1849-4DB4-A38E-FE4E0630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FBFE0D-5589-44A8-BD95-1C0B4E17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432FB0-A74E-4CA9-A88E-E1732722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4D1C77-6607-48A3-929F-D2D7EB4B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374DE4-6F90-4B01-A290-71992096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CE56A3-45E3-43B8-A578-41935E83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2BC937-16C4-491B-B9EE-566EF24B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57E28D-05AC-49FC-9DD1-B60D953A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3EC553-348C-49D5-A696-4ECBB46F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44F6E1-1DFC-40BE-B5B8-37826318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FB73-EE84-41D4-9FCE-424F6AAE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46D4-85BC-42AD-AC5D-6EA2266D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5F649C-627B-4F10-AF7A-C44747E0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A117BD-1405-4358-A33A-BE90E81E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387690-9925-4606-B714-49C9FC52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B968B9-ED95-42FE-A8A9-1808494E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C7BBC5-6328-4575-9862-8D09D84E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E07CC0-4875-4BAD-A7AF-037B1A10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2A79F5-A830-448D-8EAA-3CEDA1A1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1DF8CE-2619-4BA5-91B3-98BDB7F6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68785B-3BAF-4BD8-8D1A-CC85DA2D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FF965A-A365-432D-A0C9-F67554DD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7013-401D-4A76-BAA9-671FB97A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0D6817-5B25-4948-9825-3DBC0D4C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8DC725-ABE2-49C3-8309-E6C60EFC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6D3B09-AA7F-4F81-B7AC-C6268739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3E3DBF-523F-4979-AF44-176437A1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F4F1FB-3A6B-477B-9E34-645E4798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AB7BD3-B27C-46F5-8848-029422BF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3174A6-8679-47E2-9524-DE9C5E4A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3D8B-9768-4120-8C40-E874C551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6833-042B-49C5-A6AD-2C689FB2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C8EC-9C84-4BE1-89A6-571B2E4A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A06FF-8C75-4C8D-B6DE-8ECE0DBC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65524-DAF1-45EC-823F-BDEE997B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E4B2F-E6CC-4721-B5D8-3A27BACC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504EA-3C0D-46F5-89EE-44694299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196AA-E369-45E0-A0EF-2A059D87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D15-1091-41A1-A53F-0F9EE717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DC37B-C92B-4C0B-BAA5-1B144C42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1A32C-FC89-4D4C-AE3D-A60F76F0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24AD7-76F7-4CFD-B5EE-FA990EAA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D2766-247D-4AC7-997A-21284C1F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8D4B9-DC2B-40CC-A483-577C08B6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33749-AB56-4FB9-9CEA-2BAFEF37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C6823-F06E-4962-9C3C-EFFAC41B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DC7D5-A1C0-4629-A136-7C014FC5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3756B-6D9F-47ED-BF5D-51EC789E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24261-96EA-47F1-B115-5F7C176E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6B50-C4EE-4CA2-8D2F-9005BE22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D2B7D-3965-4445-96BE-5B3EBF91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81F85-EB72-4747-A1B3-A7E12947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7DD87-DB31-499E-81BF-5B32640B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02704-4BE5-42A2-B7BD-49C5C646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58C48-A850-4819-8753-6345366E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6B6FE-876F-40B9-BFFC-985B12C2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8C39A-413A-4289-9992-C1A97DB2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7DD58-3C3C-4DD6-B9F5-19779B74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9DCBA-D721-484F-B6BD-0DC7B2C2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AE4F9-A01C-4EB4-AC59-CA776AA3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EC1C-91D8-4611-8977-7B51E09F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8D7DE-4CAB-4667-AE4F-28643FA6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0D964-E27B-4644-9044-3E96F4FA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A0FA8-64CD-4F86-86E2-9AADEBD3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99EFA-D65B-4D1B-8C51-433F4A12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46875-1C90-4B41-B190-55C5FA21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113B6-C632-4620-B673-C6F743DB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8360E-9B63-4D54-912A-83A7B253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2B8A1-0D18-4E75-BCC1-FA0CBFCB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3E367-0599-4FBF-830D-62805919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122A1-9006-424A-B882-CFFC4C27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320-7D50-4329-B06B-3ED3FB91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44163-6EE3-4DCA-B5AF-3BA79020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1DDCB-9B02-44FB-9ECC-1B72ED72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C8706-ED29-4140-BC08-3DA0702C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45DE2-B5BD-4DCB-8FAD-C3722D90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87C91-D3F6-4BA2-A802-FA14CA5D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88CBF-592D-4C53-B321-D3A202A2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B40D7-82B5-4830-B010-96683A6C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8959D-1C54-4134-9889-1EFCC756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D0A66-EDA2-40C4-B765-6EBB0D1B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B4E06-45E7-414A-8D3A-9AF68D4A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749-C530-4A59-BEC7-A8B48F33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7D19B-25CF-414F-9F4C-93767F8E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AC955-BED2-4097-878C-D66B2492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68882-B48A-4903-8A9D-168AB434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64AC3-742C-4AD8-9127-DEAC36E6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64C7B-49C9-4537-9A41-DAC96BB6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F18E3-6624-4722-948D-4C13EB9B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A709F-26ED-4528-B7AB-6ED37234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C7F9C-A8F4-4CE4-97E9-9B244905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9EF42-0A33-4D45-9BF0-D2D37813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D2140-AFE6-45D6-A7A0-A8DD1A2B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0503-C157-434F-AB24-AC9CF024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93999-A962-4B9F-B7FC-795E7556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1D175-6F5F-458F-BCDF-E526A6E1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883F7-DED2-4C5D-9E38-3B6DCA0D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A1777-239C-4002-A055-B5687F28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50544-DD5F-4F03-B66E-2A7E1656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0B465-5E30-4DCE-95DB-20A0FCED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13F2B-E084-4332-B4AD-26CEA3FE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23FE3-5941-410E-9AD6-FA8F4AB6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A89F6-DBB9-4B34-A2DF-4348C954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52F00-2845-4E71-815C-896E7FF0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2E5-C73F-473A-AD06-DFB0D9E0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DB976-673F-402C-9E5D-33C85E61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832BF-ABB5-41BF-8A73-9D6BF905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F8B36-ADAF-4CD6-A297-4BA5D1E7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46AD2-8962-4214-ABF8-22309916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90061-6251-4279-BBE5-3108A5AB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81C71-E7AE-4D5A-9CF0-2E65E025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7D9C9-A7EB-4BC0-8EC4-F76958D5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A3D4E-E232-4360-A48E-264DD43A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E1D25-7532-4587-8138-5E4D2ADE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E2D62-E864-4FAC-817E-12E38DEF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01F9-34AA-48DF-BE63-40AADEF8F18A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B573-35D4-4112-B168-4FD7ED7289F0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19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25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26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8258-0DE5-4236-9BF5-4A4221AE956B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20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21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22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23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Rectangle 24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BAF5-2DF6-44AA-818E-D5259D9B9771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28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29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30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31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Rectangle 32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1" name="TextBox 12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9C15-9B81-4E4C-BC8F-BC4E5B6213BE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21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22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23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24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Rectangle 25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5EAE-3217-4ED0-B804-17B1F252A89C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22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25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8E80-35B3-4210-BBAF-7B5F55EF2D1C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33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34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35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36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Rectangle 37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F1CA-F3CC-42AA-BBB5-B9E66B461387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15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16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17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8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Rectangle 19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57E6-EEC6-4C0F-90DA-05C1EF85C560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13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11"/>
            <p:cNvSpPr/>
            <p:nvPr/>
          </p:nvSpPr>
          <p:spPr>
            <a:xfrm rot="5400000">
              <a:off x="5362920" y="1959480"/>
              <a:ext cx="528624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Rectangle 12"/>
            <p:cNvSpPr/>
            <p:nvPr/>
          </p:nvSpPr>
          <p:spPr>
            <a:xfrm rot="5400000">
              <a:off x="7289280" y="5462280"/>
              <a:ext cx="143352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F8E0-914B-42F5-89ED-1C19F77EA769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6BF9-27AF-49E4-8C8F-F32C5DADE15A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2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2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2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3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0831-8153-4B32-B861-8F640EC5C167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1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20"/>
            <p:cNvSpPr/>
            <p:nvPr/>
          </p:nvSpPr>
          <p:spPr>
            <a:xfrm>
              <a:off x="0" y="27288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21"/>
            <p:cNvSpPr/>
            <p:nvPr/>
          </p:nvSpPr>
          <p:spPr>
            <a:xfrm>
              <a:off x="7710840" y="27288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5BA8-CE96-42CE-8FD5-155B19368BEE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EF89-3621-462E-BEE0-AA8DA4976481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2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2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2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3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F441-67B5-418F-A0DE-08EB3DDC6A41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4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15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16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7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BB91-428C-4487-8F3D-0FC95A06C8CF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3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483A-973E-4E1C-AC44-8EACE36E6784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83FF-E8B9-4932-82B5-D643D767C46B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9760" y="2565360"/>
            <a:ext cx="6222960" cy="15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imes New Roman"/>
                <a:ea typeface="Calibri"/>
              </a:rPr>
              <a:t>Коммуникативная компетентность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imes New Roman"/>
                <a:ea typeface="Calibri"/>
              </a:rPr>
              <a:t>педагога</a:t>
            </a:r>
            <a:endParaRPr b="0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140000" y="4868640"/>
            <a:ext cx="4422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дготовил мастер производственного обучения 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ФКП ОУ №79 Филиал №5 Кузнецов В.Г.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476360" y="2565000"/>
            <a:ext cx="6696000" cy="27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«Научить человека быть счастливым – нельзя, но воспитать его так, чтобы он был счастливым – можно»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858920" y="5300640"/>
            <a:ext cx="360036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А.С. Макаренко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1" name="Picture 4" descr="C:\Users\Инспектор ОКБиХО\Desktop\Макаренко.jpeg"/>
          <p:cNvPicPr/>
          <p:nvPr/>
        </p:nvPicPr>
        <p:blipFill>
          <a:blip r:embed="rId1"/>
          <a:stretch/>
        </p:blipFill>
        <p:spPr>
          <a:xfrm>
            <a:off x="324000" y="260280"/>
            <a:ext cx="1912680" cy="25131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48640" cy="11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ФОРМЫ СОЦИАЛЬНО-КОММУНИКАТИВНОГО ВОСПИТАНИЯ В МЕСТАХ ЛИШЕНИЯ СВОБОДЫ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rebuchet MS"/>
              </a:rPr>
              <a:t>1) лекции и беседы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2</a:t>
            </a:r>
            <a:r>
              <a:rPr b="1" i="1" lang="ru-RU" sz="2400" spc="-1" strike="noStrike">
                <a:solidFill>
                  <a:srgbClr val="ffffff"/>
                </a:solidFill>
                <a:latin typeface="Trebuchet MS"/>
              </a:rPr>
              <a:t>) специальные занятия с обучающимися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rebuchet MS"/>
              </a:rPr>
              <a:t>3) чтение научной и художественной литературы</a:t>
            </a:r>
            <a:r>
              <a:rPr b="0" i="1" lang="ru-RU" sz="2400" spc="-1" strike="noStrike">
                <a:solidFill>
                  <a:srgbClr val="ffffff"/>
                </a:solidFill>
                <a:latin typeface="Trebuchet MS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rebuchet MS"/>
              </a:rPr>
              <a:t>4) тренинги по бесконфликтному общению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rebuchet MS"/>
              </a:rPr>
              <a:t>5) самовоспитание обучающихся.</a:t>
            </a:r>
            <a:r>
              <a:rPr b="0" i="1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rebuchet MS"/>
              </a:rPr>
              <a:t>ПОНЯТИЕ И СУЩНОСТЬ КОММУНИКАТИВНОЙ КОМПЕТЕНТНОСТИ ПЕДАГОГОВ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533520" y="2336400"/>
            <a:ext cx="82152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омпетентность» – это способ существования знаний, умений, образованности, способствующий личностной самореализации, нахождению обучающимся своего места в мире, вследствие чего образование предстает как высокомотивированное и в подлинном смысле личностно ориентированное, обеспечивающее востребованность личностного потенциала, признание личности окружающими и осознание ею самой собственной значимости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к мыслит и это означает, что он живет в режиме диалога, при этом человек обязан постоянно учитывать изменчивую ситуацию в соответствии со своими интуитивными ожиданиями, а также с ожиданиями своего партнера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того, чтобы совершать эти коммуникативные акты, необходимо обладать определенными навыками и умениями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ЕНИ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7" name="Прямоугольник 1"/>
          <p:cNvSpPr/>
          <p:nvPr/>
        </p:nvSpPr>
        <p:spPr>
          <a:xfrm>
            <a:off x="468360" y="221148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реалии образования увеличивают сложность профессионально-педагогическ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Прямоугольник 4"/>
          <p:cNvSpPr/>
          <p:nvPr/>
        </p:nvSpPr>
        <p:spPr>
          <a:xfrm>
            <a:off x="520560" y="3141720"/>
            <a:ext cx="847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любой компетентности, в том числе и коммуникативной, предполагает активное взаимодействие педагога с другими участниками образовательного проце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Прямоугольник 5"/>
          <p:cNvSpPr/>
          <p:nvPr/>
        </p:nvSpPr>
        <p:spPr>
          <a:xfrm>
            <a:off x="520560" y="428940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ен поиск форм повышения квалификации и их сочета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Прямоугольник 6"/>
          <p:cNvSpPr/>
          <p:nvPr/>
        </p:nvSpPr>
        <p:spPr>
          <a:xfrm>
            <a:off x="514440" y="4797360"/>
            <a:ext cx="842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оммуникативной компетентности педагога можно рассматривать и как совершенствование профессиональных компетентностей, и как один из факторов развития образовательной орган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468360" y="5084280"/>
            <a:ext cx="3749760" cy="15051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820728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Trebuchet MS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rebuchet MS"/>
              </a:rPr>
              <a:t>СПИСОК ИСПОЛЬЗОВАННЫХ ИСТОЧНИКОВ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250920" y="2060640"/>
            <a:ext cx="8642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Андреева, И. В. Этика деловых отношений / И. В. Андреева. – СПб.: 2005.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Введенский, В.Н. Профессиональная компетентность педагога / В.Н.Введенский. – СПб.: Просвещение, 2004. – 24-26, С. 168 – 170.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Ильина, Н. Ф. Профессиональное образование как условие профессионального развития педагога // Теория и практика профессионализации: опыт и перспективы: сборник статей / Под общ. ред. Г.А. Гуртовенко. – Красноярск, 2005. С. 16–27.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рограмма "Развитие коммуникативной компетентности персонала как фактор формирования благоприятного психологического климата в образовательном учреждении" [Электронный ресурс] URL: https://kopilkaurokov.ru/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Ротова Н.А. Коммуникативная компетенция педагогов [Электронный ресурс]. – URL: http://pedagogika.snauka.ru/ 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Стиль общения. Коммуникативная компетентность педагога. [Электронный ресурс] - URL: http://lib2.podelise.ru/docs/13682/index-29742.html 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Трофимова Г.С. Педагогическая коммуникативная компетентность: теоретический и прикладные аспекты: монография. Ижевск: УдГУ, 116 с.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Юдина Е.В. Коммуникативная компетенция педагога как условие формирования психологически комфортной и безопасной среды [Электронный ресурс]. – URL: http://sociosphera.com/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3160" y="752040"/>
            <a:ext cx="688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ДЕНИ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250920" y="2491920"/>
            <a:ext cx="590544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овременных условиях, основным принципом построения образовательного процесса является ориентация на развитие личности обучающегося вооружение его способами действий, позволяющих продуктивно учиться, реализовывать свои образовательные потребности, познавательные интересы и будущие профессиональные запросы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6443640" y="2852280"/>
            <a:ext cx="24955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6516720" y="2997360"/>
            <a:ext cx="239220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3160" y="752040"/>
            <a:ext cx="688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ИОНАЛЬНЫЙ СТАНДАРТ ПЕДАГОГ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533160" y="2336760"/>
            <a:ext cx="792612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едагог – ключевая фигура реформирования образования. В стремительно меняющемся открытом мире главным профессиональным качеством, которое педагог должен постоянно демонстрировать обучающимся»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33160" y="752040"/>
            <a:ext cx="68878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533160" y="2336400"/>
            <a:ext cx="78548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педагог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знания, умения, опыт, способность мобилизовать их, т.е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личности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33160" y="752040"/>
            <a:ext cx="68878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533160" y="2336760"/>
            <a:ext cx="792612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СОСТАВЛЯЮЩИЕ КОМПЕТЕНТНОСТИ ПЕДАГОГИЧЕСКИХ РАБОТНИКОВ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684000" y="3573360"/>
            <a:ext cx="7535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онная компетентность;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ая;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иональная и коммуникативная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Trebuchet MS"/>
                <a:ea typeface="SimSun"/>
              </a:rPr>
              <a:t>МОДЕЛЬ РАЗВИТИЯ КОММУНИКАТИВНОЙ КОМПЕТЕНТНОСТИ ПЕДАГОГА</a:t>
            </a:r>
            <a:r>
              <a:rPr b="0" lang="ru-RU" sz="3200" spc="-1" strike="noStrike">
                <a:solidFill>
                  <a:srgbClr val="ffffff"/>
                </a:solidFill>
                <a:latin typeface="Trebuchet MS"/>
                <a:ea typeface="SimSu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rebuchet MS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Основные функции коммуникации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коммуникативная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, включающую обмен информацией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интерактивная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, предусматривающую организацию взаимодействия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перцептивная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, отражающую процесс восприятия и формирования образа другого человека и установления взаимодействия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33160" y="752040"/>
            <a:ext cx="688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rebuchet MS"/>
              </a:rPr>
              <a:t>КОММУНИКАТИВНЫЕ УМЕНИЯ ПЕДАГОГОВ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24000" y="2060640"/>
            <a:ext cx="8496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4 этапа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rebuchet MS"/>
              </a:rPr>
              <a:t>- социально–психологический (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мение располагать обучаемых к общению, производить благоприятное впечатление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rebuchet MS"/>
              </a:rPr>
              <a:t>- нравственно–этический (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мения строить общение на гуманной, демократической основе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rebuchet MS"/>
              </a:rPr>
              <a:t>- эстетический (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мение гармонизировать внутренние и внешние личностные проявления, быть артистичным)</a:t>
            </a:r>
            <a:r>
              <a:rPr b="1" i="1" lang="ru-RU" sz="2400" spc="-1" strike="noStrike">
                <a:solidFill>
                  <a:srgbClr val="ffffff"/>
                </a:solidFill>
                <a:latin typeface="Trebuchet MS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rebuchet MS"/>
              </a:rPr>
              <a:t>- технологический (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мения: использовать учебно - воспитательные средства, методы, приемы, стиль руководства общением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О-ПАТРИОТИЧЕСКОЕ ВОСПИТАНИ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55" name="Picture 3" descr="D:\Флешка (октябрь 2021)\РАЗНОЕ\Педэфективность (апрель)\Кузнецов\SAM_0003.JPG"/>
          <p:cNvPicPr/>
          <p:nvPr/>
        </p:nvPicPr>
        <p:blipFill>
          <a:blip r:embed="rId1"/>
          <a:stretch/>
        </p:blipFill>
        <p:spPr>
          <a:xfrm>
            <a:off x="324000" y="239400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4" descr="D:\АРХИВ\Портфолио\Кузнецов\SAM_0044.JPG"/>
          <p:cNvPicPr/>
          <p:nvPr/>
        </p:nvPicPr>
        <p:blipFill>
          <a:blip r:embed="rId2"/>
          <a:stretch/>
        </p:blipFill>
        <p:spPr>
          <a:xfrm>
            <a:off x="4643280" y="242100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6696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rebuchet MS"/>
              </a:rPr>
              <a:t>КРИТЕРИИ РАЗВИТИЯ КОММУНИКАТИВНОЙ КОМПЕТЕНТНОСТ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rebuchet MS"/>
              </a:rPr>
              <a:t>- умение вести вербальный и невербальный обмен информацией, а также проводить диагностирование личных свойств и качеств собеседника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rebuchet MS"/>
              </a:rPr>
              <a:t>- умение вырабатывать стратегию, тактику и технику, взаимодействие с людьми, организовывать их совместную деятельность для достижения определенных социально значимых целей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rebuchet MS"/>
              </a:rPr>
              <a:t>- умение идентифицировать себя с собеседником, понимать, как он сам воспринимается партнером по общению и эмпатийно относится к нему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4T14:53:20Z</dcterms:created>
  <dc:creator>Ольга Бурбенцова</dc:creator>
  <dc:description/>
  <dc:language>en-US</dc:language>
  <cp:lastModifiedBy>Сварщики</cp:lastModifiedBy>
  <cp:lastPrinted>2015-11-08T18:21:44Z</cp:lastPrinted>
  <dcterms:modified xsi:type="dcterms:W3CDTF">2021-10-18T06:05:22Z</dcterms:modified>
  <cp:revision>35</cp:revision>
  <dc:subject/>
  <dc:title>Основы коммуникативной компетентности педагогов</dc:title>
</cp:coreProperties>
</file>