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798-448B-4FED-99FA-0D2707211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666A-83E6-43D3-BC82-19B67FC4C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9BE-1811-4F7A-8020-3867E516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18A-2588-456F-BE02-9223BEBA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465-8AA9-44F6-9A10-100E0D35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C8F-86F5-42E2-8EB2-898C5169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A19-5297-4C31-9041-03128A12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D4B-D1AD-4DE9-BB2D-C63344C9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F05-8B78-4696-8339-F8D1E669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6E1-9F52-4AE1-857A-A4C516C1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27B-0E8A-473A-8D6E-F4A6504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CA5-8707-4CA3-A4BD-E2E79F0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5A5-AE22-4E5B-B02C-33E3CCE2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B0B-644B-48A6-8A5C-F95DE503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BD5-A26A-450C-91A6-C23946C80A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000a"/>
                </a:solidFill>
                <a:latin typeface="Arial"/>
              </a:rPr>
              <a:t>Проект по внедрению бережливых технологий в ДОУ</a:t>
            </a:r>
            <a:br>
              <a:rPr sz="2400"/>
            </a:br>
            <a:r>
              <a:rPr b="1" lang="ru-RU" sz="4800" spc="-1" strike="noStrike">
                <a:solidFill>
                  <a:srgbClr val="36000a"/>
                </a:solidFill>
                <a:latin typeface="Arial"/>
              </a:rPr>
              <a:t>«Организация рабочего места воспитателя по системе « 5 </a:t>
            </a:r>
            <a:r>
              <a:rPr b="1" lang="en-US" sz="4800" spc="-1" strike="noStrike">
                <a:solidFill>
                  <a:srgbClr val="36000a"/>
                </a:solidFill>
                <a:latin typeface="Arial"/>
              </a:rPr>
              <a:t>S</a:t>
            </a:r>
            <a:r>
              <a:rPr b="1" lang="ru-RU" sz="4800" spc="-1" strike="noStrike">
                <a:solidFill>
                  <a:srgbClr val="36000a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3716280"/>
            <a:ext cx="86421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000a"/>
                </a:solidFill>
                <a:latin typeface="Arial"/>
              </a:rPr>
              <a:t>МБДОУ «Детский сад №1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000a"/>
                </a:solidFill>
                <a:latin typeface="Arial"/>
              </a:rPr>
              <a:t>г. Горо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000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6000a"/>
                </a:solidFill>
                <a:latin typeface="Arial"/>
              </a:rPr>
              <a:t>воспитатель: Татаринцева А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000a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5940360" y="274680"/>
            <a:ext cx="202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246240" y="1700280"/>
            <a:ext cx="3965400" cy="34081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4464000" y="17064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ы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ы временные потери за счет сокращения времени на поиск необходимых учебно-методических материалов и документации, на подготовку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 процесс хранения учебно-методических материалов и 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о время на оформление документации и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а трудоемкость выполнения обязанностей воспитателя за отсутствующего рабо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, возникшие при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916280"/>
          <a:ext cx="8229600" cy="101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шая пробл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нный способ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необходимых папок, контейнеров для хранения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папок, контейне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Заголовок 1"/>
          <p:cNvSpPr/>
          <p:nvPr/>
        </p:nvSpPr>
        <p:spPr>
          <a:xfrm>
            <a:off x="539640" y="4149720"/>
            <a:ext cx="82915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ые затрат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968640" y="50706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нструменты бережливых технологи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рование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з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ометр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5 почему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6532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очк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екст 2"/>
          <p:cNvSpPr/>
          <p:nvPr/>
        </p:nvSpPr>
        <p:spPr>
          <a:xfrm>
            <a:off x="179280" y="765000"/>
            <a:ext cx="88758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НЫЕ ЛИЦА И РАМК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чики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и ДОО  Татаринцева А. П., Шарапова Н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помещение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проце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ведующий ДОО- Е.Л.Добронрав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П. Смирнова- старший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Татаринцева А. П., Шарапова Н.К., старший воспитатель Смирнова М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ой риск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времени на поиск нужных учебно-методических материалов и документации, задержка образовательных мероприятий, нарушение сроков при сдаче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ьное распределение времени при подготовке к образователь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ние передвижения при подготовке к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шние запасы. Перепроизводство ненайден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системы хранения файлов на рабочем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емкость выполнения обязанностей воспитателя за отсутствующего раб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852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Цели и план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907920"/>
          <a:ext cx="7767720" cy="5818320"/>
        </p:xfrm>
        <a:graphic>
          <a:graphicData uri="http://schemas.openxmlformats.org/drawingml/2006/table">
            <a:tbl>
              <a:tblPr/>
              <a:tblGrid>
                <a:gridCol w="3816360"/>
                <a:gridCol w="2016360"/>
                <a:gridCol w="1935000"/>
              </a:tblGrid>
              <a:tr h="635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ий 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евой 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кращение времен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поиск необходимых учебно-методических материалов и документ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тизация  хранения документов и дидактических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систематизиров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тизирова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ьшение временных затрат на подготовку к занят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ндартизация процесса –возврата документов и  дидактических материалов  на свои ме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станда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с стандартизиров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кращение времени на оформление документации и отч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кращение трудоемкости выполнения обязанностей воспитателя за отсутствующего рабо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Ключевые событ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 проекта- 20.09.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иагностика и определение целевого состояния- 20.09.22-30.09.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работка карты текущего состояния – 30.09.22-18.10.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ка карты целевого состояния -30.09.22-18.10.2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недрение улучшений-16.11.22-30.11.22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щание по защите подходов внедрения – 01.10.2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репление результатов и закрытие проекта- 01.12.22-30.12.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вершающее совещание- 29.12.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3120"/>
            <a:ext cx="78598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й по достижению целевых показателей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752400"/>
          <a:ext cx="8856720" cy="6005520"/>
        </p:xfrm>
        <a:graphic>
          <a:graphicData uri="http://schemas.openxmlformats.org/drawingml/2006/table">
            <a:tbl>
              <a:tblPr/>
              <a:tblGrid>
                <a:gridCol w="392400"/>
                <a:gridCol w="3186000"/>
                <a:gridCol w="1041480"/>
                <a:gridCol w="2601720"/>
                <a:gridCol w="1635120"/>
              </a:tblGrid>
              <a:tr h="109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ртировки бумаж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методических материал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х фай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из рабочей зоны ненужных о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инцева А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пова Н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уализация зон хранения  материалов на полках шкафов (указатели, цветовое кодирован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зоны для каждого объ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средств визуального 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инцева А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пова Н.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папок для хран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ов и дидактических материалов, индивидуальных контейнеров для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0.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инцева А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пова Н.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уализация  зон хран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и средств обучения 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ках и контейне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инцева А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пова Н.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электронных документов и файлов на «рабочем столе» компью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инцева А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пова Н.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и инструктирование замещающих  воспитате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ающие воспитатели ознакомлены с системой хранения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инцева А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пова Н.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6400" y="284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 текущего состояния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38040" y="1436760"/>
            <a:ext cx="1576440" cy="48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3"/>
          <p:cNvSpPr/>
          <p:nvPr/>
        </p:nvSpPr>
        <p:spPr>
          <a:xfrm>
            <a:off x="298440" y="2043000"/>
            <a:ext cx="1616040" cy="115416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список необходимых матери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5"/>
          <p:cNvCxnSpPr/>
          <p:nvPr/>
        </p:nvCxnSpPr>
        <p:spPr>
          <a:xfrm flipV="1">
            <a:off x="2119320" y="2106000"/>
            <a:ext cx="442080" cy="54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Прямоугольник 6"/>
          <p:cNvSpPr/>
          <p:nvPr/>
        </p:nvSpPr>
        <p:spPr>
          <a:xfrm>
            <a:off x="2617920" y="1542960"/>
            <a:ext cx="1657080" cy="37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3"/>
          <p:cNvSpPr/>
          <p:nvPr/>
        </p:nvSpPr>
        <p:spPr>
          <a:xfrm>
            <a:off x="2654280" y="2035080"/>
            <a:ext cx="1606680" cy="116208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639720" y="3328920"/>
            <a:ext cx="971640" cy="2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2932200" y="3357720"/>
            <a:ext cx="1071360" cy="30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10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ятно 1 11"/>
          <p:cNvSpPr/>
          <p:nvPr/>
        </p:nvSpPr>
        <p:spPr>
          <a:xfrm>
            <a:off x="2554200" y="861840"/>
            <a:ext cx="684360" cy="51444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142920" y="6234120"/>
            <a:ext cx="22352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П :    58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4" descr="Безымянный.png"/>
          <p:cNvPicPr/>
          <p:nvPr/>
        </p:nvPicPr>
        <p:blipFill>
          <a:blip r:embed="rId1"/>
          <a:srcRect l="4604" t="14840" r="75232" b="54407"/>
          <a:stretch/>
        </p:blipFill>
        <p:spPr>
          <a:xfrm>
            <a:off x="3251160" y="477720"/>
            <a:ext cx="533520" cy="655920"/>
          </a:xfrm>
          <a:prstGeom prst="rect">
            <a:avLst/>
          </a:prstGeom>
          <a:ln w="0">
            <a:noFill/>
          </a:ln>
        </p:spPr>
      </p:pic>
      <p:sp>
        <p:nvSpPr>
          <p:cNvPr id="69" name="Содержимое 3"/>
          <p:cNvSpPr/>
          <p:nvPr/>
        </p:nvSpPr>
        <p:spPr>
          <a:xfrm>
            <a:off x="571680" y="4152960"/>
            <a:ext cx="1439640" cy="1816200"/>
          </a:xfrm>
          <a:prstGeom prst="rect">
            <a:avLst/>
          </a:prstGeom>
          <a:solidFill>
            <a:srgbClr val="00b05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бразовательного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674800" y="2116080"/>
            <a:ext cx="153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ет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афу, на компьют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4992840" y="1514520"/>
            <a:ext cx="165564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держимое 3"/>
          <p:cNvSpPr/>
          <p:nvPr/>
        </p:nvSpPr>
        <p:spPr>
          <a:xfrm>
            <a:off x="7170840" y="2079720"/>
            <a:ext cx="1679400" cy="115092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ет ненайденны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3"/>
          <p:cNvSpPr/>
          <p:nvPr/>
        </p:nvSpPr>
        <p:spPr>
          <a:xfrm>
            <a:off x="4911840" y="2021040"/>
            <a:ext cx="1782720" cy="120960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ет недостающие материалы в методическом кабин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0"/>
          <p:cNvSpPr/>
          <p:nvPr/>
        </p:nvSpPr>
        <p:spPr>
          <a:xfrm>
            <a:off x="7142040" y="1481040"/>
            <a:ext cx="160020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5"/>
          <p:cNvCxnSpPr/>
          <p:nvPr/>
        </p:nvCxnSpPr>
        <p:spPr>
          <a:xfrm>
            <a:off x="2101320" y="4752720"/>
            <a:ext cx="453240" cy="10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5"/>
          <p:cNvCxnSpPr/>
          <p:nvPr/>
        </p:nvCxnSpPr>
        <p:spPr>
          <a:xfrm flipV="1">
            <a:off x="4409640" y="2115360"/>
            <a:ext cx="430920" cy="39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5"/>
          <p:cNvCxnSpPr/>
          <p:nvPr/>
        </p:nvCxnSpPr>
        <p:spPr>
          <a:xfrm flipV="1">
            <a:off x="6729120" y="2103120"/>
            <a:ext cx="399240" cy="165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5"/>
          <p:cNvCxnSpPr/>
          <p:nvPr/>
        </p:nvCxnSpPr>
        <p:spPr>
          <a:xfrm>
            <a:off x="280800" y="4738680"/>
            <a:ext cx="255960" cy="151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Содержимое 3"/>
          <p:cNvSpPr/>
          <p:nvPr/>
        </p:nvSpPr>
        <p:spPr>
          <a:xfrm>
            <a:off x="2568600" y="4791240"/>
            <a:ext cx="1622520" cy="117792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рает материалы на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1"/>
          <p:cNvSpPr/>
          <p:nvPr/>
        </p:nvSpPr>
        <p:spPr>
          <a:xfrm>
            <a:off x="2611440" y="4255920"/>
            <a:ext cx="160020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но 1 32"/>
          <p:cNvSpPr/>
          <p:nvPr/>
        </p:nvSpPr>
        <p:spPr>
          <a:xfrm>
            <a:off x="3654360" y="861840"/>
            <a:ext cx="582840" cy="50184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ятно 1 33"/>
          <p:cNvSpPr/>
          <p:nvPr/>
        </p:nvSpPr>
        <p:spPr>
          <a:xfrm>
            <a:off x="4840200" y="923760"/>
            <a:ext cx="844560" cy="51624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ятно 1 34"/>
          <p:cNvSpPr/>
          <p:nvPr/>
        </p:nvSpPr>
        <p:spPr>
          <a:xfrm>
            <a:off x="5805360" y="946080"/>
            <a:ext cx="655920" cy="50652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ятно 1 35"/>
          <p:cNvSpPr/>
          <p:nvPr/>
        </p:nvSpPr>
        <p:spPr>
          <a:xfrm>
            <a:off x="7319880" y="873000"/>
            <a:ext cx="590760" cy="47952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ятно 1 36"/>
          <p:cNvSpPr/>
          <p:nvPr/>
        </p:nvSpPr>
        <p:spPr>
          <a:xfrm>
            <a:off x="5497560" y="474840"/>
            <a:ext cx="611280" cy="49356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но 1 42"/>
          <p:cNvSpPr/>
          <p:nvPr/>
        </p:nvSpPr>
        <p:spPr>
          <a:xfrm>
            <a:off x="7977240" y="874800"/>
            <a:ext cx="590400" cy="47916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ятно 1 43"/>
          <p:cNvSpPr/>
          <p:nvPr/>
        </p:nvSpPr>
        <p:spPr>
          <a:xfrm>
            <a:off x="4410000" y="1538280"/>
            <a:ext cx="582840" cy="50148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639720" y="3328920"/>
            <a:ext cx="971640" cy="31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3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5262480" y="3313080"/>
            <a:ext cx="971640" cy="31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10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7493040" y="3370320"/>
            <a:ext cx="971640" cy="31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20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2943360" y="6078600"/>
            <a:ext cx="971280" cy="309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15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ятно 1 49"/>
          <p:cNvSpPr/>
          <p:nvPr/>
        </p:nvSpPr>
        <p:spPr>
          <a:xfrm>
            <a:off x="7978680" y="884160"/>
            <a:ext cx="590760" cy="48096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но 1 50"/>
          <p:cNvSpPr/>
          <p:nvPr/>
        </p:nvSpPr>
        <p:spPr>
          <a:xfrm>
            <a:off x="3063960" y="3816360"/>
            <a:ext cx="590400" cy="480960"/>
          </a:xfrm>
          <a:prstGeom prst="irregularSeal1">
            <a:avLst/>
          </a:prstGeom>
          <a:solidFill>
            <a:srgbClr val="ff9966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173"/>
          <p:cNvSpPr/>
          <p:nvPr/>
        </p:nvSpPr>
        <p:spPr>
          <a:xfrm>
            <a:off x="4410000" y="3807000"/>
            <a:ext cx="335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ря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идание помощи метод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чение третьих лиц ( методис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порядочное хранение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ний расход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ние пере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6400" y="284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 целевого состояния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652320" y="1557360"/>
            <a:ext cx="1576440" cy="48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3"/>
          <p:cNvSpPr/>
          <p:nvPr/>
        </p:nvSpPr>
        <p:spPr>
          <a:xfrm>
            <a:off x="641520" y="2039760"/>
            <a:ext cx="1581120" cy="102888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список необходимых матери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5"/>
          <p:cNvCxnSpPr/>
          <p:nvPr/>
        </p:nvCxnSpPr>
        <p:spPr>
          <a:xfrm>
            <a:off x="2340000" y="2039400"/>
            <a:ext cx="504000" cy="10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Прямоугольник 6"/>
          <p:cNvSpPr/>
          <p:nvPr/>
        </p:nvSpPr>
        <p:spPr>
          <a:xfrm>
            <a:off x="2963880" y="1573200"/>
            <a:ext cx="1536840" cy="46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3"/>
          <p:cNvSpPr/>
          <p:nvPr/>
        </p:nvSpPr>
        <p:spPr>
          <a:xfrm>
            <a:off x="2952720" y="2055960"/>
            <a:ext cx="1562040" cy="101268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ет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афу, на компьют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826920" y="3370320"/>
            <a:ext cx="971640" cy="28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 3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3246480" y="3360600"/>
            <a:ext cx="971640" cy="2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5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5361120" y="6165720"/>
            <a:ext cx="22352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П :    18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s://yt3.ggpht.com/a/AGF-l7_02ETOh3QQBEljqcLs2MJPOsJAc_8Z4tpD0A=s900-c-k-c0xffffffff-no-rj-mo"/>
          <p:cNvPicPr/>
          <p:nvPr/>
        </p:nvPicPr>
        <p:blipFill>
          <a:blip r:embed="rId1"/>
          <a:stretch/>
        </p:blipFill>
        <p:spPr>
          <a:xfrm>
            <a:off x="2367000" y="1357200"/>
            <a:ext cx="401760" cy="432000"/>
          </a:xfrm>
          <a:prstGeom prst="rect">
            <a:avLst/>
          </a:prstGeom>
          <a:ln w="0">
            <a:noFill/>
          </a:ln>
        </p:spPr>
      </p:pic>
      <p:sp>
        <p:nvSpPr>
          <p:cNvPr id="105" name="Выноска-облако 15"/>
          <p:cNvSpPr/>
          <p:nvPr/>
        </p:nvSpPr>
        <p:spPr>
          <a:xfrm>
            <a:off x="2906640" y="896760"/>
            <a:ext cx="938160" cy="484200"/>
          </a:xfrm>
          <a:prstGeom prst="cloudCallout">
            <a:avLst>
              <a:gd name="adj1" fmla="val -30245"/>
              <a:gd name="adj2" fmla="val 51944"/>
            </a:avLst>
          </a:prstGeom>
          <a:solidFill>
            <a:srgbClr val="c6d9f1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157720" y="1547640"/>
            <a:ext cx="157644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534960" y="4075200"/>
            <a:ext cx="1576440" cy="48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3"/>
          <p:cNvSpPr/>
          <p:nvPr/>
        </p:nvSpPr>
        <p:spPr>
          <a:xfrm>
            <a:off x="5164200" y="2165400"/>
            <a:ext cx="1576440" cy="100332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ет недостающие материалы в методическом кабин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3"/>
          <p:cNvSpPr/>
          <p:nvPr/>
        </p:nvSpPr>
        <p:spPr>
          <a:xfrm>
            <a:off x="536400" y="4557600"/>
            <a:ext cx="1575000" cy="1111320"/>
          </a:xfrm>
          <a:prstGeom prst="rect">
            <a:avLst/>
          </a:prstGeom>
          <a:solidFill>
            <a:srgbClr val="b9cde5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рает материалы на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5"/>
          <p:cNvCxnSpPr/>
          <p:nvPr/>
        </p:nvCxnSpPr>
        <p:spPr>
          <a:xfrm>
            <a:off x="2343240" y="2039400"/>
            <a:ext cx="504000" cy="10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Прямая со стрелкой 5"/>
          <p:cNvCxnSpPr/>
          <p:nvPr/>
        </p:nvCxnSpPr>
        <p:spPr>
          <a:xfrm>
            <a:off x="4635360" y="2030040"/>
            <a:ext cx="434160" cy="10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5"/>
          <p:cNvCxnSpPr/>
          <p:nvPr/>
        </p:nvCxnSpPr>
        <p:spPr>
          <a:xfrm flipV="1">
            <a:off x="6740280" y="2064600"/>
            <a:ext cx="471960" cy="39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Содержимое 3"/>
          <p:cNvSpPr/>
          <p:nvPr/>
        </p:nvSpPr>
        <p:spPr>
          <a:xfrm>
            <a:off x="7218360" y="1573200"/>
            <a:ext cx="1546200" cy="1711440"/>
          </a:xfrm>
          <a:prstGeom prst="rect">
            <a:avLst/>
          </a:prstGeom>
          <a:solidFill>
            <a:srgbClr val="00b05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бразовательного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5"/>
          <p:cNvCxnSpPr/>
          <p:nvPr/>
        </p:nvCxnSpPr>
        <p:spPr>
          <a:xfrm>
            <a:off x="178920" y="4557240"/>
            <a:ext cx="327960" cy="39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AutoShape 2"/>
          <p:cNvSpPr/>
          <p:nvPr/>
        </p:nvSpPr>
        <p:spPr>
          <a:xfrm>
            <a:off x="5433840" y="3363840"/>
            <a:ext cx="971640" cy="2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5 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826920" y="5877000"/>
            <a:ext cx="971640" cy="28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  5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8"/>
          <p:cNvSpPr/>
          <p:nvPr/>
        </p:nvSpPr>
        <p:spPr>
          <a:xfrm>
            <a:off x="3419640" y="4103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ортировка и систематизация материалов. Визуализация зон хранения. Внедрение системы «5 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окращение времени на поиск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сключение перепроизводства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39"/>
          <p:cNvSpPr/>
          <p:nvPr/>
        </p:nvSpPr>
        <p:spPr>
          <a:xfrm>
            <a:off x="3957480" y="925560"/>
            <a:ext cx="800280" cy="492120"/>
          </a:xfrm>
          <a:prstGeom prst="cloudCallout">
            <a:avLst>
              <a:gd name="adj1" fmla="val -30245"/>
              <a:gd name="adj2" fmla="val 51944"/>
            </a:avLst>
          </a:prstGeom>
          <a:solidFill>
            <a:srgbClr val="c6d9f1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носка-облако 40"/>
          <p:cNvSpPr/>
          <p:nvPr/>
        </p:nvSpPr>
        <p:spPr>
          <a:xfrm>
            <a:off x="5433840" y="896760"/>
            <a:ext cx="971640" cy="525600"/>
          </a:xfrm>
          <a:prstGeom prst="cloudCallout">
            <a:avLst>
              <a:gd name="adj1" fmla="val -30245"/>
              <a:gd name="adj2" fmla="val 51944"/>
            </a:avLst>
          </a:prstGeom>
          <a:solidFill>
            <a:srgbClr val="c6d9f1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41"/>
          <p:cNvSpPr/>
          <p:nvPr/>
        </p:nvSpPr>
        <p:spPr>
          <a:xfrm>
            <a:off x="1968480" y="3591000"/>
            <a:ext cx="938160" cy="484200"/>
          </a:xfrm>
          <a:prstGeom prst="cloudCallout">
            <a:avLst>
              <a:gd name="adj1" fmla="val -30245"/>
              <a:gd name="adj2" fmla="val 51944"/>
            </a:avLst>
          </a:prstGeom>
          <a:solidFill>
            <a:srgbClr val="c6d9f1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5940360" y="274680"/>
            <a:ext cx="202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3467160" cy="4621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"/>
          <p:cNvPicPr/>
          <p:nvPr/>
        </p:nvPicPr>
        <p:blipFill>
          <a:blip r:embed="rId2"/>
          <a:stretch/>
        </p:blipFill>
        <p:spPr>
          <a:xfrm>
            <a:off x="4156200" y="1450800"/>
            <a:ext cx="48132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5940360" y="274680"/>
            <a:ext cx="202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490680" y="1916280"/>
            <a:ext cx="3936960" cy="316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0528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lik19741704@outlook.com</cp:lastModifiedBy>
  <dcterms:modified xsi:type="dcterms:W3CDTF">2022-11-09T12:00:55Z</dcterms:modified>
  <cp:revision>599</cp:revision>
  <dc:subject/>
  <dc:title>Diapositiva 1</dc:title>
</cp:coreProperties>
</file>