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4AA-D06F-4869-B62F-544F4486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B5E-98E6-4410-BCDA-422C908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D4D44-5655-4C70-B7B9-74E0A113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BAD1B5-E546-43C8-AF31-8052B2C7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9768B-300A-474A-9590-E6B35D2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CB74F8-086F-442A-B2CE-64AE16D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AF2C07-96A6-44EE-B7DA-31A4620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FCD25-1723-4215-AAEF-D212999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51C60-3F4A-4409-A706-3DB49394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A14DE-BA6E-4A4D-837D-989446A8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2F25D-B9BA-43E0-90FD-EA0EFAA4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C5B-05A2-4023-B04A-36AD8EA2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ADF-D0B3-4566-A95F-FFBECEFF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A21D8-43F7-4AE7-8517-98595A4F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139C-D939-40DF-9E24-E80C664E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DB48A-7C70-47F3-8B04-61FCCC47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E3FAB-FE03-49BB-AB40-3143C286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184DF-6E58-4671-ACE2-3318D79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21F9-F798-4116-AFF0-B1A7DC89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FB15A-74C8-434F-9750-9573DF0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02E-C9DE-408B-9B9E-EFFF50A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D67B2-D05F-4408-AFF6-AE03F17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9EF5E-B074-4794-91FE-8B3DD20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36C4-59E0-47E5-938A-B3AA9D56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D86BE-BCDF-4506-ACB7-C32067D9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6DD0E-DA85-457D-AC78-484C4105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E262-D433-454C-A523-8334C9D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BA5C-B919-42DC-B03C-EC2B77CD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E142-B28F-4A33-B651-765CFE2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4E98-70F0-4126-941A-84F5BCCA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5F9D-A4F2-4EA6-B077-77486684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01A-4A7C-4E0E-B602-D85FA87C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EEFF-1613-4B8D-A498-7970099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2C39-1422-4C73-8FE4-FF272E3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C7A8-0D21-422C-9EA7-394F5F5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3204-56BB-47CB-963B-BC0EEEE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FD22-FCD5-4E9E-A60E-2C5C5EC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921C-AF0E-45AB-96E3-F166D62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5933-DC19-4E52-ACAC-DB20D13A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8B0A3-63FB-4588-8219-268B1EC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04FD3-9823-4EEE-A034-BA8C4D22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26824-1DC1-44F4-91AF-478DE703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CB6-CBB0-4986-9E7A-BB086FD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89BEE-7BF1-4D62-916A-9904A873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94D59-5C32-4144-AC94-1F273D9D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02AA8-933D-4768-8812-36F20FA5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BBA7A-B03C-456F-B0CA-9A41A7D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76E2D-4775-4F00-8116-FE3E6DB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975C6-8FD2-4465-8ECC-5314366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5C713-5B6D-4A00-9E21-95512070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23DD0-151A-4379-BAF2-83B6083D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F8662-E221-4911-ACA2-2F49AA52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03DB-F1E4-4F2E-B966-18C48E28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A75-5A4C-4610-9A66-DA3766E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CD83-4499-490C-A36D-782C9EF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776E-1220-43D5-BB7A-7EA9ABFE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3C83-65F6-40E5-B2A1-2C871AF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7DE18-1909-4475-9471-7596383F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E4B2-3FD7-4493-B1D2-6E4CA02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470F-2875-4815-8DED-BF0F3AC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634B-3C82-40EA-B197-C3D5FF0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7F34-C575-419D-8ABF-1DE459E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9253-9778-4DEB-894A-7D686C1B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EAAA-B36C-4E54-9074-897377A1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9DF-6E00-4C6F-AD92-A3153F5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25AE9-63AB-46C8-9261-336E9339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0969-9F30-45CF-ABB0-DC33D112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2B62-5DF9-4011-9CC6-6FCCE40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BBC1-424D-4511-B9C2-BF1C961B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EC2A-B7FE-4B56-835F-8209FAB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5FDA-F8E1-4D0F-BEB1-C58D2B7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CD91-0611-4089-852F-D3CDF8C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674D-C315-4AAC-8C78-3FE820D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E9C5-0C6B-43B1-B9F2-62067F3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F387-160E-4A74-AC7D-DCEA764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252-C8A5-4263-A806-6B51DFE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F0DC-B34C-4CBC-88D7-BF4AF42F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5AA0-2B05-45A4-9B64-94EE66F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187E-294B-46E6-8828-6BF1637A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2A3DE-211A-42FE-BF8A-3E062F91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8146-15E6-4383-8C0A-8E85C823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36B38-BE6C-4B0F-9180-19E13150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8CB8-8F90-475C-9F30-9F1DD10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48A5-293C-405A-9E14-75BF963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3C1D-E1DD-4F32-8F35-0FC24B8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C924D-9CD1-47AB-92D3-D5EB2FC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7BD-95FD-4F74-807A-15E035D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D8D7-866A-47F4-8C2E-7596A64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8688-71CA-4F13-B32E-DFA52BA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CBA1-6CCB-48FA-83D5-48693E87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A077-A7DC-470B-A9AA-5CDBC4F2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DAAA-3F33-4DEC-842E-5BB9D87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DB9AD-AA45-42D9-A265-BD02DC0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9D24D-5320-4F18-83AB-78FFD917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DD580-6C17-4068-9858-FC48152B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3BA8D-E4D7-454A-97EC-CD4EE7A0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07E0E-0C9E-480E-BF43-4D38D9C8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92-8007-4B30-867B-8616538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2194C-95B6-4A58-B30A-DD6B07B6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F458A-211F-42F4-9D14-FE20FE7A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ABCFE-3A5E-41B5-81DC-73BEC11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BA1BF6-3E09-4255-9B80-A46F89D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36997-C404-4BDE-BF73-BAAF9ED0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6C71A-38DF-4DCF-83F4-489149F5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DC95B-FB87-441E-8108-DADB9492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81ED9A-4AA9-4AF0-B5DE-0BE7D423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520EF-6DF6-46A9-A452-43BF88B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965CE-6D13-4FF8-8A33-95CE9B9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A865-881A-4014-86FF-639214E5210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F1E-F2D0-4BFC-94A8-81AF7B7ADF7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408E-4FD5-4703-B120-17B9F95F85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D877-60F1-426F-8590-D0B1159317B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C71-B73C-4AA4-9B42-08FC1C3806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644-7931-4AE4-97C3-AF00E4BBD60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676-FC24-45BF-8306-B9BB888777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7F3-4534-4F8F-81F7-6F168EC900E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906-F835-482C-9D02-B90DB067D1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682560" y="755640"/>
            <a:ext cx="7828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3330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Высадка на постоянное место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mbria"/>
              </a:rPr>
              <a:t>Пасынкование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mbria"/>
              </a:rPr>
              <a:t>Пасынкование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 – это удаление пазушных побегов у томата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7576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5920"/>
            <a:ext cx="4619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теплице чаще всего томаты требуют подвязки, так как большинство сортов и гибридов для закрытого грунта интерминантны, то есть неограниченного рост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195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592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 мере созревания плодов начинается сбор  урожа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сле сбора урожая убирают после урожайные остатки и обрабатывают почву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627280" y="2421000"/>
            <a:ext cx="37670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НА НЕОБРАБОТАННОЙ ЗЕМЛЕ ЛИШЬ БУРЬЯН РАСТЕТ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ЧИЛ ДЕЛО — ГУЛЯЙ СМЕЛО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ПАСИБО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ЗА ВНИМАНИЕ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8242200" cy="1176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чебники «Сельско – хозяйственный труд»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«Большая книга садовода и огородника»  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ambria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здательство Оникс 2007 г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«Сад и огород» энциклопедический словарь издательство Эксмо 2010 г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«Толковательный словарь садовода – любителя» издательство Астрель 2005 г.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https://vseoteplicah.ru/pomidory/tomatov-v-zakrytom-grunte.html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http://0sade.ru/tomaty/tomaty-v-zakrytom-grunte.htm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9547200" cy="2036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227628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mbria"/>
              </a:rPr>
              <a:t>Задачи проекта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знакомить с историей выращивания томатов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зучить разнообразие сортов и гибридов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владеть с технологией выращивания томатов в закрытом грунте ( так как в условиях крайнего севера выращивание томатов в открытом грунте малопродуктивно)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14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Обзор литературы по данной теме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риобретение семян, выбор семян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сев семян на рассаду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икировка сеянце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дкормка рассад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Закалка рассад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ход за рассадой ( полив, опрыскивание, при необходимости притенение и уничтожение вредителей)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ысадка на постоянное мест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асынкование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двязк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дкормк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ход за растениями (полив, удаление отмерших листьев, при необходимости уничтожение вредителей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бор урожая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борка после урожайных остатков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36400" y="96840"/>
            <a:ext cx="5924880" cy="1116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68360" y="14839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ольшое влияние на урожай имеет выбор сорт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закрытого грунта следует подбирать специальные сорта и гибриды ( растения, полученные от скрещивания разных сортов, характеризуются лучшей приспособляемостью, больше урожайностью; последующему поколению эти свойства не передаются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0289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817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68000" y="1483920"/>
            <a:ext cx="554364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Соблюдение  сроков посева (март – апрель)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Семена одного размера, без признаков повреждения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еред посевом для предупреждения заболеваний семена выдерживают в растворе марганцевокислого калия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Почва должна быть легкой и питательной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Соблюдение оптимальной температуры для всходов 20 – 22 градуса, влажности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687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787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8000" y="1483920"/>
            <a:ext cx="3887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mbria"/>
              </a:rPr>
              <a:t>Пикировка</a:t>
            </a:r>
            <a:r>
              <a:rPr b="0" lang="ru-RU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– это пересадка сеянцев в самом раннем периоде роста. При этом у сеянцев прищипывают часть корня, что способствует лучшему их разветвлению. 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3251160" cy="1830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25369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242560" cy="787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68360" y="155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кормка рассады – это внесение жидких органических удобрений или растворов минеральных удобрений под корень во время роста раст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2700360" y="3933720"/>
            <a:ext cx="3720960" cy="2051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8953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68360" y="206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65680" indent="-265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mbria"/>
              </a:rPr>
              <a:t>Закалка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– это постепенная подготовка выращиваемых в защищенном грунте растений к высадке в открытый грунт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620800" y="3713040"/>
            <a:ext cx="35420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68360" y="2060640"/>
            <a:ext cx="461808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ив, опрыскивание, при необходимости притенение и уничтожение вредителе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5864400" y="2273400"/>
            <a:ext cx="22795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4:28:28Z</dcterms:created>
  <dc:creator>Дом</dc:creator>
  <dc:description/>
  <dc:language>en-US</dc:language>
  <cp:lastModifiedBy>Дом</cp:lastModifiedBy>
  <dcterms:modified xsi:type="dcterms:W3CDTF">2022-11-09T10:46:57Z</dcterms:modified>
  <cp:revision>17</cp:revision>
  <dc:subject/>
  <dc:title>Участник: Ложкин Артём  Руководитель: Архипова Елена Витальевна Но</dc:title>
</cp:coreProperties>
</file>