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673-D234-4AFD-A582-8FC3C76C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139-1845-4E0F-933F-A3EDA811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7C7-E22F-4C56-A5CF-976ED2C8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A60-5D45-4CB3-AA4A-0576AFDA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4B46-B325-4000-B1B2-9D0E3914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88A9-7A53-4336-AA6D-69A7A6BC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838B-0298-48C7-A27E-DDE5676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01D0-AC4A-4F2A-B120-5FD68010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74D8-556C-4E39-A549-0D71AF32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66720" y="533520"/>
            <a:ext cx="5105160" cy="13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1164-C3AA-4238-9B14-28DC670F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2B5E-8213-4E5E-863B-43F2AF60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50C-8E55-4AD2-921A-D6EAA4BE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DBE1-62BF-405A-820C-15684B3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9BC5-9F93-4B39-B515-D86E6946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1882-CE0F-4382-8E98-05B58F15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FB9E-360D-44F1-8E60-7EDEA826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D662-B215-431D-BBFB-D17210D5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176C-A681-44AB-A36B-A9384E34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5A7A-C5D0-49DD-A2B8-0A21A8DA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0845-631A-4312-9D52-CA96CEB5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5E37-BC2C-4C4D-895A-5372475D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08E3-0E81-448F-B265-6C9A53D3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032-7E41-408F-A38A-D0FA21B7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366720" y="533520"/>
            <a:ext cx="5105160" cy="13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41BD-6D3C-47D6-9D5C-EB94A1CA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4AA4-7F08-479A-9F40-AD48A4F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0097-8BF3-46DE-AB99-2C539249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0388-1744-409D-BCED-535FFF55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8E20-CE86-417A-ADAD-3887FC6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A6E2-153F-4C71-81BB-E54BA698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AAC95-5E87-4281-9D8A-D08B4654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7AB-AE6D-4557-9347-008D5D8A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802-0E43-430B-A87F-8D0ED36C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66720" y="533520"/>
            <a:ext cx="5105160" cy="13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794-2538-4B99-86F8-378BE39C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0D3-13BC-43B9-A53B-544BE14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EE5-8219-49EB-89C8-CCBB59CB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32A-FFF1-4743-AD75-714D4232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EB1658-38C4-48EE-9B79-32C05C80DC3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617195-066A-442A-8BEB-B2181A44DB3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5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6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A5E4AE-DFA2-4DE0-B525-0F31A9C5BE3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1071720"/>
            <a:ext cx="7929360" cy="421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000000"/>
                </a:solidFill>
                <a:latin typeface="Trebuchet MS"/>
              </a:rPr>
              <a:t>Консультация для педагогов ДОУ</a:t>
            </a:r>
            <a:br>
              <a:rPr sz="2800"/>
            </a:br>
            <a:r>
              <a:rPr b="1" lang="ru-RU" sz="3600" spc="-1" strike="noStrike" cap="all">
                <a:solidFill>
                  <a:srgbClr val="000000"/>
                </a:solidFill>
                <a:latin typeface="Trebuchet MS"/>
              </a:rPr>
              <a:t>Игровой самомассаж как средство</a:t>
            </a:r>
            <a:br>
              <a:rPr sz="3600"/>
            </a:br>
            <a:r>
              <a:rPr b="1" lang="ru-RU" sz="3600" spc="-1" strike="noStrike" cap="all">
                <a:solidFill>
                  <a:srgbClr val="000000"/>
                </a:solidFill>
                <a:latin typeface="Trebuchet MS"/>
              </a:rPr>
              <a:t>подготовки руки к письму</a:t>
            </a:r>
            <a:br>
              <a:rPr sz="4000"/>
            </a:br>
            <a:r>
              <a:rPr b="1" lang="ru-RU" sz="4000" spc="-1" strike="noStrike" cap="all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9" name="Рисунок 16" descr="G:\Коллекция картинок (Microsoft)\j0438040.png"/>
          <p:cNvPicPr/>
          <p:nvPr/>
        </p:nvPicPr>
        <p:blipFill>
          <a:blip r:embed="rId1"/>
          <a:stretch/>
        </p:blipFill>
        <p:spPr>
          <a:xfrm rot="1507200">
            <a:off x="142200" y="4179960"/>
            <a:ext cx="2426760" cy="2557080"/>
          </a:xfrm>
          <a:prstGeom prst="rect">
            <a:avLst/>
          </a:prstGeom>
          <a:ln w="9525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0" y="123120"/>
            <a:ext cx="914364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a34b73"/>
                </a:solidFill>
                <a:latin typeface="Times New Roman"/>
                <a:ea typeface="Calibri"/>
              </a:rPr>
              <a:t>Муниципальное автономное дошкольное образовательное учреждение детский сад общеразвивающего вида с приоритетным осуществлением деятельности по направлению физического развития детей «Бере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786200" y="5000760"/>
            <a:ext cx="3357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a34b73"/>
                </a:solidFill>
                <a:latin typeface="Times New Roman"/>
              </a:rPr>
              <a:t>Подготов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a34b73"/>
                </a:solidFill>
                <a:latin typeface="Times New Roman"/>
              </a:rPr>
              <a:t>учитель-дефек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a34b73"/>
                </a:solidFill>
                <a:latin typeface="Times New Roman"/>
              </a:rPr>
              <a:t>Орлова Г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G:\Коллекция картинок (Microsoft)\j0438040.png"/>
          <p:cNvPicPr/>
          <p:nvPr/>
        </p:nvPicPr>
        <p:blipFill>
          <a:blip r:embed="rId1"/>
          <a:stretch/>
        </p:blipFill>
        <p:spPr>
          <a:xfrm rot="1507200">
            <a:off x="155520" y="3941640"/>
            <a:ext cx="1809360" cy="1809360"/>
          </a:xfrm>
          <a:prstGeom prst="rect">
            <a:avLst/>
          </a:prstGeom>
          <a:ln w="9525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0" y="928800"/>
            <a:ext cx="642924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ru-RU" sz="8000" spc="-1" strike="noStrike">
                <a:solidFill>
                  <a:srgbClr val="0033cc"/>
                </a:solidFill>
                <a:latin typeface="Comic Sans MS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logoped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124400" cy="85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000000"/>
                </a:solidFill>
                <a:latin typeface="Trebuchet MS"/>
              </a:rPr>
              <a:t>Подготовка руки к письму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7267320" cy="52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исьмо - сложных координационный навык, требующий слаженной работы мышц кисти, всей руки, правильной координации движений всего тела.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9280" indent="-2692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готовка к письму - один из самых сложных этапов подготовки ребенка к систематическому обучению.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9280" indent="-2692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детей дошкольного возраста слабо развиты мелкие мышцы руки, несовершенна координация движений, не закончено окостенение запястий и фаланг пальцев.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9280" indent="-2692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этому в дошкольном возрасте важна именно подготовка к письму, а не обучение ему. Важно развить механизмы, необходимые для овладения письмом, создать условия для накопления ребенком двигательного и практического опыта, развития навыков ручной умелости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20040"/>
            <a:ext cx="7195680" cy="536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ИГРОВОЙ  САМОМАССАЖ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74293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овой самомассаж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это уникальная тактильная гимнастика, благодаря которой в мозг поступает мощный поток импульсов от рецепторов, расположенных на коже, а также от проприорецепторов мышц и суставов. Одновременно с этим  в кору головного мозга (в речеслуховые, зрительные, эмоциональные и творческие зоны) поступает информация, которая не только оказывает тонизирующее воздействие на центральную нервную систему, но и способствует увеличению резервных возможностей функционирования головного мозга. 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ются межполушарное взаимодействие, межполушарные интеграторы – комиссуры, работа полушарий. Синхронизируется деятельность ассоциативных волокон, связывающих между собой отдельные участки одного и того же полушария. Мобилизуются проекционные волокна, входящие в состав путей, по которым осуществляется двусторонняя связь коры головного мозга и нижележащими отделами ЦНС. Это является важным аспектом реабилитационной работы с детьми, имеющими органическое поражение коры головного мозга.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6929280" cy="178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41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 cap="all">
                <a:solidFill>
                  <a:srgbClr val="000000"/>
                </a:solidFill>
                <a:latin typeface="Trebuchet MS"/>
              </a:rPr>
              <a:t>Правила выполнения самомассажа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7338600" cy="51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се упражнения делаются в медленном темпе и сопровождаются показом и четким произношением текста. Если упражнения  вызывают у  детей  некоторые трудности, нужно помочь ребенку удерживать остальные пальчики от непроизвольных движений; 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Руки и тело должны быть чистыми;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Мышцы должны быть максимально расслаблены;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Массажные движения должны быть аккуратными и плавными.;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Объясните детям, что если массаж сделан правильно, то после него ощущается тепло в массируемой области;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Самомассаж рекомендуется выполнять 2-3 раза в день по 5-10 минут в старшем дошкольном возрасте, используя 3-5 упражнений, между которыми следует проводить расслабление мышц. Каждое упражнение выполнять 8 раз.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Все упражнения выполняются по направлению к лимфоузлам: от кончиков пальцев к запястью и от кисти к локтю. После каждого упражнения проводится расслабление: поглаживание или стряхивание рук.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риемы самомассаж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глаживание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рание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минание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брации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ые и пассивные движения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000000"/>
                </a:solidFill>
                <a:latin typeface="Trebuchet MS"/>
              </a:rPr>
              <a:t>Поглаживание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7338600" cy="52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линейное поглаживание тыльной и ладонной поверхности кисти руки подушечками выпрямленных двух, пяти пальцев.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е поглаживание ладони подушечками двух или трёх пальцев.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ралевидное поглаживание тыльной и ладонной поверхности кисти руки подушечками двух - пяти пальцев.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игзагообразное поглаживание.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Солнышко»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олнышко лучами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ладит нас, ласкает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олнце, как и мама,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Лишь одно бывает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0" y="43920"/>
            <a:ext cx="184320" cy="369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Users\Denis\Desktop\IMG_20200213_103721.jpg"/>
          <p:cNvPicPr/>
          <p:nvPr/>
        </p:nvPicPr>
        <p:blipFill>
          <a:blip r:embed="rId1"/>
          <a:srcRect l="34143" t="10608" r="18487" b="-1839"/>
          <a:stretch/>
        </p:blipFill>
        <p:spPr>
          <a:xfrm>
            <a:off x="4786200" y="3786120"/>
            <a:ext cx="25056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000000"/>
                </a:solidFill>
                <a:latin typeface="Trebuchet MS"/>
              </a:rPr>
              <a:t>Растирание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7195680" cy="53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линейное растирание выпрямленными ладонями друг друга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бнеобразное круговое растирание ладонной впадины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бнеобразное круговое растирание ладони одной руки подушечками пальцев противоположной руки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 Греем ручки»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чень холодно зимой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рзнут ручки - ой, ой, ой!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до ручки нам погреть,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сильнее растереть!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6" name="Picture 2" descr="C:\Users\Denis\Desktop\IMG_20200213_102324.jpg"/>
          <p:cNvPicPr/>
          <p:nvPr/>
        </p:nvPicPr>
        <p:blipFill>
          <a:blip r:embed="rId1"/>
          <a:stretch/>
        </p:blipFill>
        <p:spPr>
          <a:xfrm>
            <a:off x="4143240" y="3929040"/>
            <a:ext cx="352404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000000"/>
                </a:solidFill>
                <a:latin typeface="Trebuchet MS"/>
              </a:rPr>
              <a:t>Разминание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7195680" cy="51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е разминание ладони подушечкой большого пальца противоположной руки;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ипцеобразное разминание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одольное и поперечно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мышечного валика локтевого края ладони;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инание и растирание пальцев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ёлое приветствие»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Я здороваюсь везде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ма и на улице.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аже «здрасте» говорю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Я соседской курице!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Picture 2" descr="F:\1\P2150601.jpg"/>
          <p:cNvPicPr/>
          <p:nvPr/>
        </p:nvPicPr>
        <p:blipFill>
          <a:blip r:embed="rId1"/>
          <a:stretch/>
        </p:blipFill>
        <p:spPr>
          <a:xfrm flipH="1">
            <a:off x="3857760" y="4000680"/>
            <a:ext cx="335736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ибрация.</a:t>
            </a:r>
            <a:br>
              <a:rPr sz="3800"/>
            </a:b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7195680" cy="53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ирование двумя - пятью пальцам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игра на пианино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олачивание ладонной впадины кончиком указательного пальца противоположной руки;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олачивание ладони кончиками сложенных в щепоть пальцев.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шка»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ела мушка на ладошку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пошла, пошла, пошла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 мизинчика дошла.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Picture 2" descr="C:\Users\Denis\Desktop\IMG_20200213_102124.jpg"/>
          <p:cNvPicPr/>
          <p:nvPr/>
        </p:nvPicPr>
        <p:blipFill>
          <a:blip r:embed="rId1"/>
          <a:stretch/>
        </p:blipFill>
        <p:spPr>
          <a:xfrm>
            <a:off x="4429080" y="3857760"/>
            <a:ext cx="35532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447</TotalTime>
  <Application>LibreOffice/7.4.7.2$Linux_X86_64 LibreOffice_project/40$Build-2</Application>
  <AppVersion>15.0000</AppVersion>
  <Words>565</Words>
  <Paragraphs>6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2:37:34Z</dcterms:created>
  <dc:creator>Admin</dc:creator>
  <dc:description/>
  <dc:language>en-US</dc:language>
  <cp:lastModifiedBy>Acer</cp:lastModifiedBy>
  <dcterms:modified xsi:type="dcterms:W3CDTF">2022-11-09T14:58:58Z</dcterms:modified>
  <cp:revision>54</cp:revision>
  <dc:subject/>
  <dc:title>Формирование кинестетических ощущений и тонкой моторики ру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