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8FC-AD89-44C8-9944-CB3D563A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F7EA-7EBD-46FB-B9C1-46BFBF1B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7B82-6059-48A2-B4DF-974E175A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7C62-E525-4A89-A078-0F8EE93F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D46D-9214-4593-98E2-7846A6BC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2B3F-C99A-4B66-B8E3-1267A96A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12DD-8DDC-4DD1-8493-F7BC3DC4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E07C-89B0-42C9-9759-F1142B46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F7D5-E7C5-44EA-9E3D-383B3A5E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D89D-EB15-4AAC-9CA7-71488ED7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49DA-B640-4AF1-B9F0-A22F1812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3E5C-5C61-42A4-ADBC-7521FA4F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F76B-5D6F-4C4B-A2F1-5861BDA8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F07D-D961-4C94-AC27-2C1BC527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1B58-E373-4EDA-B2FC-584CABFA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544B-7BAE-406B-8919-366F20F2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6A5C-76C6-421B-8655-878275D9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59D-242D-4A40-85DE-648F6F18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99D9-69F1-43EF-9A3B-470921A4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CAC-1149-49FE-B77A-BFB77432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053A-45FD-4F61-AB3F-82489930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344-5C4F-4A8A-A597-50B89757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6FE-6319-4DB1-B04C-626FF530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5CF-C503-474A-9948-31E8AE77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E562-F282-4A16-8153-59797A7CE12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7F94-7D9E-42C1-ABC8-65009AD82C7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58;&#1088;&#1072;&#1076;&#1080;&#1094;&#1080;&#1080;%20&#1088;&#1091;&#1089;&#1089;&#1082;&#1086;&#1081;%20&#1089;&#1077;&#1084;&#1100;&#1080;.ppt" TargetMode="External"/><Relationship Id="rId2" Type="http://schemas.openxmlformats.org/officeDocument/2006/relationships/hyperlink" Target="file:///&#1057;&#1086;&#1074;&#1088;&#1077;&#1084;&#1077;&#1085;&#1085;&#1072;&#1103;%20&#1089;&#1077;&#1084;&#1100;&#1103;.ppt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47640" y="2133720"/>
            <a:ext cx="6400800" cy="2735280"/>
          </a:xfrm>
          <a:prstGeom prst="rect">
            <a:avLst/>
          </a:prstGeom>
          <a:solidFill>
            <a:srgbClr val="703dff"/>
          </a:solidFill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Славянские божества – покровители семьи и брака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076480" y="404640"/>
            <a:ext cx="5048280" cy="5977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47640" y="765000"/>
            <a:ext cx="6264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Традиции русской сем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42920" y="2133720"/>
            <a:ext cx="71294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Современная семья: какая 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703dff"/>
                </a:solidFill>
                <a:latin typeface="Times New Roman"/>
              </a:rPr>
              <a:t>Лад – бог брака, семейного счастья, верности, веселья, утешения, наслаждения и всякого семейного благополучи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260280"/>
            <a:ext cx="5400720" cy="1122480"/>
          </a:xfrm>
          <a:custGeom>
            <a:avLst/>
            <a:gdLst>
              <a:gd name="textAreaLeft" fmla="*/ 1350000 w 5400720"/>
              <a:gd name="textAreaRight" fmla="*/ 4050720 w 5400720"/>
              <a:gd name="textAreaTop" fmla="*/ 280440 h 1122480"/>
              <a:gd name="textAreaBottom" fmla="*/ 1089360 h 11224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7fe7a9"/>
              </a:gs>
              <a:gs pos="100000">
                <a:srgbClr val="703d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Ла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5903640" cy="48960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ада – богиня любви, юности, красоты, плодородия, развлечений и удовольствий, жена бога Лад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менем Лада древние славяне называли не только изначальную богиню любви, но и весь строй жизни — лад, где все должно было ладно, то есть хорошо. Все люди должна уметь ладить друг с другом. Жена называла любимого ладо, а он ее — ладушкой. «Лады», — говорят люди, когда решили какое-то важное дело, а в древности ладником называли уговор о приданом: лады — помолвка, ладило — сват, ладканя — свадебная песня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даже оладьи, которые пекли по весне в честь возрождающейся жизни, от того же корня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огда же пели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Благослови, мати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Ой, мати Лада, мати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Весну закликати..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Рисунок 4" descr="Лада"/>
          <p:cNvPicPr/>
          <p:nvPr/>
        </p:nvPicPr>
        <p:blipFill>
          <a:blip r:embed="rId1"/>
          <a:stretch/>
        </p:blipFill>
        <p:spPr>
          <a:xfrm>
            <a:off x="6084720" y="2060640"/>
            <a:ext cx="2519640" cy="3960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940360" y="616572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Лада (Худ. В. Форостец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0920" y="260280"/>
            <a:ext cx="4897440" cy="898560"/>
          </a:xfrm>
          <a:custGeom>
            <a:avLst/>
            <a:gdLst>
              <a:gd name="textAreaLeft" fmla="*/ 1224360 w 4897440"/>
              <a:gd name="textAreaRight" fmla="*/ 3673080 w 4897440"/>
              <a:gd name="textAreaTop" fmla="*/ 112320 h 898560"/>
              <a:gd name="textAreaBottom" fmla="*/ 898920 h 8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76eaf0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Ла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i-main-pic" descr="Картинка 3 из 39"/>
          <p:cNvPicPr/>
          <p:nvPr/>
        </p:nvPicPr>
        <p:blipFill>
          <a:blip r:embed="rId1"/>
          <a:stretch/>
        </p:blipFill>
        <p:spPr>
          <a:xfrm>
            <a:off x="2556000" y="260280"/>
            <a:ext cx="4032000" cy="5616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763640" y="602136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480" y="5973840"/>
            <a:ext cx="6645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ада(Священный зов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Худ. Андрей Климен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26" descr="http://im6-tub.yandex.net/i?id=41514940&amp;tov=6"/>
          <p:cNvPicPr/>
          <p:nvPr/>
        </p:nvPicPr>
        <p:blipFill>
          <a:blip r:embed="rId1"/>
          <a:stretch/>
        </p:blipFill>
        <p:spPr>
          <a:xfrm>
            <a:off x="4859280" y="3573360"/>
            <a:ext cx="2160720" cy="28814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23" descr="http://im2-tub.yandex.net/i?id=719827&amp;tov=2"/>
          <p:cNvPicPr/>
          <p:nvPr/>
        </p:nvPicPr>
        <p:blipFill>
          <a:blip r:embed="rId2"/>
          <a:stretch/>
        </p:blipFill>
        <p:spPr>
          <a:xfrm>
            <a:off x="5219640" y="333360"/>
            <a:ext cx="2305080" cy="2808360"/>
          </a:xfrm>
          <a:prstGeom prst="rect">
            <a:avLst/>
          </a:prstGeom>
          <a:ln w="0">
            <a:noFill/>
          </a:ln>
        </p:spPr>
      </p:pic>
      <p:pic>
        <p:nvPicPr>
          <p:cNvPr id="163" name="i-main-pic" descr="Картинка 1 из 39"/>
          <p:cNvPicPr/>
          <p:nvPr/>
        </p:nvPicPr>
        <p:blipFill>
          <a:blip r:embed="rId3"/>
          <a:stretch/>
        </p:blipFill>
        <p:spPr>
          <a:xfrm>
            <a:off x="826920" y="189000"/>
            <a:ext cx="3378240" cy="6108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i-main-pic" descr="Картинка 1 из 8"/>
          <p:cNvPicPr/>
          <p:nvPr/>
        </p:nvPicPr>
        <p:blipFill>
          <a:blip r:embed="rId1"/>
          <a:stretch/>
        </p:blipFill>
        <p:spPr>
          <a:xfrm>
            <a:off x="1116000" y="260280"/>
            <a:ext cx="3564000" cy="4745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4000" y="494172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imes New Roman"/>
              </a:rPr>
              <a:t>Богиня Лада со своими детьми - близнецам 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imes New Roman"/>
              </a:rPr>
              <a:t>                           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</a:rPr>
              <a:t>Лелей и Пол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32" descr="http://im5-tub.yandex.net/i?id=61339825&amp;tov=5"/>
          <p:cNvPicPr/>
          <p:nvPr/>
        </p:nvPicPr>
        <p:blipFill>
          <a:blip r:embed="rId2"/>
          <a:stretch/>
        </p:blipFill>
        <p:spPr>
          <a:xfrm>
            <a:off x="5219640" y="2852640"/>
            <a:ext cx="3456000" cy="3024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64000" y="2349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imes New Roman"/>
              </a:rPr>
              <a:t>Славянский символ Л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1" descr="d0b2-d0bad0bed180d0bed0bbd18cd0bad0bed0b2-d0bbd0b5d0bbd18c"/>
          <p:cNvPicPr/>
          <p:nvPr/>
        </p:nvPicPr>
        <p:blipFill>
          <a:blip r:embed="rId1"/>
          <a:stretch/>
        </p:blipFill>
        <p:spPr>
          <a:xfrm>
            <a:off x="324000" y="2060640"/>
            <a:ext cx="2447640" cy="20113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292720" y="1916280"/>
            <a:ext cx="3311640" cy="3660120"/>
          </a:xfrm>
          <a:prstGeom prst="rect">
            <a:avLst/>
          </a:prstGeom>
          <a:solidFill>
            <a:srgbClr val="7fe7a9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ель - бог любви и пчеловодства, так как пчела в представлении людей является символом любви, ибо объединяет  в себе, согласно  поверьям, сладость мёда и горечь жала. Леля уподобляют Купидону. Этот весёлый и игривый божок – вечно юный красавец – приносит парням и девушкам огромную радость любв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260280"/>
            <a:ext cx="5543640" cy="1193760"/>
          </a:xfrm>
          <a:custGeom>
            <a:avLst/>
            <a:gdLst>
              <a:gd name="textAreaLeft" fmla="*/ 1385640 w 5543640"/>
              <a:gd name="textAreaRight" fmla="*/ 4158000 w 5543640"/>
              <a:gd name="textAreaTop" fmla="*/ 422640 h 1193760"/>
              <a:gd name="textAreaBottom" fmla="*/ 1158480 h 1193760"/>
            </a:gdLst>
            <a:ahLst/>
            <a:rect l="textAreaLeft" t="textAreaTop" r="textAreaRight" b="textAreaBottom"/>
            <a:pathLst>
              <a:path w="21600" h="21600">
                <a:moveTo>
                  <a:pt x="0" y="1395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6010"/>
                </a:lnTo>
                <a:arcTo wR="21600" hR="20153" stAng="4471878" swAng="-976834"/>
                <a:lnTo>
                  <a:pt x="18900" y="8204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749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8204"/>
                </a:lnTo>
                <a:close/>
              </a:path>
              <a:path fill="none" w="21600" h="21600">
                <a:moveTo>
                  <a:pt x="8100" y="749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749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6010"/>
                </a:moveTo>
                <a:lnTo>
                  <a:pt x="5400" y="7010"/>
                </a:lnTo>
              </a:path>
              <a:path fill="none" w="21600" h="21600">
                <a:moveTo>
                  <a:pt x="16200" y="16010"/>
                </a:moveTo>
                <a:lnTo>
                  <a:pt x="16200" y="7010"/>
                </a:lnTo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e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Ле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843280" y="2421000"/>
            <a:ext cx="2386080" cy="400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26920" y="260280"/>
            <a:ext cx="6481800" cy="1297080"/>
          </a:xfrm>
          <a:custGeom>
            <a:avLst/>
            <a:gdLst>
              <a:gd name="textAreaLeft" fmla="*/ 1620360 w 6481800"/>
              <a:gd name="textAreaRight" fmla="*/ 4861440 w 6481800"/>
              <a:gd name="textAreaTop" fmla="*/ 324360 h 1297080"/>
              <a:gd name="textAreaBottom" fmla="*/ 125892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b800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Поле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219640" y="2205000"/>
            <a:ext cx="3024360" cy="36734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9640" y="1844640"/>
            <a:ext cx="4392720" cy="2654280"/>
          </a:xfrm>
          <a:prstGeom prst="rect">
            <a:avLst/>
          </a:prstGeom>
          <a:solidFill>
            <a:srgbClr val="76e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торой сын Лада и Лады – Полель – славянский Гименей. Это бог брачных уз. Само имя его означ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 следующий по леле », так как брак всегда следует за любов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355640" y="3789360"/>
            <a:ext cx="4032360" cy="2016000"/>
          </a:xfrm>
          <a:prstGeom prst="rect">
            <a:avLst/>
          </a:prstGeom>
          <a:solidFill>
            <a:srgbClr val="76eaf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Леля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Ляля) – богиня Весны и плодородия, дочь Лады, богиня деторожд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333360"/>
            <a:ext cx="4824720" cy="1112760"/>
          </a:xfrm>
          <a:custGeom>
            <a:avLst/>
            <a:gdLst>
              <a:gd name="textAreaLeft" fmla="*/ 1206000 w 4824720"/>
              <a:gd name="textAreaRight" fmla="*/ 3618720 w 4824720"/>
              <a:gd name="textAreaTop" fmla="*/ 0 h 1112760"/>
              <a:gd name="textAreaBottom" fmla="*/ 973800 h 11127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3b559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0200" y="260280"/>
            <a:ext cx="210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Times New Roman"/>
              </a:rPr>
              <a:t>Ле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4272120" cy="3220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8:09:39Z</dcterms:created>
  <dc:creator>user</dc:creator>
  <dc:description/>
  <dc:language>en-US</dc:language>
  <cp:lastModifiedBy>user1</cp:lastModifiedBy>
  <dcterms:modified xsi:type="dcterms:W3CDTF">2010-02-20T06:10:19Z</dcterms:modified>
  <cp:revision>8</cp:revision>
  <dc:subject/>
  <dc:title>Славянские божества – покровители семьи и брака</dc:title>
</cp:coreProperties>
</file>