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9657-0FE7-41AB-9D28-F3B78DA47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56F3-254D-42F1-AF4D-CE94586E3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BCD9-894F-4C43-9866-85ECBCC58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1FA5-8342-4E79-B788-7C550B13C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9ACB-595E-453A-B1CD-EE3C3EAC7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928B-EACF-44CF-889D-95FA0D27C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9C7D-3032-4969-B2A2-1EA74C081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1998-A72E-483C-8C86-04DF944D5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6484-546E-4411-AB1C-2464B40CB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448B-79C7-41EC-8563-11662C06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3CB3-55D4-4421-A51B-DC88DF85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6ECB-229C-43F5-95B5-7F98FAC5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1BF46-6FED-4383-9543-36A8923357A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2195640" y="285840"/>
            <a:ext cx="6335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БОУ БГО СОШ  №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руктурное подразделение детский са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60000"/>
                </a:solidFill>
                <a:latin typeface="Times New Roman"/>
              </a:rPr>
              <a:t>Танец во время Великой Отечественной войн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ыполнила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едагог дополнительного образ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Антипова Валерия Анатолье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2021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2" descr="31980.jpg"/>
          <p:cNvPicPr/>
          <p:nvPr/>
        </p:nvPicPr>
        <p:blipFill>
          <a:blip r:embed="rId1"/>
          <a:stretch/>
        </p:blipFill>
        <p:spPr>
          <a:xfrm>
            <a:off x="2286000" y="214200"/>
            <a:ext cx="3929040" cy="32324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3" descr="Занятия-в-Хореографическом-училище.-январь-1943.jpg"/>
          <p:cNvPicPr/>
          <p:nvPr/>
        </p:nvPicPr>
        <p:blipFill>
          <a:blip r:embed="rId2"/>
          <a:stretch/>
        </p:blipFill>
        <p:spPr>
          <a:xfrm>
            <a:off x="3929040" y="3124080"/>
            <a:ext cx="4729320" cy="35244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195640" y="213840"/>
            <a:ext cx="673416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езусловно, танцы помогали «ковать» Победу над фашистскими захватчиками. Несмотря на кровавые будни, люди продолжали жить, влюбляться и верить в светлое будущее своей страны и своих дет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и танцевали, чтобы жи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Рисунок 2" descr="https://s8.travelask.ru/system/images/files/000/284/075/wysiwyg/1.jpg?1494437389"/>
          <p:cNvPicPr/>
          <p:nvPr/>
        </p:nvPicPr>
        <p:blipFill>
          <a:blip r:embed="rId1"/>
          <a:stretch/>
        </p:blipFill>
        <p:spPr>
          <a:xfrm>
            <a:off x="2286000" y="3143160"/>
            <a:ext cx="6429240" cy="33577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a8200"/>
                </a:solidFill>
                <a:latin typeface="Times New Roman"/>
              </a:rPr>
              <a:t>             </a:t>
            </a:r>
            <a:r>
              <a:rPr b="1" lang="ru-RU" sz="4400" spc="-1" strike="noStrike">
                <a:solidFill>
                  <a:srgbClr val="da8200"/>
                </a:solidFill>
                <a:latin typeface="Times New Roman"/>
              </a:rPr>
              <a:t>Спасибо за внимание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Содержимое 3" descr="https://gazeta-marina-roscha.ru/wp-content/uploads/2020/02/4_10.jpg"/>
          <p:cNvPicPr/>
          <p:nvPr/>
        </p:nvPicPr>
        <p:blipFill>
          <a:blip r:embed="rId1"/>
          <a:stretch/>
        </p:blipFill>
        <p:spPr>
          <a:xfrm>
            <a:off x="2143080" y="1600200"/>
            <a:ext cx="6643800" cy="47577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340000" y="285480"/>
            <a:ext cx="651816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еликая Отечественная война 1941-1945гг. оставила глубокий след в каждой семье нашей страны. В каждый дом она постучалась своей, орошенной пеплом и горем руко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вестно, что музыка и танец сопровождают человека на протяжении всей жизн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анец в годы войны был инструментом поднятия боевого дух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195640" y="213840"/>
            <a:ext cx="673416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годы Великой Отечественной войны жизнь и труд всех советских людей, в том числе и деятелей искусства, были подчинены одной цели -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корейшей победе над враго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Артисты выступали на всех фронтах в военных подразделениях, в госпиталях, в партизанских отрядах. Вместе с выдающимися мастерами выступала в концертах и молодежь, студенты театральных и музыкальных вуз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военных частях особенным успехом пользовались танцы на военную тему и народные танцы. Поэтому в годы войны создается большое количество ансамблей песни и пляски. Каждая воинская часть имела свой коллекти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церты давали в лесах и полях, на военных кораблях и аэродромах, в городах и селах, где временно базировались войсковые части, в госпиталях и эвакуационных пунктах. Наравне с фронтовиками и тружениками тыла артисты приближали победу, поддерживая их моральный дух и стойкост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0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195640" y="213840"/>
            <a:ext cx="67341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нец помогал  жить, не позволял людям уйти в печаль по погибшим родным и товарищам, наделяя смыслом каждый миг существования. Бойцы танцевали неистово, кто-то умело, а кто-то, поддаваясь простому импульсу жизни – движению под музыку, которое давало сил бороться и побеждать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4" descr="https://ds05.infourok.ru/uploads/ex/050b/000fbc7a-6a2ed7f5/hello_html_13ac8e5e.jpg"/>
          <p:cNvPicPr/>
          <p:nvPr/>
        </p:nvPicPr>
        <p:blipFill>
          <a:blip r:embed="rId1"/>
          <a:stretch/>
        </p:blipFill>
        <p:spPr>
          <a:xfrm>
            <a:off x="3286080" y="3643200"/>
            <a:ext cx="5000760" cy="30052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195640" y="213840"/>
            <a:ext cx="6734160" cy="66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2071800" y="2143080"/>
            <a:ext cx="3089160" cy="2136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5643720" y="2214720"/>
            <a:ext cx="2928960" cy="2232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3"/>
          <a:stretch/>
        </p:blipFill>
        <p:spPr>
          <a:xfrm>
            <a:off x="2214720" y="4429080"/>
            <a:ext cx="3314520" cy="2195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4"/>
          <a:stretch/>
        </p:blipFill>
        <p:spPr>
          <a:xfrm>
            <a:off x="5857920" y="4500720"/>
            <a:ext cx="3000240" cy="2249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5"/>
          <a:stretch/>
        </p:blipFill>
        <p:spPr>
          <a:xfrm>
            <a:off x="2071800" y="142920"/>
            <a:ext cx="3071880" cy="1857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6"/>
          <a:stretch/>
        </p:blipFill>
        <p:spPr>
          <a:xfrm>
            <a:off x="5643720" y="285840"/>
            <a:ext cx="2857320" cy="18367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195640" y="213840"/>
            <a:ext cx="673416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Блокадные дни Ленинградского хореографического училищ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есть о начале Великой Отечественной войны застала воспитанников и педагогов Ленинградского хореографического училища на сцене Государственного академического театра оперы и балета имени С.М. Кирова. 22 июня 1941 года здесь шла генеральная репетиция выпускного спектакля – балета «Бэла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декабре 1942 г.,  еще в пору полной блокады города, оставшаяся в Ленинграде часть педагогического коллектива во главе с и. о. директора училища Л.С. Тагер организовала первый набор детей в первый класс. Об этом было объявлено по радио.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нятия первого блокадного набора начались в январе 1943 года. На третьем этаже был открыт только один зал с круглой железной печкой направо от входа, которую топил комендант училища и бомбоубежища Степан Христофорович Кравченк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0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195640" y="213840"/>
            <a:ext cx="673416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роки классического танца у девочек вела Любовь Ипполитовна Ярмолович, у мальчиков – Анна Павловна Бажаева. Историко-бытовому танцу учила Вера Сергеевна Костровицкая. Музыку преподавали Л.Е. Аркадьева и Г.Ф. Разумовская, они также выступали в качестве концертмейстеров на уроках и репетициях. Условия блокадной жизни были невероятно трудны, но уроки шли строго по расписанию, порядок которого могли нарушить только воздушные тревог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" descr="Урок-в-блокадном-Ленинграде-учеников-1-го-класса-В.Новиченок,-В.Зимин, В.Лопухин, А.Стырт, преподаватель Л.И.Ярмолович. 1943"/>
          <p:cNvPicPr/>
          <p:nvPr/>
        </p:nvPicPr>
        <p:blipFill>
          <a:blip r:embed="rId1"/>
          <a:stretch/>
        </p:blipFill>
        <p:spPr>
          <a:xfrm>
            <a:off x="3000240" y="3143160"/>
            <a:ext cx="4929480" cy="32655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195640" y="213840"/>
            <a:ext cx="673416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етом 1943 года воспитанники училища выступили с первым отчетным концертом в Городском блокадном театре (на сцене Театра Комедии). Малыши показали фрагмент урока классического танца и концертные номера. 26 сентября 1943 года дети, начавшие учиться в январе, дали целое отделение в вечере балета на сцене Малого оперного театр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торой набор прошел в сентябре 1943 год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аже в мирное, благополучное время нагрузка ученика хореографического училища велика, начиная с младших классов. Как же справлялись с ней малыши, измученные голодом и холодом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ителя подходили к своей задаче с большим пониманием и осторожностью. Особая миссия легла на педагогов классического танца. Заботясь о детях, они постоянно чередовали занятия с короткими промежутками отдыха, порой сокращали время урока или количество упражнений. Но удивительно: ученики занимались с редкой самоотдачей, не жаловались на усталость и соблюдали образцовый порядок и дисциплин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195640" y="213840"/>
            <a:ext cx="673416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оловая не работала, дети приносили из дома кусочек хлеба или дуранды – кукурузного жмыха. На каждой перемене детям наливали по кружке кипятка из большого медного чайника. Кроме голода мучил холод. Обогревать огромные помещения школы было нече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ти вместе с педагогами участвовали в концертах, главным образом в госпиталях. Они пели, читали стихи и прозу, играли на рояле, разыгрывали маленькие пьесы, танцевали вальс из «Спящей красавицы», танцы «Куколки», «Ваньки-встаньки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Рисунок 2" descr="Выступление-в-учебном-театре-ЛХУ-в-начале-1943-года.jpg"/>
          <p:cNvPicPr/>
          <p:nvPr/>
        </p:nvPicPr>
        <p:blipFill>
          <a:blip r:embed="rId1"/>
          <a:stretch/>
        </p:blipFill>
        <p:spPr>
          <a:xfrm>
            <a:off x="2857680" y="3489480"/>
            <a:ext cx="5429160" cy="27874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USER</cp:lastModifiedBy>
  <dcterms:modified xsi:type="dcterms:W3CDTF">2022-11-09T13:46:01Z</dcterms:modified>
  <cp:revision>56</cp:revision>
  <dc:subject/>
  <dc:title>Слайд 1</dc:title>
</cp:coreProperties>
</file>