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11.png" ContentType="image/png"/>
  <Override PartName="/ppt/media/image12.jpeg" ContentType="image/jpeg"/>
  <Override PartName="/ppt/media/image7.gif" ContentType="image/gif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731F-DB1A-408C-878D-B2E341DD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338-90AC-4EF7-91B5-2FDD9B40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F619-0BDF-46B0-BDF6-7A59A477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72F5-EF85-449D-AABA-03ED0534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DD57-0B67-445D-992B-C511BD8D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A27F-9FBC-4CDE-994F-CE2FE20D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782B-A77A-4DA6-AD38-81427EAF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5E80-82A3-4AAE-A240-1483F3C0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3659-D0E4-4447-9137-15BA1D81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FF11-A853-4762-B9C0-594BF283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FB3E-2389-40D1-9482-E6981611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E9A-A48F-4B25-8ABC-FFEF71FD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D49B-685D-4A7B-B8EC-281FEA82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9052-D945-412F-BF79-C0BE31D0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C37B-52FD-4B12-BB12-35FE1030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786C-3631-4192-9B45-D14CF2D4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0538-E6C9-4033-B359-7EA78905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9F78E-D2F3-4052-87FA-D0BA95ED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A4024-0CFE-4754-AECC-DB2A8229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4F4AB-F541-4ECA-9A3F-0FC16CE2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99D4B-484E-4A87-87D2-6B7DB203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8DD5A-A088-414C-8007-FE83A6A3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77B-A926-4958-9B8C-6F25E9F9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589F-BB2A-4E21-A960-995F2430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B032F-6D40-4A90-BCF6-317C59E2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8B44-B4C7-4ABE-8C9D-02EE895E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6F206-4C4F-4059-955F-16C00EBF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5B35C-93C3-4AB0-8B66-4A12C570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1DDFF-C8E5-43C8-8F54-0A27EFCD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8C349-E8D8-471C-8566-2A12638D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F3A65-A9DB-4A2F-8590-24C79B2B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1DFC8-B31E-4650-A46A-5C2611E9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54BAD-7A86-4799-9D16-A48BE35E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B1E-62EC-4824-8935-2D3FD741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2F080-AF8E-4D91-A38F-7506EAEE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2BA54-4FF2-4A39-940C-CF630AE2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852B4-5FC6-4171-955B-0238ADAF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F0BF5-38FB-4CB0-80CD-EAC1DE72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7D4FB-ED0F-4D7E-B6A7-A6BBD35F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0DE08-5586-434F-A0A9-A9129653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B4459-86B9-4FDE-A57E-759C43EA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1EF74-4703-4B32-8349-6E52C82E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46E5B-1498-45C0-86F8-3473E145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70A-C991-4A3A-BB2B-29928B61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643-705B-420F-B0F5-DDB34040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81C8-28CF-4A50-B4D1-3016ADE0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F49-CEAF-4D62-9E2C-16036871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320-A264-433C-90AD-E192BF50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F4449-A327-426B-BC3D-60F8A5149A49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DB4E9-815F-4FB5-917C-D419C66D8985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4ADAB-DD9E-4A65-AC1D-6D390A73AE97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A0BF3-8B32-42AE-AC61-E62CE64C267F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Полилиния 6" descr=""/>
          <p:cNvPicPr/>
          <p:nvPr/>
        </p:nvPicPr>
        <p:blipFill>
          <a:blip r:embed="rId1"/>
          <a:stretch/>
        </p:blipFill>
        <p:spPr>
          <a:xfrm>
            <a:off x="469800" y="493560"/>
            <a:ext cx="83502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3"/>
          <p:cNvSpPr/>
          <p:nvPr/>
        </p:nvSpPr>
        <p:spPr>
          <a:xfrm>
            <a:off x="324000" y="260280"/>
            <a:ext cx="8424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27792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Задание « Проведи домашний опыт и объясни наблюдаемое явление»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幼圆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幼圆"/>
              </a:rPr>
              <a:t>1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Проверьте, измениться ли температура воды и как, если в ней  растворить соль. Объяснить явление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Приборы и материалы: стакан с водой, соль, термометр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2)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幼圆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Оберните толстый гвоздь полоской бумаги в один слой. Подержите над пламенем свечи до момента возгорания, засеките время. Объясните, почему бумага загорелась не сраз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Приборы и материалы: толстый гвоздь, бумага, свеча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8" name="Рисунок 5" descr="Без названия.jpg"/>
          <p:cNvPicPr/>
          <p:nvPr/>
        </p:nvPicPr>
        <p:blipFill>
          <a:blip r:embed="rId1"/>
          <a:stretch/>
        </p:blipFill>
        <p:spPr>
          <a:xfrm>
            <a:off x="1979640" y="3860640"/>
            <a:ext cx="4359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3"/>
          <p:cNvSpPr/>
          <p:nvPr/>
        </p:nvSpPr>
        <p:spPr>
          <a:xfrm>
            <a:off x="324000" y="260280"/>
            <a:ext cx="8424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179280" y="333360"/>
            <a:ext cx="896472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ребность в изучении физики формируется у обучающихся в процессе реального усвоения ими теоретических и экспериментальных знаний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1" name="Схема 9" descr=""/>
          <p:cNvPicPr/>
          <p:nvPr/>
        </p:nvPicPr>
        <p:blipFill>
          <a:blip r:embed="rId1"/>
          <a:stretch/>
        </p:blipFill>
        <p:spPr>
          <a:xfrm>
            <a:off x="176040" y="-103320"/>
            <a:ext cx="896796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2"/>
          <p:cNvSpPr/>
          <p:nvPr/>
        </p:nvSpPr>
        <p:spPr>
          <a:xfrm>
            <a:off x="179280" y="333360"/>
            <a:ext cx="896472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р экспериментальной задач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читайте плотность мыла, зная его масс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пы решения 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спомнить определение плотности вещества и формулу для ее определен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нять, значения каких величин известны в задаче, а какие нужно узнать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йти неизвестные величины?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ки предлагают план: Измерить грани мыла, вычислить по формулам объем , плотность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ценить результат, сравнив его с табличным значением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3"/>
          <p:cNvSpPr/>
          <p:nvPr/>
        </p:nvSpPr>
        <p:spPr>
          <a:xfrm>
            <a:off x="324000" y="260280"/>
            <a:ext cx="8424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Rectangle 1"/>
          <p:cNvSpPr/>
          <p:nvPr/>
        </p:nvSpPr>
        <p:spPr>
          <a:xfrm>
            <a:off x="0" y="6249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Задание  «Ситуативная задача»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Тема «Простые механизмы»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Прямоугольник 5"/>
          <p:cNvSpPr/>
          <p:nvPr/>
        </p:nvSpPr>
        <p:spPr>
          <a:xfrm>
            <a:off x="0" y="1628640"/>
            <a:ext cx="85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 Покажите, как расположить палку, на которой весит груз, на плече так, чтобы сила давления на плечо была наименьшей? Почему  вы считаете, что груз должен располагаться именно в этой точке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0" name="Picture 14" descr="https://ru-static.z-dn.net/files/d44/3e54c5f2d02ca47bc55385371bad42b0.jpg"/>
          <p:cNvPicPr/>
          <p:nvPr/>
        </p:nvPicPr>
        <p:blipFill>
          <a:blip r:embed="rId1"/>
          <a:stretch/>
        </p:blipFill>
        <p:spPr>
          <a:xfrm>
            <a:off x="2050920" y="3933720"/>
            <a:ext cx="26672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3"/>
          <p:cNvSpPr/>
          <p:nvPr/>
        </p:nvSpPr>
        <p:spPr>
          <a:xfrm>
            <a:off x="324000" y="260280"/>
            <a:ext cx="8424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0" y="57996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Тема «Механическая работа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Вычислить механическую работу, которая  совершается  при равномерном движении с первого на второй этаж здания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Все необходимые данные должны получить самостоятельно, результат записать в тетрадь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3" name="Рисунок 5" descr="5.jpg"/>
          <p:cNvPicPr/>
          <p:nvPr/>
        </p:nvPicPr>
        <p:blipFill>
          <a:blip r:embed="rId1"/>
          <a:stretch/>
        </p:blipFill>
        <p:spPr>
          <a:xfrm>
            <a:off x="0" y="2687760"/>
            <a:ext cx="694836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324000" y="260280"/>
            <a:ext cx="8424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0" y="33336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Rectangle 1"/>
          <p:cNvSpPr/>
          <p:nvPr/>
        </p:nvSpPr>
        <p:spPr>
          <a:xfrm>
            <a:off x="0" y="1095120"/>
            <a:ext cx="914400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幼圆"/>
              </a:rPr>
              <a:t>     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幼圆"/>
              </a:rPr>
              <a:t>Коммуникативные универсальные учебные действия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幼圆"/>
              </a:rPr>
              <a:t>э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 способность устанавливать и поддерживать необходимые контакты с другими людьми, владение определенными нормами общения, поведения. умение выражать свои мысли. Результатами  деятельности по формированию коммуникативных учебных действий  являются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умение обучающихся учитывать позиции других людей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умение  слушать, вступать в диалог, спрашивать; умение  участвовать в коллективном обсужден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3"/>
          <p:cNvSpPr/>
          <p:nvPr/>
        </p:nvSpPr>
        <p:spPr>
          <a:xfrm>
            <a:off x="324000" y="260280"/>
            <a:ext cx="8424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Прямоугольник 5"/>
          <p:cNvSpPr/>
          <p:nvPr/>
        </p:nvSpPr>
        <p:spPr>
          <a:xfrm>
            <a:off x="179280" y="260280"/>
            <a:ext cx="8569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 «Составление  кроссвордов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Составить кроссворд из 6-7 терминов, изученных в данной главе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Кроссворд-наоборот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9" name="Рисунок 6" descr="кросв.PNG"/>
          <p:cNvPicPr/>
          <p:nvPr/>
        </p:nvPicPr>
        <p:blipFill>
          <a:blip r:embed="rId1"/>
          <a:stretch/>
        </p:blipFill>
        <p:spPr>
          <a:xfrm>
            <a:off x="1476360" y="1844640"/>
            <a:ext cx="5918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324000" y="260280"/>
            <a:ext cx="8424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0" y="-8784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幼圆"/>
              </a:rPr>
              <a:t>                    </a:t>
            </a:r>
            <a:r>
              <a:rPr b="1" lang="de-DE" sz="2400" spc="-1" strike="noStrike">
                <a:solidFill>
                  <a:srgbClr val="333333"/>
                </a:solidFill>
                <a:latin typeface="Times New Roman"/>
                <a:ea typeface="幼圆"/>
              </a:rPr>
              <a:t>Физические фокусы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  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Можно использовать физические фокусы и занимательные опыты. Они просты, связаны с учебным материалом, требуют самого доступного оборудования, их разгадка имеет физический смысл. Зачастую ученики пытаются повторить их в домашних условиях самостоятельно, что тоже важно.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При изучении вращательного движения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в качестве домашнего задания можно предложить такой фокус 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幼圆"/>
              </a:rPr>
              <a:t>П</a:t>
            </a:r>
            <a:r>
              <a:rPr b="0" lang="de-DE" sz="2400" spc="-1" strike="noStrike" u="sng">
                <a:solidFill>
                  <a:srgbClr val="ffffff"/>
                </a:solidFill>
                <a:uFillTx/>
                <a:latin typeface="Times New Roman"/>
                <a:ea typeface="幼圆"/>
              </a:rPr>
              <a:t>однимите лежащий на столе пластмассовый шарик стеклянной банкой (нельзя подкатыват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幼圆"/>
              </a:rPr>
              <a:t> шарик</a:t>
            </a:r>
            <a:r>
              <a:rPr b="0" lang="de-DE" sz="2400" spc="-1" strike="noStrike" u="sng">
                <a:solidFill>
                  <a:srgbClr val="ffffff"/>
                </a:solidFill>
                <a:uFillTx/>
                <a:latin typeface="Times New Roman"/>
                <a:ea typeface="幼圆"/>
              </a:rPr>
              <a:t> к краю стола, брать его в руки, пользоваться посторонними предметами, наклонять стол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Секрет фокуса. Нужно накрыть шарик банкой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круговыми движениями заставить его кататься по стенкам банки и затем быстро повернуть банку дном вниз-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шарик окажется в банке. Фокусы, вызывают оживлённые дискуссии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пробуждают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 мысль, так как стимулируют к поиску объяснения увиденного, к использованию своих знан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468360" y="333360"/>
            <a:ext cx="8207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ени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дают универсальные учебные действия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ивают обучающемуся возможность самостоятельно осуществлять деятельность учения в ситуации выбора, ставить учебные цели в различных видах деятельности (при проведении эксперимента, исследования и т.п.), искать и использовать необходимые средства и способы их достижения, уметь контролировать и оценивать учебную деятельность, в том числе и при работе в группе и ее результаты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ют условия развития личности и ее самореализации на основе «умения учиться» и сотрудничать со  взрослыми и сверстниками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ивают успешное усвоение знаний, умений и навыков, формирование картины мира, компетентностей в любой предметной области познан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5" descr="QIP_Shot_Screen_1259.png"/>
          <p:cNvPicPr/>
          <p:nvPr/>
        </p:nvPicPr>
        <p:blipFill>
          <a:blip r:embed="rId1"/>
          <a:stretch/>
        </p:blipFill>
        <p:spPr>
          <a:xfrm>
            <a:off x="395280" y="907920"/>
            <a:ext cx="8290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3"/>
          <p:cNvSpPr/>
          <p:nvPr/>
        </p:nvSpPr>
        <p:spPr>
          <a:xfrm>
            <a:off x="324000" y="260280"/>
            <a:ext cx="8424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0" y="4370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 физики, должны быть ориентированы прежде всего на развитие личности обучающегося, личного и ценностного отношения к окружающим, к физике, к себе.  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6" name="Схема 5" descr=""/>
          <p:cNvPicPr/>
          <p:nvPr/>
        </p:nvPicPr>
        <p:blipFill>
          <a:blip r:embed="rId1"/>
          <a:stretch/>
        </p:blipFill>
        <p:spPr>
          <a:xfrm>
            <a:off x="-6480" y="182520"/>
            <a:ext cx="915696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"/>
          <p:cNvSpPr/>
          <p:nvPr/>
        </p:nvSpPr>
        <p:spPr>
          <a:xfrm>
            <a:off x="395280" y="-184320"/>
            <a:ext cx="84247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95280" y="978480"/>
            <a:ext cx="87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幼圆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幼圆"/>
              </a:rPr>
              <a:t>Задание «Исключи лишнее»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  <a:ea typeface="幼圆"/>
              </a:rPr>
              <a:t>Материал: 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幼圆"/>
              </a:rPr>
              <a:t>карточка с заданием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幼圆"/>
              </a:rPr>
              <a:t>         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幼圆"/>
              </a:rPr>
              <a:t>Найти лишний термин и вычеркнуть его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幼圆"/>
              </a:rPr>
              <a:t>1) Сила, ньютон, время, масса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幼圆"/>
              </a:rPr>
              <a:t>2) Масса, километр, килограмм, дециметр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幼圆"/>
              </a:rPr>
              <a:t>3) Плотность, движение, время, скорость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幼圆"/>
              </a:rPr>
              <a:t>4) Миллиметр, динамометр, часы, спидометр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幼圆"/>
              </a:rPr>
              <a:t>5) Термометр, весы, насос, динамометр, мензурка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Прямоугольник 5"/>
          <p:cNvSpPr/>
          <p:nvPr/>
        </p:nvSpPr>
        <p:spPr>
          <a:xfrm>
            <a:off x="0" y="417024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Скругленный прямоугольник 6"/>
          <p:cNvSpPr/>
          <p:nvPr/>
        </p:nvSpPr>
        <p:spPr>
          <a:xfrm>
            <a:off x="179280" y="2060640"/>
            <a:ext cx="8425080" cy="2592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 flipV="1">
            <a:off x="324000" y="629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24000" y="483120"/>
            <a:ext cx="849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епление  по теме «Механические колебания и волны» путем сравнения графика колебаний и графика волн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幼圆"/>
              </a:rPr>
              <a:t>1. В чем сходство и отличие двух графиков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幼圆"/>
              </a:rPr>
              <a:t>2. Какие физические величины можно найти из графика колебаний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幼圆"/>
              </a:rPr>
              <a:t>3. Какие физические величины можно найти из графика волны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3" name="Picture 2" descr="На рисунке приведен график гармонических колебаний. Укажите амплитуду,  период, частоту. - Школьные Знания.com"/>
          <p:cNvPicPr/>
          <p:nvPr/>
        </p:nvPicPr>
        <p:blipFill>
          <a:blip r:embed="rId1"/>
          <a:stretch/>
        </p:blipFill>
        <p:spPr>
          <a:xfrm>
            <a:off x="395280" y="3933720"/>
            <a:ext cx="3886200" cy="2048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Определение длины волны по графику зависимости смещения частиц от положения  равновесия в зависимости от расстояния (2)"/>
          <p:cNvPicPr/>
          <p:nvPr/>
        </p:nvPicPr>
        <p:blipFill>
          <a:blip r:embed="rId2"/>
          <a:stretch/>
        </p:blipFill>
        <p:spPr>
          <a:xfrm>
            <a:off x="4572000" y="3933720"/>
            <a:ext cx="410364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324000" y="260280"/>
            <a:ext cx="8424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146628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284364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8" name="Схема 7" descr=""/>
          <p:cNvPicPr/>
          <p:nvPr/>
        </p:nvPicPr>
        <p:blipFill>
          <a:blip r:embed="rId1"/>
          <a:stretch/>
        </p:blipFill>
        <p:spPr>
          <a:xfrm>
            <a:off x="176040" y="-103320"/>
            <a:ext cx="896796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3"/>
          <p:cNvSpPr/>
          <p:nvPr/>
        </p:nvSpPr>
        <p:spPr>
          <a:xfrm>
            <a:off x="324000" y="260280"/>
            <a:ext cx="8424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Скругленный прямоугольник 7"/>
          <p:cNvSpPr/>
          <p:nvPr/>
        </p:nvSpPr>
        <p:spPr>
          <a:xfrm>
            <a:off x="-324000" y="1341360"/>
            <a:ext cx="324000" cy="1150920"/>
          </a:xfrm>
          <a:custGeom>
            <a:avLst/>
            <a:gdLst>
              <a:gd name="textAreaLeft" fmla="*/ 15480 w 324000"/>
              <a:gd name="textAreaRight" fmla="*/ 308520 w 324000"/>
              <a:gd name="textAreaTop" fmla="*/ 15480 h 1150920"/>
              <a:gd name="textAreaBottom" fmla="*/ 1135440 h 1150920"/>
            </a:gdLst>
            <a:ahLst/>
            <a:rect l="textAreaLeft" t="textAreaTop" r="textAreaRight" b="textAreaBottom"/>
            <a:pathLst>
              <a:path w="21600" h="76667">
                <a:moveTo>
                  <a:pt x="3600" y="0"/>
                </a:moveTo>
                <a:arcTo wR="3600" hR="3600" stAng="16200000" swAng="-5400000"/>
                <a:lnTo>
                  <a:pt x="0" y="73067"/>
                </a:lnTo>
                <a:arcTo wR="3600" hR="3600" stAng="10800000" swAng="-5400000"/>
                <a:lnTo>
                  <a:pt x="18000" y="766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0" y="765000"/>
            <a:ext cx="871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боих случаях совершается механическая работа.     (рисунок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ческая величина «энергия», так же как и «мощность»,  измеряется в «джоулях»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ла тяжести, действующая на поднимающийся воздушный шарик, совершает  положительную работ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рдце человека за одно сокращение совершает приблизительно 1 Дж работы,  что соответствует работе, совершенной при поднятии груза массой 10 кг на высоту 1м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Прямоугольник 10"/>
          <p:cNvSpPr/>
          <p:nvPr/>
        </p:nvSpPr>
        <p:spPr>
          <a:xfrm>
            <a:off x="1931760" y="189000"/>
            <a:ext cx="44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  «Найди ошибки»</a:t>
            </a:r>
            <a:r>
              <a:rPr b="0" i="1" lang="ru-RU" sz="2800" spc="-1" strike="noStrike">
                <a:solidFill>
                  <a:srgbClr val="333333"/>
                </a:solidFill>
                <a:latin typeface="Times New Roman"/>
                <a:ea typeface="幼圆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5" descr="baby18"/>
          <p:cNvPicPr/>
          <p:nvPr/>
        </p:nvPicPr>
        <p:blipFill>
          <a:blip r:embed="rId1"/>
          <a:stretch/>
        </p:blipFill>
        <p:spPr>
          <a:xfrm>
            <a:off x="1042920" y="4149720"/>
            <a:ext cx="1189080" cy="172728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2"/>
          <p:cNvSpPr/>
          <p:nvPr/>
        </p:nvSpPr>
        <p:spPr>
          <a:xfrm>
            <a:off x="474480" y="609300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Я думаю - я работаю</a:t>
            </a:r>
            <a:r>
              <a:rPr b="1" lang="ru-RU" sz="1800" spc="-1" strike="noStrike">
                <a:solidFill>
                  <a:srgbClr val="0099ff"/>
                </a:solidFill>
                <a:latin typeface="Times New Roman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5" name="Picture 4" descr="baby16_1"/>
          <p:cNvPicPr/>
          <p:nvPr/>
        </p:nvPicPr>
        <p:blipFill>
          <a:blip r:embed="rId2"/>
          <a:stretch/>
        </p:blipFill>
        <p:spPr>
          <a:xfrm>
            <a:off x="5219640" y="4149720"/>
            <a:ext cx="1363680" cy="180036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15"/>
          <p:cNvSpPr/>
          <p:nvPr/>
        </p:nvSpPr>
        <p:spPr>
          <a:xfrm>
            <a:off x="4504320" y="609300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Я иду - я тоже работаю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7" name="Picture 5" descr="baby18"/>
          <p:cNvPicPr/>
          <p:nvPr/>
        </p:nvPicPr>
        <p:blipFill>
          <a:blip r:embed="rId3"/>
          <a:stretch/>
        </p:blipFill>
        <p:spPr>
          <a:xfrm>
            <a:off x="1195560" y="4302000"/>
            <a:ext cx="1188720" cy="1727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baby16_1"/>
          <p:cNvPicPr/>
          <p:nvPr/>
        </p:nvPicPr>
        <p:blipFill>
          <a:blip r:embed="rId4"/>
          <a:stretch/>
        </p:blipFill>
        <p:spPr>
          <a:xfrm>
            <a:off x="5372280" y="4302000"/>
            <a:ext cx="1363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3"/>
          <p:cNvSpPr/>
          <p:nvPr/>
        </p:nvSpPr>
        <p:spPr>
          <a:xfrm>
            <a:off x="324000" y="260280"/>
            <a:ext cx="8424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1476360" y="18900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  «Найди ошибки»</a:t>
            </a:r>
            <a:r>
              <a:rPr b="0" i="1" lang="ru-RU" sz="2800" spc="-1" strike="noStrike">
                <a:solidFill>
                  <a:srgbClr val="333333"/>
                </a:solidFill>
                <a:latin typeface="Times New Roman"/>
                <a:ea typeface="幼圆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Карточка-задани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539640" y="1785960"/>
            <a:ext cx="889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знайка допустил ошибки при выполнении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ующих вычислений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м=100см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м3=1000 см3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см3 =4000 м3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 и исправьте все ошибки, которые допустил Незнай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Скругленный прямоугольник 7"/>
          <p:cNvSpPr/>
          <p:nvPr/>
        </p:nvSpPr>
        <p:spPr>
          <a:xfrm>
            <a:off x="-324000" y="1341360"/>
            <a:ext cx="324000" cy="1150920"/>
          </a:xfrm>
          <a:custGeom>
            <a:avLst/>
            <a:gdLst>
              <a:gd name="textAreaLeft" fmla="*/ 15480 w 324000"/>
              <a:gd name="textAreaRight" fmla="*/ 308520 w 324000"/>
              <a:gd name="textAreaTop" fmla="*/ 15480 h 1150920"/>
              <a:gd name="textAreaBottom" fmla="*/ 1135440 h 1150920"/>
            </a:gdLst>
            <a:ahLst/>
            <a:rect l="textAreaLeft" t="textAreaTop" r="textAreaRight" b="textAreaBottom"/>
            <a:pathLst>
              <a:path w="21600" h="76667">
                <a:moveTo>
                  <a:pt x="3600" y="0"/>
                </a:moveTo>
                <a:arcTo wR="3600" hR="3600" stAng="16200000" swAng="-5400000"/>
                <a:lnTo>
                  <a:pt x="0" y="73067"/>
                </a:lnTo>
                <a:arcTo wR="3600" hR="3600" stAng="10800000" swAng="-5400000"/>
                <a:lnTo>
                  <a:pt x="18000" y="766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Скругленный прямоугольник 13"/>
          <p:cNvSpPr/>
          <p:nvPr/>
        </p:nvSpPr>
        <p:spPr>
          <a:xfrm>
            <a:off x="250920" y="1197000"/>
            <a:ext cx="8642160" cy="4753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2"/>
          <p:cNvSpPr/>
          <p:nvPr/>
        </p:nvSpPr>
        <p:spPr>
          <a:xfrm>
            <a:off x="0" y="0"/>
            <a:ext cx="9144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р качественной задач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чем к корпусу автомашины, перевозящей горючие смеси, прикрепляют цепь, которая волочится по земле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 При перевозке жидкости взбалтываются и электризуются. Чтобы избежать искр и пожара, прикрепляют цепь, которая отводит заряды в землю .  Установление причинно-следственных связей, построение логической цепочки рассуждений, умение грамотно и осознанно строить высказыван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5" name="Рисунок 3" descr="scale_600.jpg"/>
          <p:cNvPicPr/>
          <p:nvPr/>
        </p:nvPicPr>
        <p:blipFill>
          <a:blip r:embed="rId1"/>
          <a:stretch/>
        </p:blipFill>
        <p:spPr>
          <a:xfrm>
            <a:off x="1619280" y="3198960"/>
            <a:ext cx="475308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5T08:15:50Z</dcterms:created>
  <dc:creator>Ученик</dc:creator>
  <dc:description/>
  <dc:language>en-US</dc:language>
  <cp:lastModifiedBy>Школа</cp:lastModifiedBy>
  <dcterms:modified xsi:type="dcterms:W3CDTF">2022-11-09T00:06:47Z</dcterms:modified>
  <cp:revision>274</cp:revision>
  <dc:subject/>
  <dc:title>Слайд 1</dc:title>
</cp:coreProperties>
</file>