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315-D2AE-45D4-AD78-58A6855E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EBC-3EA1-4C9B-A582-16CAF018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843-0AAC-4277-A317-A7F94D20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CD8-962B-4552-BFE2-0A52088B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8409-150F-45ED-B585-EFACBEA6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52D2-648D-48CF-ACD0-0D46CE76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38D1-6CD4-4808-9D9A-EBF8D6F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F4FA-DC23-47BC-AD72-776134CC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C630-0EE4-4403-B77A-E6838C98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E9AD-A3B9-45F4-918F-07414F35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4902-C1F6-4143-8D90-ACC51E6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6E7-930C-49F8-A2E7-3FF2EE8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647-6067-4FF3-B888-D6863E4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D1D5-D9D7-4DED-A8E5-F6E4896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4DE8-72FE-4BE9-922E-8A6A6EE1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A92B-25B8-45A5-B5AC-B6FCAF0E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767A-C04E-4EB4-8714-A59E5231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0EC-C2F9-4AF2-ADBE-DA53E7F8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284-F37D-4F58-8EC2-1582D822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2B9-DF73-4694-8ADC-29A1CD03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EEA-BC24-404F-805E-6CEE4C70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1E7-4CC5-47D9-8720-93274D7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46D-2F10-467C-B858-748A434B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C73-94E1-4B8E-8DEC-85B22AA0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5B5B-B3F8-44C1-BF07-4F802A559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C079-6A92-42F6-8E5C-ED96D028A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shahmaty.mpeg" TargetMode="External"/><Relationship Id="rId7" Type="http://schemas.openxmlformats.org/officeDocument/2006/relationships/image" Target="../media/image7.gif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54000" y="949320"/>
            <a:ext cx="5159160" cy="72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49b4"/>
                </a:solidFill>
                <a:latin typeface="Comic Sans MS"/>
              </a:rPr>
              <a:t>Шаг 1</a:t>
            </a: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1800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Arial Narrow"/>
              </a:rPr>
              <a:t>В  выражении во всех трёх клетках – </a:t>
            </a:r>
            <a:r>
              <a:rPr b="1" lang="ru-RU" sz="2800" spc="-1" strike="noStrike">
                <a:solidFill>
                  <a:srgbClr val="ff3300"/>
                </a:solidFill>
                <a:latin typeface="Arial Narrow"/>
              </a:rPr>
              <a:t>одинаковые</a:t>
            </a:r>
            <a:r>
              <a:rPr b="1" lang="ru-RU" sz="2800" spc="-1" strike="noStrike">
                <a:solidFill>
                  <a:srgbClr val="4d4d4d"/>
                </a:solidFill>
                <a:latin typeface="Arial Narrow"/>
              </a:rPr>
              <a:t> числа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 Narrow"/>
              </a:rPr>
              <a:t>Какие это числа?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87280" y="4149720"/>
          <a:ext cx="6480000" cy="1539360"/>
        </p:xfrm>
        <a:graphic>
          <a:graphicData uri="http://schemas.openxmlformats.org/drawingml/2006/table">
            <a:tbl>
              <a:tblPr/>
              <a:tblGrid>
                <a:gridCol w="1401480"/>
                <a:gridCol w="1225080"/>
                <a:gridCol w="1227240"/>
                <a:gridCol w="1293840"/>
                <a:gridCol w="1332360"/>
              </a:tblGrid>
              <a:tr h="15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740720" y="620640"/>
            <a:ext cx="731880" cy="128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800280"/>
            <a:ext cx="6864480" cy="86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b4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35000" y="4579920"/>
          <a:ext cx="7137360" cy="1370160"/>
        </p:xfrm>
        <a:graphic>
          <a:graphicData uri="http://schemas.openxmlformats.org/drawingml/2006/table">
            <a:tbl>
              <a:tblPr/>
              <a:tblGrid>
                <a:gridCol w="2860560"/>
                <a:gridCol w="436680"/>
                <a:gridCol w="2606760"/>
                <a:gridCol w="658800"/>
                <a:gridCol w="5745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Любое числ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не равное 0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: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Любое числ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не равное 0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4120" y="2206800"/>
            <a:ext cx="7572600" cy="159696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 Narrow"/>
              </a:rPr>
              <a:t>В выражении вставь </a:t>
            </a:r>
            <a:r>
              <a:rPr b="0" lang="ru-RU" sz="3600" spc="-1" strike="noStrike">
                <a:solidFill>
                  <a:srgbClr val="ff3300"/>
                </a:solidFill>
                <a:latin typeface="Arial Narrow"/>
              </a:rPr>
              <a:t>одинаковые</a:t>
            </a:r>
            <a:r>
              <a:rPr b="0" lang="ru-RU" sz="36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4d4d4d"/>
                </a:solidFill>
                <a:latin typeface="Arial Narrow"/>
              </a:rPr>
              <a:t>числа</a:t>
            </a:r>
            <a:endParaRPr b="1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 Narrow"/>
              </a:rPr>
              <a:t>Какие это числа?</a:t>
            </a:r>
            <a:endParaRPr b="1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796160" y="549360"/>
            <a:ext cx="820800" cy="143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omic Sans MS"/>
              </a:rPr>
              <a:t>Молодцы! </a:t>
            </a:r>
            <a:br>
              <a:rPr sz="3600"/>
            </a:br>
            <a:r>
              <a:rPr b="1" lang="ru-RU" sz="3600" spc="-1" strike="noStrike">
                <a:solidFill>
                  <a:srgbClr val="009900"/>
                </a:solidFill>
                <a:latin typeface="Comic Sans MS"/>
              </a:rPr>
              <a:t>Разминка закончилась.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229068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796160" y="549360"/>
            <a:ext cx="820800" cy="143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6920" y="234936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Умножение многозначных чисе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на однознач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907920"/>
            <a:ext cx="69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7 ноя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2060280"/>
            <a:ext cx="647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b4"/>
                </a:solidFill>
                <a:latin typeface="Comic Sans MS"/>
              </a:rPr>
              <a:t>Проверьте друг друга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213000"/>
            <a:ext cx="76312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х 824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х4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       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8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    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   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6592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        2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65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00720" y="5645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620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множение многозначных чисел на однозна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74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620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множение многозначных чисел на однозна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1773000"/>
            <a:ext cx="647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 Narrow"/>
              </a:rPr>
              <a:t>Задача от танцора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8136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олжен купить 5 галстуков по 126 рублей и 3 рубашки по 206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4149720"/>
            <a:ext cx="676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вычисляя, подскажите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ватит ли мн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ублей для этой покуп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51800" y="1125360"/>
            <a:ext cx="82080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0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 Narrow"/>
              </a:rPr>
              <a:t>Умножение многозначных чисел на однозначное</a:t>
            </a:r>
            <a:endParaRPr b="0" lang="en-US" sz="2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3128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32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4d4d4d"/>
                </a:solidFill>
                <a:latin typeface="Arial Narrow"/>
              </a:rPr>
              <a:t>Задача: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4d4d4d"/>
                </a:solidFill>
                <a:latin typeface="Arial Narrow"/>
              </a:rPr>
              <a:t>Ученики 3-х классов подклеили за день 126 книг, а ученики 4-х классов 142 книг. 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50864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колько книг подклеят учащиеся вместе за 3 д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Narrow"/>
              </a:rPr>
              <a:t>Выбери задание.</a:t>
            </a:r>
            <a:r>
              <a:rPr b="0" lang="ru-RU" sz="4000" spc="-1" strike="noStrike">
                <a:solidFill>
                  <a:srgbClr val="8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263700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Решите уравнени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:9=809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645000"/>
            <a:ext cx="5473440" cy="2736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62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Умножение многозначных чисел на однозна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3860640"/>
            <a:ext cx="5257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3*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те восстановить 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4432320"/>
          <a:ext cx="931680" cy="1733400"/>
        </p:xfrm>
        <a:graphic>
          <a:graphicData uri="http://schemas.openxmlformats.org/drawingml/2006/table">
            <a:tbl>
              <a:tblPr/>
              <a:tblGrid>
                <a:gridCol w="309240"/>
                <a:gridCol w="312840"/>
                <a:gridCol w="309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564000" y="4365720"/>
          <a:ext cx="1008000" cy="1733400"/>
        </p:xfrm>
        <a:graphic>
          <a:graphicData uri="http://schemas.openxmlformats.org/drawingml/2006/table">
            <a:tbl>
              <a:tblPr/>
              <a:tblGrid>
                <a:gridCol w="335520"/>
                <a:gridCol w="336960"/>
                <a:gridCol w="3355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754200" y="1844640"/>
            <a:ext cx="39621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Выполните действи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239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  <a:ea typeface="Arial"/>
              </a:rPr>
              <a:t>3=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4869000"/>
            <a:ext cx="4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4869000"/>
            <a:ext cx="4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2638440"/>
            <a:ext cx="10796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51640" y="3430440"/>
            <a:ext cx="10796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5878440"/>
            <a:ext cx="10796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95640" y="3716280"/>
            <a:ext cx="4248360" cy="2449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92720" y="4040640"/>
            <a:ext cx="2520000" cy="197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Narrow"/>
              </a:rPr>
              <a:t>2.</a:t>
            </a:r>
            <a:r>
              <a:rPr b="1" lang="ru-RU" sz="2400" spc="-1" strike="noStrike">
                <a:solidFill>
                  <a:srgbClr val="4d4d4d"/>
                </a:solidFill>
                <a:latin typeface="Arial Narrow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х:9=809,</a:t>
            </a:r>
            <a:endParaRPr b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х=809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9,</a:t>
            </a:r>
            <a:endParaRPr b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х=7281.</a:t>
            </a:r>
            <a:r>
              <a:rPr b="1" lang="ru-RU" sz="10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1" lang="en-US" sz="1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 Narrow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48320" y="4149720"/>
          <a:ext cx="1075680" cy="1733400"/>
        </p:xfrm>
        <a:graphic>
          <a:graphicData uri="http://schemas.openxmlformats.org/drawingml/2006/table">
            <a:tbl>
              <a:tblPr/>
              <a:tblGrid>
                <a:gridCol w="357120"/>
                <a:gridCol w="361080"/>
                <a:gridCol w="3574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611280" y="62064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Тема урока: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Умножение многозначных чисел на однозна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4581360"/>
            <a:ext cx="43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165800" y="4149720"/>
          <a:ext cx="718920" cy="1733400"/>
        </p:xfrm>
        <a:graphic>
          <a:graphicData uri="http://schemas.openxmlformats.org/drawingml/2006/table">
            <a:tbl>
              <a:tblPr/>
              <a:tblGrid>
                <a:gridCol w="361800"/>
                <a:gridCol w="357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4356000" y="4581360"/>
            <a:ext cx="4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386064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3*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44720" y="907560"/>
            <a:ext cx="388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 Narrow"/>
              </a:rPr>
              <a:t>Проверьте себя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1341360"/>
            <a:ext cx="2733480" cy="219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Narrow"/>
              </a:rPr>
              <a:t>1.</a:t>
            </a:r>
            <a:r>
              <a:rPr b="1" lang="ru-RU" sz="2400" spc="-1" strike="noStrike">
                <a:solidFill>
                  <a:srgbClr val="4d4d4d"/>
                </a:solidFill>
                <a:latin typeface="Arial Narrow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8000" y="1628640"/>
          <a:ext cx="1076040" cy="1733760"/>
        </p:xfrm>
        <a:graphic>
          <a:graphicData uri="http://schemas.openxmlformats.org/drawingml/2006/table">
            <a:tbl>
              <a:tblPr/>
              <a:tblGrid>
                <a:gridCol w="357120"/>
                <a:gridCol w="361440"/>
                <a:gridCol w="3574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476360" y="2060640"/>
            <a:ext cx="43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84360" y="836640"/>
            <a:ext cx="439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3300">
                      <a:alpha val="5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33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3300">
                      <a:alpha val="5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33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08360" y="1989000"/>
            <a:ext cx="2001960" cy="3095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2452800">
            <a:off x="826560" y="4057560"/>
            <a:ext cx="2016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STE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635280" y="5281560"/>
            <a:ext cx="2016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B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 rot="18996000">
            <a:off x="6300720" y="4220640"/>
            <a:ext cx="2016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STE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442200" cy="10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49b4"/>
                </a:solidFill>
                <a:latin typeface="Comic Sans MS"/>
              </a:rPr>
              <a:t>Ответ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0600" y="2330280"/>
            <a:ext cx="756612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 Narrow"/>
              </a:rPr>
              <a:t>В </a:t>
            </a:r>
            <a:r>
              <a:rPr b="1" lang="ru-RU" sz="2800" spc="-1" strike="noStrike">
                <a:solidFill>
                  <a:srgbClr val="4d4d4d"/>
                </a:solidFill>
                <a:latin typeface="Arial Narrow"/>
              </a:rPr>
              <a:t>выражении</a:t>
            </a:r>
            <a:r>
              <a:rPr b="0" lang="ru-RU" sz="2800" spc="-1" strike="noStrike">
                <a:solidFill>
                  <a:srgbClr val="4d4d4d"/>
                </a:solidFill>
                <a:latin typeface="Arial Narrow"/>
              </a:rPr>
              <a:t> во всех трёх клетках – </a:t>
            </a:r>
            <a:r>
              <a:rPr b="0" lang="ru-RU" sz="2800" spc="-1" strike="noStrike">
                <a:solidFill>
                  <a:srgbClr val="ff3300"/>
                </a:solidFill>
                <a:latin typeface="Arial Narrow"/>
              </a:rPr>
              <a:t>одинаковые</a:t>
            </a:r>
            <a:r>
              <a:rPr b="0" lang="ru-RU" sz="2800" spc="-1" strike="noStrike">
                <a:solidFill>
                  <a:srgbClr val="4d4d4d"/>
                </a:solidFill>
                <a:latin typeface="Arial Narrow"/>
              </a:rPr>
              <a:t> числа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 Narrow"/>
              </a:rPr>
              <a:t>Какие это числа?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47640" y="4527720"/>
          <a:ext cx="6553080" cy="1493640"/>
        </p:xfrm>
        <a:graphic>
          <a:graphicData uri="http://schemas.openxmlformats.org/drawingml/2006/table">
            <a:tbl>
              <a:tblPr/>
              <a:tblGrid>
                <a:gridCol w="1417320"/>
                <a:gridCol w="1239480"/>
                <a:gridCol w="1239840"/>
                <a:gridCol w="1310040"/>
                <a:gridCol w="1346400"/>
              </a:tblGrid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24720" y="620640"/>
            <a:ext cx="78120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87280" y="475920"/>
            <a:ext cx="7056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49b4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49b4"/>
                </a:solidFill>
                <a:latin typeface="Comic Sans MS"/>
              </a:rPr>
              <a:t>Шаг 2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280" y="2060280"/>
            <a:ext cx="8280360" cy="158436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В выражении нет  </a:t>
            </a:r>
            <a:r>
              <a:rPr b="0" lang="ru-RU" sz="4000" spc="-1" strike="noStrike">
                <a:solidFill>
                  <a:srgbClr val="ff3300"/>
                </a:solidFill>
                <a:latin typeface="Arial Narrow"/>
              </a:rPr>
              <a:t>1</a:t>
            </a: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.    Все числа одинаковые. Какие это числа?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63880" y="4600440"/>
          <a:ext cx="6108120" cy="1204560"/>
        </p:xfrm>
        <a:graphic>
          <a:graphicData uri="http://schemas.openxmlformats.org/drawingml/2006/table">
            <a:tbl>
              <a:tblPr/>
              <a:tblGrid>
                <a:gridCol w="1320840"/>
                <a:gridCol w="1154520"/>
                <a:gridCol w="1156680"/>
                <a:gridCol w="1220400"/>
                <a:gridCol w="1255680"/>
              </a:tblGrid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·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723080" y="549360"/>
            <a:ext cx="820800" cy="143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0" y="475920"/>
            <a:ext cx="68756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49b4"/>
                </a:solidFill>
                <a:latin typeface="Comic Sans MS"/>
              </a:rPr>
              <a:t>Ответ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4581360"/>
          <a:ext cx="6360840" cy="1358640"/>
        </p:xfrm>
        <a:graphic>
          <a:graphicData uri="http://schemas.openxmlformats.org/drawingml/2006/table">
            <a:tbl>
              <a:tblPr/>
              <a:tblGrid>
                <a:gridCol w="1374840"/>
                <a:gridCol w="1203840"/>
                <a:gridCol w="1203480"/>
                <a:gridCol w="1272960"/>
                <a:gridCol w="1305720"/>
              </a:tblGrid>
              <a:tr h="13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· 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2800" y="1988640"/>
            <a:ext cx="7440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В выражении нет  </a:t>
            </a:r>
            <a:r>
              <a:rPr b="0" lang="ru-RU" sz="4000" spc="-1" strike="noStrike">
                <a:solidFill>
                  <a:srgbClr val="ff3300"/>
                </a:solidFill>
                <a:latin typeface="Arial Narrow"/>
              </a:rPr>
              <a:t>1</a:t>
            </a: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.    Все числа одинаковые. Какие это числа?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63040" y="620640"/>
            <a:ext cx="7808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456840"/>
            <a:ext cx="7093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49b4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49b4"/>
                </a:solidFill>
                <a:latin typeface="Comic Sans MS"/>
              </a:rPr>
              <a:t>Шаг 3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280360" cy="151128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В выражении нет  </a:t>
            </a:r>
            <a:r>
              <a:rPr b="0" lang="ru-RU" sz="4000" spc="-1" strike="noStrike">
                <a:solidFill>
                  <a:srgbClr val="ff3300"/>
                </a:solidFill>
                <a:latin typeface="Arial Narrow"/>
              </a:rPr>
              <a:t>0</a:t>
            </a: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.   Все числа одинаковые. Какие это числа?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03280" y="4365720"/>
          <a:ext cx="6468840" cy="1396800"/>
        </p:xfrm>
        <a:graphic>
          <a:graphicData uri="http://schemas.openxmlformats.org/drawingml/2006/table">
            <a:tbl>
              <a:tblPr/>
              <a:tblGrid>
                <a:gridCol w="1398600"/>
                <a:gridCol w="1224000"/>
                <a:gridCol w="1223640"/>
                <a:gridCol w="1292400"/>
                <a:gridCol w="133020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· 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837560" y="549360"/>
            <a:ext cx="779400" cy="13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54120" y="762120"/>
            <a:ext cx="56088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9b4"/>
                </a:solidFill>
                <a:latin typeface="Comic Sans MS"/>
              </a:rPr>
              <a:t>Ответ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44480" y="4437000"/>
          <a:ext cx="6167160" cy="1431720"/>
        </p:xfrm>
        <a:graphic>
          <a:graphicData uri="http://schemas.openxmlformats.org/drawingml/2006/table">
            <a:tbl>
              <a:tblPr/>
              <a:tblGrid>
                <a:gridCol w="1333080"/>
                <a:gridCol w="1167120"/>
                <a:gridCol w="1166760"/>
                <a:gridCol w="1234440"/>
                <a:gridCol w="1265760"/>
              </a:tblGrid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· 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4120" y="2206440"/>
            <a:ext cx="7356600" cy="174132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В выражении нет  </a:t>
            </a:r>
            <a:r>
              <a:rPr b="0" lang="ru-RU" sz="4000" spc="-1" strike="noStrike">
                <a:solidFill>
                  <a:srgbClr val="ff3300"/>
                </a:solidFill>
                <a:latin typeface="Arial Narrow"/>
              </a:rPr>
              <a:t>0</a:t>
            </a: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.   Все числа одинаковые. Какие это числа?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8200" y="549360"/>
            <a:ext cx="985680" cy="172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456840"/>
            <a:ext cx="68756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49b4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49b4"/>
                </a:solidFill>
                <a:latin typeface="Comic Sans MS"/>
              </a:rPr>
              <a:t>Шаг 4</a:t>
            </a: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280360" cy="143964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В выражении все числа </a:t>
            </a:r>
            <a:r>
              <a:rPr b="0" lang="ru-RU" sz="4000" spc="-1" strike="noStrike">
                <a:solidFill>
                  <a:srgbClr val="ff3300"/>
                </a:solidFill>
                <a:latin typeface="Arial Narrow"/>
              </a:rPr>
              <a:t>одинаковые</a:t>
            </a: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Какие это числа?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32000" y="4437000"/>
          <a:ext cx="6179760" cy="1420560"/>
        </p:xfrm>
        <a:graphic>
          <a:graphicData uri="http://schemas.openxmlformats.org/drawingml/2006/table">
            <a:tbl>
              <a:tblPr/>
              <a:tblGrid>
                <a:gridCol w="1336320"/>
                <a:gridCol w="1168200"/>
                <a:gridCol w="1170000"/>
                <a:gridCol w="1234800"/>
                <a:gridCol w="1270440"/>
              </a:tblGrid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: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31280" y="549360"/>
            <a:ext cx="985680" cy="172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33400" y="762120"/>
            <a:ext cx="5429520" cy="65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49b4"/>
                </a:solidFill>
                <a:latin typeface="Comic Sans MS"/>
              </a:rPr>
              <a:t>Ответ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84360" y="4292640"/>
          <a:ext cx="6300360" cy="1368000"/>
        </p:xfrm>
        <a:graphic>
          <a:graphicData uri="http://schemas.openxmlformats.org/drawingml/2006/table">
            <a:tbl>
              <a:tblPr/>
              <a:tblGrid>
                <a:gridCol w="1361880"/>
                <a:gridCol w="1191960"/>
                <a:gridCol w="1192320"/>
                <a:gridCol w="1261080"/>
                <a:gridCol w="1293120"/>
              </a:tblGrid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: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206800"/>
            <a:ext cx="7704000" cy="14508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В выражении все числа </a:t>
            </a:r>
            <a:r>
              <a:rPr b="0" lang="ru-RU" sz="4000" spc="-1" strike="noStrike">
                <a:solidFill>
                  <a:srgbClr val="ff3300"/>
                </a:solidFill>
                <a:latin typeface="Arial Narrow"/>
              </a:rPr>
              <a:t>одинаковые</a:t>
            </a: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Какие это числа?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67640" y="549360"/>
            <a:ext cx="903240" cy="158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0" y="456840"/>
            <a:ext cx="68756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49b4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49b4"/>
                </a:solidFill>
                <a:latin typeface="Comic Sans MS"/>
              </a:rPr>
              <a:t>Шаг 5</a:t>
            </a: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280360" cy="136836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В выражении вставь </a:t>
            </a:r>
            <a:r>
              <a:rPr b="0" lang="ru-RU" sz="4000" spc="-1" strike="noStrike">
                <a:solidFill>
                  <a:srgbClr val="ff3300"/>
                </a:solidFill>
                <a:latin typeface="Arial Narrow"/>
              </a:rPr>
              <a:t>одинаковые</a:t>
            </a:r>
            <a:r>
              <a:rPr b="0" lang="ru-RU" sz="40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числа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 Narrow"/>
              </a:rPr>
              <a:t>Какие это числа?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19280" y="4365720"/>
          <a:ext cx="6324120" cy="1348920"/>
        </p:xfrm>
        <a:graphic>
          <a:graphicData uri="http://schemas.openxmlformats.org/drawingml/2006/table">
            <a:tbl>
              <a:tblPr/>
              <a:tblGrid>
                <a:gridCol w="1367640"/>
                <a:gridCol w="1195560"/>
                <a:gridCol w="1197360"/>
                <a:gridCol w="1263240"/>
                <a:gridCol w="1300320"/>
              </a:tblGrid>
              <a:tr h="13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: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a5"/>
                    </a:solidFill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785000" y="476280"/>
            <a:ext cx="903240" cy="158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1:53:31Z</dcterms:created>
  <dc:creator>YakovenkoMG</dc:creator>
  <dc:description/>
  <dc:language>en-US</dc:language>
  <cp:lastModifiedBy>Customer</cp:lastModifiedBy>
  <dcterms:modified xsi:type="dcterms:W3CDTF">2008-12-22T05:38:02Z</dcterms:modified>
  <cp:revision>25</cp:revision>
  <dc:subject/>
  <dc:title>«О развитии семейных форм устройства детей сирот и детей, оставшихся без попечения родителей» </dc:title>
</cp:coreProperties>
</file>