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9B68-2141-4816-A7E0-43F2B4CC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C440-A54A-49A3-B5A0-8CC9E21D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AA42-3F5E-4030-AFE4-F6B7D1B6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0459-DE51-40E8-943A-0443FEFD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E3E8-3F82-4BDE-B806-CAD50274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3BD9-E979-4CD4-8BEA-AD4A4575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6FD6-6745-4460-8EBB-1E74C959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98CB-32E4-466B-9451-A35D78A0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7C70-0F9B-4533-A91C-63D765FE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ED55-022C-427D-AC6E-B17D38A9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7C38-FA66-4139-91C8-63C9D54B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890D2-6CB1-482F-AFE7-8DCBC8F9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14A4-1F97-4F1E-B1E4-E11C27FA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38CE-5487-4251-A076-94B7FA3B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AAD1-81C8-448B-8C19-ADB27C02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A5F9-8A31-420D-9918-A9EE2F3A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61A8-B9CB-4E21-8AE0-1D7822AE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7A37-EDE7-47AF-851A-085E5EA9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572B-1C0B-418F-86B1-D98F93E1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B5F9F-071F-439C-BD88-077CD148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6BA4-BDFE-407F-A674-E7ADF6CA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7F6D-3E2D-4C70-A2D7-A54D272A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DA76-0C0D-4F08-BCC3-840C21FA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BFD0-B794-493D-B451-A1E05D21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AFD4-1BAD-4CB0-A14C-C968B5E8BB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71C6-B443-4D1F-B0E5-8D495401AA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3357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ВОСПИТАТЕЛЬНАЯ СИСТЕМА КЛАССА КАК ПЕДАГОГИЧЕСКОЕ ЯВЛЕНИЕ И ПОНЯТИ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На перспективу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ой компонен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тельной системы класса - э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НОСТН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ИЕНТАЦИОННЫЙ, который представляет собой совокупность следующих элемен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и и задачи воспит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спективы жизнедеятельности классного сообщ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ы построения воспитательной системы и жизнедеятельности кла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Ставим цел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оспитания без цели не бывает, так как сущностными характеристиками этого процесса являются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целесообразн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Целеустремленнос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целенаправл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Теория и практи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теории и практике воспитания различ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деальная цель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некий идеал, к которому стремится общество, школа, педаго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результатная цель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прогнозируемый результат, часто выраженный в желаемом образе выпускника  и который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ланируется достичь за определенный промежуток време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роцессуальная цель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проектируемое состояние воспитательного процесса, оптимальное для формирования желаемых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честв выпускни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риентиры деятельност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 разработке результатной цели необходимо соблюдать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требования, предъявляемые к целевым ориентирам воспитательной деятельности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ни должны быт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правлены на развитие личности ребенка, формирование его интеллектуального, нравственного, коммуникативного, эстетического и физического потенциа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пряжены с интересами и ценностными установками членов классного сообщества, учитывать социальный заказ государст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еспечены необходимыми ресурсами для их реал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нкретными, четко и ясно сформулированны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рудными, но реально достижимы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ибкими, то есть обладать способностью к корректиров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иагностичны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перспективы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зависимости от целевых установок, возрастных особенностей учащихся,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ерспективы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гут быть следующи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лизкая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ход; дискотека; праздник именинников; посещение театра, концерта, выставки; экскурс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редняя 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лективное творческое дело; победа или участие в конкурсе, смотре, соревновании; туристическая поезд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алекая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пешно завершить обучение в школе; стать образованными и воспитанными личностями; оставить в школе добрый след в виде установления традиции или весомого вклада в обустройство школьного здания и прилегающей террит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Действуем совместн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Третий компонент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спитательной системы класса  :    ФУНКЦИОНАЛЬНО-ДЕЯТЕЛЬНОСТНЫЙ, который складывается из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стемообразующий вид деятельности, формы и методы организации совместной деятельности и об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ные функции воспитательной си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дагогическое обеспечение и самоуправление жизнедеятельностью классного сообщ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Лицо класс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92000" y="1989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ение воспитательной практики классных руководителей, показывает, что с одной стороны, пытаются использовать в воспитании и развитии школьников разнообразные виды и формы деятельности, а с другой  в широком спектре деятельности  выделяют какой-то один вид и с его помощью строят воспитательную систему класса, формируют неповторимую индивидуальность классного коллекти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Ключевые дел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а и осуществление целевых (тематических) программ «Учение», «Общение», «Досуг», «Образ жизни», «Здоровье» (предложено О.С. Газмано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ъединение проводимых дел в более крупные блоки с целью освоения общечеловеческих ценностей: «Земля», «Отечество», «Семья», «Труд», «Знания», «Культура», «Мир», «Человек» (предложено В.А. Караковски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тизация воспитательных дел и мероприятий по направлениям, связанным с развитием таких потенциалов личности ребенка, как познавательный, ценностный (нравственный), коммуникативный, художественный (эстетический), физический (разработано на основе концепции М.С. Каган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ние годового круга традиционных дел в классе, позволяющего оптимально распределить усилия членов классного сообщества и воспитательные воздействия во временном простран 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Мнение учёног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 мнению Н.Л. Селивановой, класс по отношению к личности ребенка может выполнять следующие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функ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образовательную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правленную на формирование у детей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елостной и научно обоснованной картины мир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воспитательную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действующую нравственному становлению личности школьни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защитную,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вязанную, прежде всего с психологической защитой ребенка от негативных влияний сред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компенсирующую,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дполагающую создание дополнительных условий для развития творческих способностей детей, их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амореализации в таких сферах деятельности, как познание, игра, общени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интегрирующую   и   корректирующую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,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ключающиеся  в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ом, что при соблюдении определенных условий класс может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нтегрировать и корректировать различные влияния, которые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спытывает ребенок как в классе, так и вне е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Ведущие роли классного руководител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18920" y="1773000"/>
            <a:ext cx="701028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«контроль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»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ющий включение учащегося в учебно-воспитательный процесс (контроль за посещением, поведением, дежурством, питанием; выяснение отношений с родителями, индивидуальная работа с учащимися, игнорирующими учебно-воспитательный процесс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«проводник по стране знаний»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ющий условия для развития познавательного интереса и желания учиться (информация учащихся и родителей об особенностях школы и ее требований к учащимся, воспитательные мероприятия познавательного характе­ра, помощь учащимся в самообразовании, обеспечение процесса учения, координация усилий всех учителей, работающих в классе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«нравственный наставник»,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действующий соблюдению учащимися норм и правил, разрешению возникающих конфликтов как между учащимися, так между учащимися и другими педагогами, работающими в классе (обучение этике и этикету, беседы на нравственные, социальные, правовые темы, оценка поступков ученика, индивидуальная работа с учащимися, нарушающими нормы поведения в образовательном учреждении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«носитель культуры»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могающий освоить культурные ценности, на основе которых организован учебно-воспитательный процесс (проведение экскурсий, коллективных походов в театр, музеи, на выставки, вечера и беседы о культуре, культмассовые мероприятия в классе и школе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«социальный педагог»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й способствует решению различных социальных проблем учащихся (создание нормальных условий общения в школе и дома, защита прав ребенка, формирование навыков социальной жизни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«старший товарищ»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й помогает включиться в различные виды деятельности, берет на себя часть заботы об учащихся (формирование коллектива класса, организация коллективной творческой деятельности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«фасилитатор»,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казывающий помощь учащимся в самопознании, самоопределении, самореализации (беседы, тренинги, игры, индивидуальная работа с учащимися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Система это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спитательная система класса - это способ организации жизнедеятельности и воспитания , представляющий собой целостную и упорядоченную совокупность взаимодействующих компонентов и способствующ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звитию личности и коллект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Четвертый компонент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воспитательной систем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СТРАНСТВЕННО-ВРЕМЕННОЙ. Он состоит из таких элементов, к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моционально-психологическая, духовно-нравственная и предметно-материальная сре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язи и отношения классного сообщества с другими общностями детей и взрослы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 и роль класса в воспитательном пространстве образовательного учреж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пы становления и развития воспитательной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000" y="620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Четыре этапа в развитии воспитательной системы класс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ервый этап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п проектирования си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торой этап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п становления си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ретий этап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п стабильного функционирования си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четвертый этап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п завершения функционирования или коренного обновления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На первом, этап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обладает деятельность по изучению интересов, потребностей и других личностных характеристик членов классного сообщества, проектированию желаемого образа класса, определению перспектив жизнедеятельности классного коллекти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На втором, этап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ое внимание уделяется укреплению межличностных отношений, формированию чувства «мы», апробированию форм и способов совместной деятельности, взращиванию традиций классного коллектива. Призыв классного руководителя (родителя или другого авторитетного взрослого): «Делай как я!» становится в этот период основным девизом жизнедеятельности классного коллекти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На третьем, этап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тивно развиваются самоуправленческие начала, поэтому появляются вскоре друг за другом лозунги: «Делай как лучшие из нас!» и «Делай как большинство из нас!». Воспитательная система начинает соответствовать проектному замыслу ее создателей. Доминирующий вид совместной деятельности формирует индивидуальность («лицо») классного коллектива. Жизнь классного сообщества строится на основе традиций, сохраняемых и поддерживаемых большинством членов коллекти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Четвертый этап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арактерны две тенденции: первая - постараться сделать так, чтобы лучшее в жизни класса стало достоянием всего школьного коллектива (оставить «добрый след»); вторая - искать новые идеи, формы и способы обновления жизнедеятельности в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Изучаем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ятый компонен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питательной системы класса - это ДИАГНОСТИКО-АНАЛИТИЧЕСКИЙ, включающий в себя следующие элемен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итерии эффективности воспитательной си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оды и приемы изучения результативности воспитательной си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ы и способы анализа, оценки и интерпретации полученных результа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Э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ффективность функционирования классной воспитательной систе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рилом» могут быть признаны следующ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ритер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нность уча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щенность и комфортность ребенка в клас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влетворенность учащихся и их родителей жизнедеятельностью в клас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нность классного коллекти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путация клас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явление индивидуальности («лица») клас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МОДЕЛИРОВАНИЕ   ВОСПИТАТЕЛЬНОЙ СИСТЕМЫ    КЛАССА</a:t>
            </a:r>
            <a:br>
              <a:rPr sz="35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уке под моделированием принято понимать метод познавательной или практической деятельности, с помощью которого конструируется аналог создаваемого объекта,  с целью получения новой информации или преобразования какого-либо фрагмента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403280" y="15462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делирование воспитательных систем класс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это процесс взаимодействия классного руководителя со своими коллегами, учащимися и их родителями по формированию целостного коллективного представления о важнейших качествах и компонентах воспитательной системы, об основных ее системообразующих факторах и связях, о путях, этапах и способах ее постро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Говорят теоретик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тели воспитательной системы Л.И. Новикова, В.А. Караковский, Н.Л. Селиванова утверждают: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Ошибаются те педагоги, которые при моделировании пытаются чрезмерно детализировать модель. В ней должны быть выделены наиболее важные  компоненты и связ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Концепция воспитательной системы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класс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жет состоять из таких разделов, ка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ткая психолого-педагогическая характеристика кла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ь и задачи воспитательной системы кла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спективы и принципы жизнедеятельности классного сообщ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ханизм функционирования и построения воспитательной системы класса (системообразующий вид деятельности, годовой круг традиционных дел в классе, самоуправление в классном коллективе, основны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ие и внешние связи и отношения членов классного сообщества, этапы становления и развития воспитательной системы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итерии и способы изучения эффективности воспитательной системы кла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4360" y="19810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826920" y="2852640"/>
            <a:ext cx="7680600" cy="26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Важные составляющи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едует отнести к разряду наиболее существенных и важ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ять компонен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Индивидно-групповой компон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Ценностно-ориентационный компон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Функционально - деятельностный компонент                                                       4.Пространственно-временн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Диагностико-аналитический компонен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бщество детей и взрослых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ервый компонент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это ИНДИВИДНО-ГРУППОВОЙ, представляющий собой сообщество детей и взрослых, участвующих в создании, управлении и развитии воспитательной системы класса. Он состоит из таких элементов, к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ассный руководитель (воспитател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ащиеся клас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дители уча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дагоги и другие взрослые, которые участвуют в воспитательном процессе и жизнедеятельности классного коллекти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Формируем коллектив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ое предназначение воспитательной системы заключается в содействии развитию личности каждого члена классной общности и формированию коллектива в данном класс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ую роль в построении, функционировании и развитии воспитательной системы класса играет классный руководитель . Его жизненные ценностные ориентации, педагогические воззрения и позиция, интересы и увлечения являются одними из наиболее существенных системообразующих факто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Роль ученика в класс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мой значительной  частью индивидно-группового компонента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являются учащиеся класса.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 одной стороны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- полноправные субъекты своего развития, жизнедеятельности классного сообщества, создания воспитательной системы, 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 другой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ы преднамеренно сфокусированного  влияния совместной деятельности, культивируемых в классном коллективе отношений и об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Родители-единомышленник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ультаты многочисленных исследований свидетельствуют о высокой степени воздействия родителей по отношению к своим детям, о большой значимости родительского слова, примера, дела в формировании личности сына или дочери. Следовательно, родители не должны остаться вне рамок процесса моделирования и функционирования воспитательной систе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Сила едине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Чужими» не могут быть и педагоги, работающие в классе. Самое верное решение: объединить в одну команду всех учителей, ведущих учебную и внеклассную деятельность в  клас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Ни один воспитатель не имеет права,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мнению А.С. Макаренко, -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ействовать в одиночку, на собственный риск и на свою собственную ответственность. Должен быть коллектив воспитателей, и там, где воспитатели не соединены в коллектив и коллектив не имеет единого плана работы, единого тона, единого точного подхода к ребенку, там. не может быть никакого воспитательного процесс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9:43:04Z</dcterms:created>
  <dc:creator>Gamer</dc:creator>
  <dc:description/>
  <dc:language>en-US</dc:language>
  <cp:lastModifiedBy>YURIY</cp:lastModifiedBy>
  <dcterms:modified xsi:type="dcterms:W3CDTF">2013-10-27T10:45:10Z</dcterms:modified>
  <cp:revision>6</cp:revision>
  <dc:subject/>
  <dc:title> ВОСПИТАТЕЛЬНАЯ СИСТЕМА КЛАССА КАК ПЕДАГОГИЧЕСКОЕ ЯВЛЕНИЕ И ПОНЯТИЕ</dc:title>
</cp:coreProperties>
</file>