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72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78795E1-49EA-443C-B381-73CC7BB9F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FFF3317-1515-402F-84C1-CDF844F324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5480" y="4642920"/>
            <a:ext cx="5038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056-E761-4950-BA7A-5FA26672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AAC-F095-450A-8FF3-4B846BC4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6F4-314E-499C-8ADC-3B72DD40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9CC-1C91-42AF-B08B-D404178B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D2A1A-8520-4F77-8773-904BB56B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E109E-FF4B-432A-A918-9966848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3A052-4CF2-4FBB-BC35-E3E47052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FA889-EBBE-46D8-8503-2A644287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396A1-0F46-4818-8142-09D79E97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88C4B-E554-4E38-84D0-915AB2CC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90538-CECE-4657-A998-EC854C3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B31-4A60-41CB-95D1-0322A154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475DD-ECD0-4483-A946-EA37A94E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77CD6-C893-4CD5-A2F3-A9C5841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F9B7B-F60E-4DED-9EA0-4C3747C5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6A282-B3B8-472D-BA51-04CE2DF6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9DE09-ACB9-4F73-A43E-5C2F07CC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8C8-4CD3-4DE3-AF73-07E857AF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E3D-7055-4501-BC8E-43A5D708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E0F-EE00-4238-AD0E-B367D2CF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45C-5E12-431E-9982-E1FA8ED7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473-C8FC-4A19-8B85-752221E8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171-0DD7-47A6-A956-714C189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97F-849F-479D-A007-9CF2EBC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1D3B-DC9C-432C-AD27-72FB88E19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479B-13EF-4B28-B076-D7C140AE8E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414-F2D2-4BB0-8CD1-D40596451D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ДОРОВЬЕСБЕРЕГАЮЩИЕ образовательные технолог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4920" y="32763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готовила: преподаватель физической культур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ущик Е.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9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 </a:t>
            </a:r>
            <a:br>
              <a:rPr sz="4000"/>
            </a:br>
            <a:r>
              <a:rPr b="0" lang="ru-RU" sz="2000" spc="-1" strike="noStrike">
                <a:solidFill>
                  <a:srgbClr val="00c600"/>
                </a:solidFill>
                <a:latin typeface="Arial Unicode MS"/>
              </a:rPr>
              <a:t>Здоровьесберегающие образовательные технологии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Здоровье сберегающая модель образовательного учреждения включает следующие компонент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использование интегрированных бинарных, полинарных занятий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создание разнообразных стартовых условий для развития и обучения каждого студен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личностно-ориентированное образование студ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педагогическое направление также включает организацию здоровье сберегающей развивающей среды О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изменение стиля работы педагога на основе альтруизма, эмпатии и адекватной здоровью и культуре рефлек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CYLARRW"/>
          <p:cNvPicPr/>
          <p:nvPr/>
        </p:nvPicPr>
        <p:blipFill>
          <a:blip r:embed="rId1"/>
          <a:stretch/>
        </p:blipFill>
        <p:spPr>
          <a:xfrm>
            <a:off x="7924680" y="6324480"/>
            <a:ext cx="354240" cy="3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о-психологическое на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ение психофизического здоровья студен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благоприятной социально-психологическо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Дети2"/>
          <p:cNvPicPr/>
          <p:nvPr/>
        </p:nvPicPr>
        <p:blipFill>
          <a:blip r:embed="rId1"/>
          <a:stretch/>
        </p:blipFill>
        <p:spPr>
          <a:xfrm>
            <a:off x="2971800" y="4038480"/>
            <a:ext cx="2895480" cy="22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роприятия по созданию здоровьесберегающих услов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варительная диагностика (проблемно-ориентированный анализ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еологическая организация учебно-воспитательного процесс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ние здоровьесберегающих технолог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а воспитательной работы, направленная на формирование мотивации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Здоровьесберегающие технолог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остно ориентированная техн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нология сотрудни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 прое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ые техн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нология уровневой дифференци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тивный способ обучения КС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овые техн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ика Базарно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четная систе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дульное обу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аптивные техн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зарный Владимир Филиппович (1942г.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66720" y="1066320"/>
            <a:ext cx="4419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чёный, врач, музыкант и педагог-новатор, доктор медицинских наук, профессор, академик Академии творческой педагогики. Основатель нового направления в науке- здоровьеразвивающей педагоги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ссылка на XPOHOC"/>
          <p:cNvPicPr/>
          <p:nvPr/>
        </p:nvPicPr>
        <p:blipFill>
          <a:blip r:embed="rId1"/>
          <a:stretch/>
        </p:blipFill>
        <p:spPr>
          <a:xfrm>
            <a:off x="380880" y="1371600"/>
            <a:ext cx="3676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оциально – психологические факторы рис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ессовая тактика педагогических воздейств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есс ограниченного врем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нсификация и нерациональная организация учеб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системной комплексной работы по формированию ценности здоровья и здорового образа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зкая квалификация педагогов в вопросах возрастной физиологии, психологии, охраны здоровья студ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CYLARRW"/>
          <p:cNvPicPr/>
          <p:nvPr/>
        </p:nvPicPr>
        <p:blipFill>
          <a:blip r:embed="rId1"/>
          <a:stretch/>
        </p:blipFill>
        <p:spPr>
          <a:xfrm>
            <a:off x="7924680" y="6324480"/>
            <a:ext cx="354240" cy="3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Tahoma"/>
              </a:rPr>
              <a:t>Рациональная организация уро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отность – 60 – 8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ичество видов учебной деятельности - 4 -7 ви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должительность вида – до 10 мин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ена видов деятельности – через 7 – 10 мин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ичество видов преподавания – не менее 3-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редование видов преподавания – через 10 – 15 мин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моциональные разрядки – 2 –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ТСО в соответствии с нормами САНП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ительная эмоциональная обстано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ичие у студентов мотив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мп и особенности окончания ур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а воспитательной работы, направленной на формирование мотивации здорового образа жизн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 студент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сные ча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ни здоров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жегодно отмечаемые международные д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учно-практическая конференция «Мы выбираем здоровье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оянно действующие стен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сы рисунков, плакатов «За здоровый образ жизн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CYLARRW"/>
          <p:cNvPicPr/>
          <p:nvPr/>
        </p:nvPicPr>
        <p:blipFill>
          <a:blip r:embed="rId1"/>
          <a:stretch/>
        </p:blipFill>
        <p:spPr>
          <a:xfrm>
            <a:off x="7924680" y="6324480"/>
            <a:ext cx="354240" cy="3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074080" cy="2547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оровьесберегающие образовательные технологии можно рассматривать и как качественную характеристику любой образовательной технологии и как совокупность тех принципов, приемов, методов педагогической работы которые дополняют традиционные технологии обучения, воспитания, развития задачами здоровьесбере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476360" y="3284640"/>
            <a:ext cx="2232000" cy="358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а - миним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940360" y="3213000"/>
            <a:ext cx="223200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а - оптим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187280" y="4292640"/>
            <a:ext cx="288000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ение так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ловий обуч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ния, развит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орые не оказываю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гативного воздейств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здоровье учащих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076720" y="3933720"/>
            <a:ext cx="3600720" cy="25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ает не тольк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храну здоровья учащихс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 и формирование, укреп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х здоровья, воспита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них культуры здоровья 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же охрану здоровь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дагогов и содействия им 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емлении грамотно заботиться 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оем здоровь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7"/>
          <p:cNvSpPr/>
          <p:nvPr/>
        </p:nvSpPr>
        <p:spPr>
          <a:xfrm>
            <a:off x="2556000" y="3645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8"/>
          <p:cNvSpPr/>
          <p:nvPr/>
        </p:nvSpPr>
        <p:spPr>
          <a:xfrm>
            <a:off x="7093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AutoShap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3200400" y="0"/>
              <a:ext cx="3504960" cy="525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Здоровье сберегающие технологи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1371600" y="1581840"/>
              <a:ext cx="2438640" cy="52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рганизационны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6095520" y="1581840"/>
              <a:ext cx="2590920" cy="701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едагогические или психолого-педагогически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1371600" y="2637000"/>
              <a:ext cx="2438640" cy="1054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здают условия безопасного для здоровья обучени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457200" y="4219560"/>
              <a:ext cx="1522800" cy="1406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МГ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едико-гигиенические технологии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1675080" y="4219560"/>
              <a:ext cx="1525320" cy="14068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О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Физкультурно-оздоровительные технологии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915120" y="5274360"/>
              <a:ext cx="1676160" cy="15832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ЭЗ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Экологические здоровьесберегающие технологии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286000" y="5274360"/>
              <a:ext cx="1981800" cy="1583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ОБЖ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Технологии обеспечения безопасности жизнедеятельности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894760" y="4044240"/>
              <a:ext cx="1829520" cy="1580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ЗО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Здоровьесберегающие</a:t>
              </a: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бразовательные технологии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 flipH="1">
              <a:off x="1371600" y="3691800"/>
              <a:ext cx="456480" cy="5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2438280" y="3691800"/>
              <a:ext cx="0" cy="5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3352680" y="3691800"/>
              <a:ext cx="30420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>
              <a:off x="2438280" y="2109600"/>
              <a:ext cx="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>
              <a:off x="6095520" y="2637000"/>
              <a:ext cx="2590920" cy="1582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ключают все аспекты воздействия учителя на здоровье ученика на информационном, психологическом и биоэнергетическом уровнях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7315200" y="2286360"/>
              <a:ext cx="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 flipH="1">
              <a:off x="2438280" y="527040"/>
              <a:ext cx="1676160" cy="10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5791320" y="527040"/>
              <a:ext cx="1523880" cy="10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21"/>
            <p:cNvSpPr/>
            <p:nvPr/>
          </p:nvSpPr>
          <p:spPr>
            <a:xfrm>
              <a:off x="5180040" y="4746960"/>
              <a:ext cx="1370520" cy="879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Здоровьесберегающая педагогика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22"/>
            <p:cNvSpPr/>
            <p:nvPr/>
          </p:nvSpPr>
          <p:spPr>
            <a:xfrm>
              <a:off x="7467480" y="4746960"/>
              <a:ext cx="1370520" cy="88056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едагогика сотрудничества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23"/>
            <p:cNvSpPr/>
            <p:nvPr/>
          </p:nvSpPr>
          <p:spPr>
            <a:xfrm>
              <a:off x="6248880" y="4746960"/>
              <a:ext cx="1369800" cy="123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Личностно-ориентированная педагогика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Oval 24"/>
            <p:cNvSpPr/>
            <p:nvPr/>
          </p:nvSpPr>
          <p:spPr>
            <a:xfrm>
              <a:off x="7009920" y="5626440"/>
              <a:ext cx="1371960" cy="88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Адаптивная педагогика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H="1">
              <a:off x="5943240" y="4219560"/>
              <a:ext cx="6094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7009920" y="4219560"/>
              <a:ext cx="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Line 27"/>
            <p:cNvSpPr/>
            <p:nvPr/>
          </p:nvSpPr>
          <p:spPr>
            <a:xfrm>
              <a:off x="7925400" y="4219560"/>
              <a:ext cx="30420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мативно-правовые докумен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дико-гигиенические техн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хнологии охраны безопасности жизнедеяте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Физкультурно-оздоровительные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Здоровьесберегающие образовательные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Медико-гигиеническая технологи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нитарно-гигиенические требования  в общеобразовательных учреждени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80880" y="2286000"/>
            <a:ext cx="8229600" cy="442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сти в действие санитарно-эпидемиологические правила и нормативы «Гигиенические требования к условиям обучения в общеобразовательных учреждениях» с 1 сентября 2003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ответствии со ст. 28 Федерального закона «О санитарно-эпидемиологическом благополучии населения» программы, методики, режимы воспитания и обучения в части гигиенических требований допускаются к использованию при наличии санитарно-эпидемиологического заключения о соответствии их санитарным правил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щие положения и область приме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стоящие правила определяют санитарно-гигиенические требования 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участку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зданию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оборудованию помещений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оздушно-тепловому режиму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естественному и искусственному освещени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одоснабжению и канализ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помещениям и оборудованию общеобразовательных учреждений, размещенных в приспособленных здания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режиму образовательного процес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организации медицинского обслуживания обучаю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санитарному состоянию и содержанию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организации питания обучающих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YLARRW"/>
          <p:cNvPicPr/>
          <p:nvPr/>
        </p:nvPicPr>
        <p:blipFill>
          <a:blip r:embed="rId1"/>
          <a:stretch/>
        </p:blipFill>
        <p:spPr>
          <a:xfrm>
            <a:off x="7924680" y="6324480"/>
            <a:ext cx="354240" cy="3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Технология охраны </a:t>
            </a:r>
            <a:br>
              <a:rPr sz="3200"/>
            </a:b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безопасности </a:t>
            </a:r>
            <a:br>
              <a:rPr sz="3200"/>
            </a:b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жизнедеятельности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80880" y="1905120"/>
            <a:ext cx="535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авной целью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правления охраной труд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 целом обеспечение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опасности жизнедеятельност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истеме образования явл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819520" y="434340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хранение жизни и здоровья воспитанников, обучающихся и работающих в процессе труда, обучения, воспитания и организованного отды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Физкультурно-оздоровительные технологии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варительная диагнос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омплекс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оцен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состояния здоровья и физического развития с определением функциональных резервных возможност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организм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8"/>
          <p:cNvPicPr/>
          <p:nvPr/>
        </p:nvPicPr>
        <p:blipFill>
          <a:blip r:embed="rId1"/>
          <a:stretch/>
        </p:blipFill>
        <p:spPr>
          <a:xfrm>
            <a:off x="457200" y="3733920"/>
            <a:ext cx="4419720" cy="30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а оздоровительной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ое развит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а медицинского обслужив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лекс закаливающих мероприят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я рационального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rt</cp:lastModifiedBy>
  <dcterms:modified xsi:type="dcterms:W3CDTF">2022-11-09T10:17:2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