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7E1E7-C9C4-4576-9A98-370F4C3D56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8084B-5978-4C3D-BCE3-99371349E7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-14225760" y="-11798280"/>
            <a:ext cx="16644960" cy="12484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9B9816-3632-4041-9977-C4BC2241E2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есколько советов на будущее, как удержать деньги в кошельк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в сумму, сразу не тратьте из нее ни копейки по крайне мере сутки, дайте деньгам «переночевать» в вашем кошельке. Утром вы спокойнее уже будете относиться к деньгам, не испытывая неопределимого желания трати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ьги к деньгам. Поэтому никогда не держите кошелек пустым. Пусть хоть монетка, но лежит в н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дите своеобразный «финансовый оберег», который вы вполне можете зарядить сами. Например, купите маленькую собачку брелок и таскайте его с собой думая: «Она охраняет мои деньги, чтобы не разбежалис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 занимайте деньги в понедельник и не отдавайте долг в пятниц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е, чтобы не было дырок в карма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ладите все яйца в одну корзину. Не носите всю сумму с собой, оставьте, часть д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7F96FA-7EC6-4DA7-B7A7-E26E3A19EF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-14225760" y="-11798280"/>
            <a:ext cx="16644960" cy="12484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89F89C-6FF6-4D3C-A96E-058B1C31FB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798B55-F1AB-4998-82E5-AB7EDB77F2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D577E7-D494-46AE-87FA-6098D6347C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4225760" y="-11798280"/>
            <a:ext cx="16644960" cy="12484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2834F0-5148-4399-9C35-7E9FE9F2BC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7B466-F488-45AC-B557-A168D499C1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A99-12DD-45B2-AAF1-C046C0F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13B-3A5D-4EA2-AB49-358976A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6E0-1192-47D0-8348-B255088C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B86-9CC1-4AD0-9309-78DEDF4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375-C129-46FC-B597-4E2826F5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E64-77BB-481A-8156-3BA1236C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E9F-A13B-4798-A96A-A7B4ABE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B97-A5D0-443E-8B44-92251D6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74A-5C21-4C4C-9109-A544F69B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367-AFDB-4CE9-8D11-AF44763C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71-B666-4477-9581-9E042A3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50B-546B-4DB0-B30B-AB1A5D0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F1CD8F-26F8-42D5-8E2E-B27B2BE77C7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-746280"/>
            <a:ext cx="82202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5720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6884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6884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720720" y="369720"/>
            <a:ext cx="7920000" cy="611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меете ли вы трат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еньги с умо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72400" cy="551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ам не хватает денег, которые дают вам родители или частенько приходится одалживать у друзей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ватает как раз на то время, что я рассчитываю  (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Иногда приходится занимать (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В свой бюджет никак не укладываюсь 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прос № 2.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наете ли вы, сколько вам надо денег на питание в месяц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а, знаю (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Знаю, но приблизительно (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Не знаю 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прос № 3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 увидели в магазине ценную вещь, которую искали долго, но денег на покупку не хватает. Отложите на полчаса товар и побежите за деньгами. Куд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Домой или сберегательную кассу (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К знакомым чтобы взять деньги в долг, без твердой уверенности в том, как и когда вы отдадите долг. 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 друзьям, чтобы одолжить без точного срока возврата (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прос № 4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Купив долгожданную вещь, пригодится она или нет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Давно искали, чтобы купить (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Покупка оказалась совсем неожиданной, но удачной (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Неудачная покупка. Вещь лежит без употребления  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020000" y="58770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ЛЮЧ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тест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люч тест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Умеете ли вы тратить деньги с ум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е 5 очк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ы умеете правильно расходовать день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-5 очк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ам следует подучиться искусству тратить день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нее 4 очк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рочно заведите тетрадь учета расх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4">
            <a:hlinkClick r:id="" action="ppaction://hlinkshowjump?jump=previousslide"/>
          </p:cNvPr>
          <p:cNvSpPr/>
          <p:nvPr/>
        </p:nvSpPr>
        <p:spPr>
          <a:xfrm>
            <a:off x="32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4760"/>
            <a:ext cx="8228160" cy="411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ить свой бюджет школьник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 февраль месяц 2014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 любой форм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пределить вид вашего бюдж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-655560"/>
            <a:ext cx="82202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66884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66884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5720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71400" y="720720"/>
            <a:ext cx="7969320" cy="575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4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Писаревская Т.П. Бага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"/>
          <p:cNvSpPr/>
          <p:nvPr/>
        </p:nvSpPr>
        <p:spPr>
          <a:xfrm rot="21420000">
            <a:off x="1763280" y="1341360"/>
            <a:ext cx="532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емейны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юджет.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28600" y="990720"/>
            <a:ext cx="830592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DejaVu Sans"/>
              </a:rPr>
              <a:t>Цель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DejaVu Sans"/>
              </a:rPr>
              <a:t>способствовать формированию знаний и умений по планированию семейного  бюджет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504800" y="3114720"/>
            <a:ext cx="53294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-655560"/>
            <a:ext cx="82202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668840" y="144792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66884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" y="3807000"/>
            <a:ext cx="4011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509760" y="360360"/>
            <a:ext cx="8248320" cy="61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68360" y="0"/>
            <a:ext cx="8183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07f09"/>
                </a:solidFill>
                <a:latin typeface="Arial"/>
              </a:rPr>
              <a:t>Семейный бюдж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79280" y="1628640"/>
            <a:ext cx="871380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431640" indent="-323640" algn="ctr">
              <a:lnSpc>
                <a:spcPct val="100000"/>
              </a:lnSpc>
              <a:spcBef>
                <a:spcPts val="249"/>
              </a:spcBef>
              <a:buClr>
                <a:srgbClr val="0066c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оходы и расходы семьи за определенный период врем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делю, месяц, год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ходы                             Расх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нежные поступления семьи)      (затраты денеж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средств в семье)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 rot="2520000">
            <a:off x="1868040" y="2960640"/>
            <a:ext cx="457200" cy="916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 rot="19500000">
            <a:off x="6734160" y="2960280"/>
            <a:ext cx="457200" cy="916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680000" y="1260360"/>
            <a:ext cx="1440" cy="540000"/>
          </a:xfrm>
          <a:prstGeom prst="line">
            <a:avLst/>
          </a:prstGeom>
          <a:ln w="72000">
            <a:solidFill>
              <a:srgbClr val="ff95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8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878de"/>
                </a:solidFill>
                <a:latin typeface="Tahoma"/>
              </a:rPr>
              <a:t>Заполните основу листа со «Спискам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907920"/>
          <a:ext cx="8228160" cy="4846680"/>
        </p:xfrm>
        <a:graphic>
          <a:graphicData uri="http://schemas.openxmlformats.org/drawingml/2006/table">
            <a:tbl>
              <a:tblPr/>
              <a:tblGrid>
                <a:gridCol w="2743200"/>
                <a:gridCol w="650880"/>
                <a:gridCol w="1512720"/>
                <a:gridCol w="578160"/>
                <a:gridCol w="274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сок статей доходов семь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сок причин неравенства доходо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сок статей расходов семь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МЕЙНЫЙ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ЮДЖ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исок того, что я могу сделать для увеличения доходов семь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исок того, что я могу сделать для снижения расходов семь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62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вспомним все виды доходов, которые могут поступать в семейный бюджет и расходов, которые  тратятся отту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2060640"/>
          <a:ext cx="8642160" cy="4305240"/>
        </p:xfrm>
        <a:graphic>
          <a:graphicData uri="http://schemas.openxmlformats.org/drawingml/2006/table">
            <a:tbl>
              <a:tblPr/>
              <a:tblGrid>
                <a:gridCol w="2732040"/>
                <a:gridCol w="5910120"/>
              </a:tblGrid>
              <a:tr h="46044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. (эта графа заполняется в конце месяц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1932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я, стипендия, гонорар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, прибыль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плата.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   (секции, кружки, детский сад)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, питан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, обувь, культурный досуг, лечен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ешествия(отпуск)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ель, бытовая техник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актическо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04760"/>
            <a:ext cx="8228160" cy="32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Расчитать семейный бюджет за месяц, используя таблицу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Определить вид семейного бюджета и наметить пути его регулир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Защ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8:47Z</dcterms:created>
  <dc:creator>user</dc:creator>
  <dc:description/>
  <dc:language>en-US</dc:language>
  <cp:lastModifiedBy>Serova</cp:lastModifiedBy>
  <dcterms:modified xsi:type="dcterms:W3CDTF">2015-01-15T08:51:33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