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2865-3FEC-467B-A8BA-2A5987F75B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A16E-F2DF-4EC2-825D-D9F9FC40C4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отвечают на вопросы предыдущего слайда и заполняется сравнительная табл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70D8-D338-4B00-AE8C-DD1F845EFE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0C75-3F78-49BB-A91B-037CB352F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D5E-EB1D-4EB8-8DDF-27472F75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183-78AA-4805-BA4F-5E7249C7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E17-047B-43EC-BF54-13918421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D21-2574-4B9E-BAD1-360E55DD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DF7-5C93-45C6-8CD7-3A3BF5B9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8A4-3AF0-4D59-A8D5-482CA7E2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C0A-19A8-4E11-80AA-79950A2C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DDD-3234-457D-A9FC-ABB7A13D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FD5-1F57-4F64-AB67-DA712E7E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E2E-E3D7-4639-AA14-0641FFC2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B18-51E1-40D6-B635-5C0EB231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2484-EFF8-4388-883D-BA3857CE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1605-873C-4912-B842-67D9AF94D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Родительское собрание №1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99640" y="2636640"/>
            <a:ext cx="7417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дап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яти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8"/>
          <p:cNvPicPr/>
          <p:nvPr/>
        </p:nvPicPr>
        <p:blipFill>
          <a:blip r:embed="rId1"/>
          <a:stretch/>
        </p:blipFill>
        <p:spPr>
          <a:xfrm>
            <a:off x="0" y="4290840"/>
            <a:ext cx="48243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eople1840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ое условие школьного успеха пятиклассника — безусловное принятие ребенка, несмотря на те неудачи, с которыми он уже столкнулся или может столкну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ас, что-то беспокоит в поведении ребенка, постарайтесь, как можно скорее встретиться и обсудить это с классным руководителем или психоло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семье произошли какие то события, повлиявшие на психологическое состояние ребенка (развод, отъезд в долгую командировку кого-то из родителей, рождение еще одного ребенка и тд.) сообщите об этом классному руководит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являйте интерес к школьным делам, обсуждайте сложные ситуации, вместе ищите выход из конфли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ледует сразу ослаблять контроль за учебной деятельностью ребенка, если в период начальной школы он привык к вашему контр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, запугивания, критики в адрес ребенка, особенно в присутствии других людей (бабушек, дедушек, сверс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ение таких мер наказания, как лишение удовольствий, физические и психические наказ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ощрение ребенка, и не только за учебные успехи. Моральное стимулирование достижений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105264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ятиклассника непременно должны быть домашние обязанности, за выполнение которых он несет ответств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ятиклассника учитель – уже не такой непререкаемый авторитет, как раньше, в адрес учителей могут звучать критические замечания. Важно обсудить с ребенком причины его недовольства, поддерживая при этом авторитет уч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омочь ребе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Обращайте внимание на настроение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Искренне интересуйтесь делами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Проводите время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Будьте готовы к переме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Подчёркивайте изменившийся стат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14400" y="837720"/>
            <a:ext cx="7650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13716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119400" y="907920"/>
            <a:ext cx="5856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Всё начинается с любв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И озаренье, и рабо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Глаза цветов, глаза ребёнк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Всё начинается с любв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                    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Р. Рождеств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http://s57.radikal.ru/i157/1005/cf/534b1d3f6196.png"/>
          <p:cNvPicPr/>
          <p:nvPr/>
        </p:nvPicPr>
        <p:blipFill>
          <a:blip r:embed="rId1"/>
          <a:stretch/>
        </p:blipFill>
        <p:spPr>
          <a:xfrm>
            <a:off x="1219320" y="3124080"/>
            <a:ext cx="373356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стка собр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аптация пятиклассников к новым условиям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ке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ы родительского комит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755640" y="404640"/>
            <a:ext cx="81532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4500" spc="-1" strike="noStrike">
                <a:solidFill>
                  <a:srgbClr val="f42f20"/>
                </a:solidFill>
                <a:latin typeface="Times New Roman"/>
              </a:rPr>
              <a:t>Представьте себе ситуацию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Вы сменили работу и оказались в незнакомом коллектив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ие чувства вы испытываете в первое время на новом месте?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8524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03280" y="1461960"/>
            <a:ext cx="813744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едставьте себя на месте ребят, пришедших в 5-й класс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 какими трудностями могут встретиться дети, придя в 5 клас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родител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82196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учебных предметов изучалось Вашим ребёнком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недельная учебная нагрузка была у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учителей обучало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времени в среднем тратил Ваш ребёнок на подготовку домашних заданий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0233964"/>
          <p:cNvPicPr/>
          <p:nvPr/>
        </p:nvPicPr>
        <p:blipFill>
          <a:blip r:embed="rId1"/>
          <a:stretch/>
        </p:blipFill>
        <p:spPr>
          <a:xfrm>
            <a:off x="468360" y="115920"/>
            <a:ext cx="19447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равнительная таб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197000"/>
          <a:ext cx="8351640" cy="5151240"/>
        </p:xfrm>
        <a:graphic>
          <a:graphicData uri="http://schemas.openxmlformats.org/drawingml/2006/table">
            <a:tbl>
              <a:tblPr/>
              <a:tblGrid>
                <a:gridCol w="815760"/>
                <a:gridCol w="3456000"/>
                <a:gridCol w="4079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10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6"/>
          <p:cNvSpPr/>
          <p:nvPr/>
        </p:nvSpPr>
        <p:spPr>
          <a:xfrm flipV="1">
            <a:off x="6072120" y="264312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6143760" y="5000760"/>
            <a:ext cx="107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2928960" y="4929120"/>
            <a:ext cx="1440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 flipV="1">
            <a:off x="3000240" y="2642760"/>
            <a:ext cx="1224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 rot="19983000">
            <a:off x="5694480" y="2285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 rot="2227800">
            <a:off x="6158880" y="411624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виды домашн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 rot="19745400">
            <a:off x="2751480" y="42541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я числа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 rot="2217600">
            <a:off x="2896920" y="2391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бинет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нения в школьной жизни пятиклас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7" descr="j0301252"/>
          <p:cNvPicPr/>
          <p:nvPr/>
        </p:nvPicPr>
        <p:blipFill>
          <a:blip r:embed="rId1"/>
          <a:stretch/>
        </p:blipFill>
        <p:spPr>
          <a:xfrm>
            <a:off x="7219800" y="1521000"/>
            <a:ext cx="1387800" cy="1431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MCj04109170000[1]"/>
          <p:cNvPicPr/>
          <p:nvPr/>
        </p:nvPicPr>
        <p:blipFill>
          <a:blip r:embed="rId2"/>
          <a:stretch/>
        </p:blipFill>
        <p:spPr>
          <a:xfrm>
            <a:off x="7500960" y="4929120"/>
            <a:ext cx="1467000" cy="1447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MPj04092860000[1]"/>
          <p:cNvPicPr/>
          <p:nvPr/>
        </p:nvPicPr>
        <p:blipFill>
          <a:blip r:embed="rId3"/>
          <a:stretch/>
        </p:blipFill>
        <p:spPr>
          <a:xfrm>
            <a:off x="1143000" y="4573440"/>
            <a:ext cx="1492200" cy="1492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7" descr="MPj03961460000[1]"/>
          <p:cNvPicPr/>
          <p:nvPr/>
        </p:nvPicPr>
        <p:blipFill>
          <a:blip r:embed="rId4"/>
          <a:stretch/>
        </p:blipFill>
        <p:spPr>
          <a:xfrm>
            <a:off x="1071720" y="150012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8" descr="MCj03981530000[1]"/>
          <p:cNvPicPr/>
          <p:nvPr/>
        </p:nvPicPr>
        <p:blipFill>
          <a:blip r:embed="rId5"/>
          <a:stretch/>
        </p:blipFill>
        <p:spPr>
          <a:xfrm>
            <a:off x="4429080" y="3357720"/>
            <a:ext cx="1584360" cy="14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1128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много разных уч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ивычное распис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й классный руководит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осший темп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осший объем работ в классе и д/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сть на каждом уроке приспосабливаться к своеобразном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у, особенностям речи учителей;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зменения в 5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ена пози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тарший» в началь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амый маленький» в средне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4"/>
          <p:cNvSpPr/>
          <p:nvPr/>
        </p:nvSpPr>
        <p:spPr>
          <a:xfrm>
            <a:off x="4286160" y="3214800"/>
            <a:ext cx="714600" cy="100008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72bfc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Timon\Local Settings\Temporary Internet Files\Content.IE5\9O6JMAA5\MC900349103[1].wmf"/>
          <p:cNvPicPr/>
          <p:nvPr/>
        </p:nvPicPr>
        <p:blipFill>
          <a:blip r:embed="rId1"/>
          <a:stretch/>
        </p:blipFill>
        <p:spPr>
          <a:xfrm>
            <a:off x="7715160" y="2571840"/>
            <a:ext cx="1249560" cy="19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Мама</dc:creator>
  <dc:description/>
  <dc:language>en-US</dc:language>
  <cp:lastModifiedBy>user</cp:lastModifiedBy>
  <dcterms:modified xsi:type="dcterms:W3CDTF">2022-09-15T08:34:16Z</dcterms:modified>
  <cp:revision>222</cp:revision>
  <dc:subject/>
  <dc:title>Родительское собрание в 5 классе</dc:title>
</cp:coreProperties>
</file>