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915-CABC-4AF1-B272-AFAFBC38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790-1E24-4356-A8F3-6CDE1B96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6CA-B155-4470-83EA-A5DE6DFD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4D8-1008-4B57-A555-9ACFCE6E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9868-942B-47DE-9D6F-9003C5C6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AD3D-3E8F-4B5C-8666-BED63333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55DE-6306-4C06-938F-3BC2A78A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6AB6-0532-405C-ABA3-B89EE99B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C822-605B-4092-84B0-BE2B89D9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C271-C912-46A0-A980-8600C9E4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EDC1-DC0C-457C-87D7-7DA4450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72F-2FB6-43D3-860A-1253F302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6DCB-D611-403A-8F50-EF830058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BA5C-77A3-4954-9206-42090F76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2AA1-204E-422A-B455-BD216B09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BEAD-1599-4549-94A3-208C71BA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3142-2C02-471E-AD84-EA18C543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454C7-4815-43A7-B17D-62E45394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D667-701E-4557-A09F-72277CCA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13A9-CB3D-41B3-AB09-AFEDD2B9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A067-04B1-424D-9B33-E9AC8DD1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E19B-2C80-4A5E-8F40-0EE457D7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D2D-5BBC-411D-8127-462AA0BA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C705-E873-42E4-8A9C-DB8FCBC2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4384-5D13-4C95-87E5-FA7A5C9C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0D5FC-CB9F-4F2D-99C5-D6676669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37D2-4511-484E-96B1-C1F3015E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69DF6-9A31-4656-B3C9-37448DFB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34D40-E3C9-4C53-9D88-8017F439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1FA9-AE2D-40E4-A6CF-D23C390D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715DC-72D2-469D-82BD-96517873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7780F-44BD-4579-A700-DCEC3821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B2D45-F25B-4EAC-8228-1BD7879B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51B-2E1A-48D6-9A0A-DC47CEEE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7DACD-8A06-418E-A54A-7C0ED1EF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2B40C-DC3D-4326-979D-AC79E64B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05197-1437-426E-A5AA-9EA92B75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3609F-1D44-4DE8-945F-F8203814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E3454-F3FD-42EF-B7C7-20A8D096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DBF65-D561-418D-98B8-FCE3194B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3293-1A11-4AAC-A396-6404A876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C0E1E-32E9-4933-AB96-8C625522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A784F-6225-45D4-BCB0-354957E5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63C88-A4D0-431E-8605-3FBB641A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6BE-1860-42E0-A838-559426F5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FF884-12BD-434C-91AF-792D83E6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96325-AECF-492B-B49D-A097DBE3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3BF19-F928-4D7B-BF6B-9D1FC36E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CB673-3E04-4F85-B21E-2D16E342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3420-EFDA-4BD5-A306-F47BB74F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A58D1-B37C-4B66-9652-4095AE95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4193F-9CDE-44E1-A546-01643C0E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BE52D-544E-48CC-98A8-CE5711AF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DCAA7-A68E-4A57-BDA8-16317952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EE784-3596-4C78-8512-7440E9E3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00C-441F-4390-8C8C-4494BF0D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D9A31-CF06-41A6-B406-7E7A2C86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43FA5-6C01-434C-AE28-E1D72324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4CD96-5B34-4477-977D-DCDB41EC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184A8-018E-4E5A-9391-B6FD6309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21749-CC3E-44F8-A309-79049938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BC3C-C337-43C0-8097-2DED6858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6BA78-82DB-467E-9CFF-ED66A42D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DB8FF-BE02-4714-A537-D792354C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0B525-D856-41E9-9A7C-C5FE1895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A8DD2-7B3E-4209-AFB1-9C35AB7C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F2D-5AEC-481D-9905-B90A0433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F67B2-4F83-4FF0-8862-C8A8A98E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92809-49D7-40A3-947A-A12DF3BC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D73C1-7F2E-45D4-B712-49E8F890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B6691-C8BB-4D44-B31A-29CFB8B3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149F6-78C6-4843-A643-A5EE74CD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07990-8D5F-4D2A-AD2A-77FB0D27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4D97E-42CA-4D85-8CE2-2636C7F7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41437-59FF-47C5-A85E-EE2A33CB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997E8-A5EE-449B-8CC4-7480F4ED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E102E-C7A3-44CE-A4F8-5337EA03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4C1-FF58-4059-8650-15F87688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5D5CA-E2F5-419A-86CE-6B535719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1B76D-9A8D-4E78-A7F2-18C2E820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73416-3752-4B21-991C-1987DAB0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9207E-5005-44EE-BB2E-865964AE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59074-9F5E-44B8-86E1-15286EEF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678-E98F-4737-9908-ECFAE0A3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0463-91CB-420D-BD1B-E794715310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8FE1-F31D-4671-BB56-E7A5C420B57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C402-2373-4061-BF37-AC3D886D2B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85DB-F47A-4552-88B9-D75EE87847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EFD6-31BA-429B-89D3-20D9AE81768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D67F-B6CD-473F-AA90-13AC2EBF76E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99BC-465C-46E6-9C2A-08AD053CB03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772400" cy="35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ИТОГОВЫЙ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 ТЕСТ ПО ФИЗИКЕ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11 КЛАС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3500"/>
            </a:b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9. На рисунке изображена электрическая цепь. Что произойдет с лампочками после замыкания ключа? 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5086440" y="2023920"/>
            <a:ext cx="4070160" cy="194472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4"/>
          <p:cNvSpPr/>
          <p:nvPr/>
        </p:nvSpPr>
        <p:spPr>
          <a:xfrm>
            <a:off x="1116000" y="2997360"/>
            <a:ext cx="439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бе лампочки загорятся одновременно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начала загорится первая лампочк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начала загорится вторая лампочк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87280" y="90792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0. Какая энергия превращается в электрическую на ветроэлектростанциях?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115640" y="2060280"/>
            <a:ext cx="7777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инетическая энергия движущейся во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4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Внутренняя энергия топли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Кинетическая энергия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ущегося воздух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4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Солнечная энерг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920" y="3789000"/>
            <a:ext cx="77263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1.  Какие из колебаний, графики которых приведены на рисунке, являются колебаниями несущей частоты?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900000" y="403200"/>
            <a:ext cx="7417080" cy="295452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3"/>
          <p:cNvSpPr/>
          <p:nvPr/>
        </p:nvSpPr>
        <p:spPr>
          <a:xfrm>
            <a:off x="3419640" y="504180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12. Какое из перечисленных излучений имеет самую низкую частоту?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908000" y="2421000"/>
            <a:ext cx="67788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Ультрафиолетовые лучи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нфракрасные луч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идимый свет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диовол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6920" y="90756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39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3. Как называется устройство для превращения видеосигнал в видимое изображение?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484000" y="2781000"/>
            <a:ext cx="6202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д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сто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ско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оноскоп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58196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4.  Передатчик радиолокатора работает в импульсном режиме. Длительность промежутка между импульсами: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258560" y="2637000"/>
            <a:ext cx="742788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здо больше длительности импульс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длительности импульс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здо меньше длительности импульс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50888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5.  Детекторный приемник принимает сигналы от радиостанции, работающей на частоте 1 МГц. На какую длину волны настроен колебательный контур радиоприемника?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771280" y="3284280"/>
            <a:ext cx="58438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м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м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0м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6.  ЭДС источника тока равна 100 В. При внешнем сопротивлении 49 Ом сила тока в цепи составила 2 А. Найдите силу тока короткого замыкания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843280" y="3141720"/>
            <a:ext cx="577224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7. Общее сопротивление двух проводников, соединенных последовательно, равно 8 Ом. Сопротивление первого равно 6 Ом. Чему равно сопротивление второго проводника?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276720" y="3500280"/>
            <a:ext cx="541008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/3 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8.  На электрической лампочке написано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 А; 6,3 В. Чему равно электрическое сопротивление лампочки?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700000" y="2852280"/>
            <a:ext cx="59864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3 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6 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6 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3 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572314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т водяной капли, обладающей электрическим зарядом  -</a:t>
            </a:r>
            <a:r>
              <a:rPr b="1" i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, отделилась маленькая капля с зарядом </a:t>
            </a:r>
            <a:r>
              <a:rPr b="1" i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+3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. Каким стал электрический заряд оставшейся части капли?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700000" y="2637000"/>
            <a:ext cx="598644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  <a:ea typeface="Times New Roman"/>
              </a:rPr>
              <a:t>  –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  <a:ea typeface="Times New Roman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orbe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  <a:ea typeface="Times New Roman"/>
              </a:rPr>
              <a:t>  – </a:t>
            </a:r>
            <a:r>
              <a:rPr b="1" lang="ru-RU" sz="4000" spc="-1" strike="noStrike">
                <a:solidFill>
                  <a:srgbClr val="000000"/>
                </a:solidFill>
                <a:latin typeface="Corbel"/>
                <a:ea typeface="Times New Roman"/>
              </a:rPr>
              <a:t>5е</a:t>
            </a:r>
            <a:r>
              <a:rPr b="1" lang="ru-RU" sz="4000" spc="-1" strike="noStrike">
                <a:solidFill>
                  <a:srgbClr val="000000"/>
                </a:solidFill>
                <a:latin typeface="Corbe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  <a:ea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  <a:ea typeface="Times New Roman"/>
              </a:rPr>
              <a:t>+ 5е</a:t>
            </a:r>
            <a:r>
              <a:rPr b="1" lang="ru-RU" sz="4000" spc="-1" strike="noStrike">
                <a:solidFill>
                  <a:srgbClr val="000000"/>
                </a:solidFill>
                <a:latin typeface="Corbe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  <a:ea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  <a:ea typeface="Times New Roman"/>
              </a:rPr>
              <a:t>+ е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39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9.  При перемещении электрического заряда в электрическом поле из точки с потенциалом 8В в точку с потенциалом 4В была совершена работа в 16 Дж. Чему равен перемещенный заряд?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203280" y="3716280"/>
            <a:ext cx="54831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К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К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br>
              <a:rPr sz="39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0.  Какой магнитный поток пронизывает плоскую поверхность площадью 80 см</a:t>
            </a:r>
            <a:r>
              <a:rPr b="1" lang="ru-RU" sz="2800" spc="-1" strike="noStrike" baseline="30000">
                <a:solidFill>
                  <a:srgbClr val="572314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при индукции магнитного поля 250 Тл, если эта поверхность перпендикулярна вектору индукции магнитного поля?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132000" y="3645000"/>
            <a:ext cx="55548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Вб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б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2 Вб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Вб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.   На чем основывается физической принцип  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лектростатической защиты?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15640" y="1557360"/>
            <a:ext cx="77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Происходит нейтрализация    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62960" indent="-46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противоположных по знаку электрических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62960" indent="-46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зарядов в проводящем приспособлении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62960" indent="-462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Электрический заряд находиться на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62960" indent="-46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поверхности проводник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62960" indent="-462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Напряженность электрического поля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62960" indent="-46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внутри проводника равно нулю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62960" indent="-462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Происходит наведение электрического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62960" indent="-46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заряда в проводящей части приспособления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62960" indent="-462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Происходит отвод образующегося статического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62960" indent="-46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заряд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62960" indent="-46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6000" y="610920"/>
            <a:ext cx="772488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 На рисунке изображена электрическая цепь. Течет ли ток в данной цепи? Будет ли течь ток в этой цепи, если полярность источника тока сменить на противоположную?</a:t>
            </a:r>
            <a:br>
              <a:rPr sz="35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3922560" y="2421000"/>
            <a:ext cx="5256360" cy="381960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3"/>
          <p:cNvSpPr/>
          <p:nvPr/>
        </p:nvSpPr>
        <p:spPr>
          <a:xfrm>
            <a:off x="1476360" y="2637000"/>
            <a:ext cx="36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Да. Да.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Да. Нет.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ет. Да.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ет. Нет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72928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4. Как называется выделение на электродах веществ, входящих в состав электролита?</a:t>
            </a:r>
            <a:br>
              <a:rPr sz="3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692000" y="2349000"/>
            <a:ext cx="6994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тическая диссоциа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электронная эмисс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ная иониза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416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3500"/>
            </a:b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5. </a:t>
            </a:r>
            <a:r>
              <a:rPr b="1" lang="ru-RU" sz="25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Какую проводимость получают при добавлении в германий, в качестве примеси, мышьяка?</a:t>
            </a:r>
            <a:br>
              <a:rPr sz="3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835280" y="2637000"/>
            <a:ext cx="685152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у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рочну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у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у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4372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6.  Вектор индукции однородного магнитного поля направлен вертикально вверх. Как будет двигаться первоначально неподвижный электрон в этом поле? Влияние силы тяжести не учитывать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050560" y="2997000"/>
            <a:ext cx="663588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Равномерно ввер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Равномерно вни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Равноускоренно ввер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Равноускоренно вни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Останется неподвижны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79796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3500"/>
            </a:b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7</a:t>
            </a:r>
            <a:r>
              <a:rPr b="0" lang="ru-RU" sz="3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. </a:t>
            </a: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 вращении рамки в магнитном поле на ее концах возникает ЭДС, изменяющаяся со временем по закону : е=10sin 8 t. Чему равно максимальное значение ЭДС, если все величины в уравнении даны в системе СИ? 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771640" y="3500280"/>
            <a:ext cx="57708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В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В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В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58196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8. Какое физическое явление использовано в принципе действия электрических генераторов?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692000" y="2349000"/>
            <a:ext cx="6994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Ампе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магнитная индук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индук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индуктивности катуш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8560" indent="-51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9T12:35:25Z</dcterms:created>
  <dc:creator>Ирина</dc:creator>
  <dc:description/>
  <dc:language>en-US</dc:language>
  <cp:lastModifiedBy>дом</cp:lastModifiedBy>
  <dcterms:modified xsi:type="dcterms:W3CDTF">2022-11-10T15:03:57Z</dcterms:modified>
  <cp:revision>9</cp:revision>
  <dc:subject/>
  <dc:title>ИТОГОВЫЙ ТЕСТ ПО ФИЗИКЕ  11 КЛАСС</dc:title>
</cp:coreProperties>
</file>