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80C-C8B2-42DC-BF66-525F7EB9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9F3-B7E1-4A72-BC3F-BAAD1DD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2AE-116D-475A-82D8-8BAA4D60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005-BFB5-434B-BAF8-7665D6DA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19C-5642-4D01-A45F-A85F99FB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100-62CF-4EB3-B527-F8CF89D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259-437D-43D2-9088-B44616AB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BBD-6A86-476B-9B1D-CAC3C1E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941-6BDC-4EB9-BC06-8A17EFE0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FB4-D1EE-49BE-9650-109C047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DD0-CBD7-4AB3-A826-0512398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74D-B0EC-4852-BC4B-DC6E55F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ADEE-FC1A-42F9-A393-C55849FFA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s://cloud.mail.ru/public/pVvV/S4KuJm2SQ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ипликационные технологии как средство развития связной речи детей с О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й сад «Светляч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haveirr"/>
          <p:cNvPicPr/>
          <p:nvPr/>
        </p:nvPicPr>
        <p:blipFill>
          <a:blip r:embed="rId1"/>
          <a:stretch/>
        </p:blipFill>
        <p:spPr>
          <a:xfrm>
            <a:off x="0" y="0"/>
            <a:ext cx="961920" cy="201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5867280" y="41911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абин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овьева О.В. Фоменк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3526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овка, 202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 диагностики развития связной речи на начало 2019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Диаграмма 5" descr=""/>
          <p:cNvPicPr/>
          <p:nvPr/>
        </p:nvPicPr>
        <p:blipFill>
          <a:blip r:embed="rId1"/>
          <a:stretch/>
        </p:blipFill>
        <p:spPr>
          <a:xfrm>
            <a:off x="406440" y="1346040"/>
            <a:ext cx="8407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: создание благоприятных условий, способствующих успешному развитию связной речи в процессе создания и озвучивания мультипликационного фильм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Активизация процесса восприятия лексического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Развитие лексико-грамматических средств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Развитие  интонационной стороны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1110524\Desktop\Новая папка (2)\IMG_20201201_093112.jpg"/>
          <p:cNvPicPr/>
          <p:nvPr/>
        </p:nvPicPr>
        <p:blipFill>
          <a:blip r:embed="rId1"/>
          <a:stretch/>
        </p:blipFill>
        <p:spPr>
          <a:xfrm>
            <a:off x="457200" y="12952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1110524\Desktop\Новая папка (2)\IMG_20201201_095330.jpg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1110524\Desktop\Новая папка (2)\IMG_20201201_095912.jpg"/>
          <p:cNvPicPr/>
          <p:nvPr/>
        </p:nvPicPr>
        <p:blipFill>
          <a:blip r:embed="rId3"/>
          <a:stretch/>
        </p:blipFill>
        <p:spPr>
          <a:xfrm>
            <a:off x="3048120" y="373392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1110524\Desktop\Новая папка (2)\IMG_20201201_100501.jpg"/>
          <p:cNvPicPr/>
          <p:nvPr/>
        </p:nvPicPr>
        <p:blipFill>
          <a:blip r:embed="rId1"/>
          <a:stretch/>
        </p:blipFill>
        <p:spPr>
          <a:xfrm>
            <a:off x="609480" y="304920"/>
            <a:ext cx="3429000" cy="396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1110524\Desktop\Новая папка (2)\IMG_20201201_100746_BURST001_COVER.jpg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396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1110524\Desktop\Новая папка (2)\IMG_20201201_102056_BURST001_COVER.jpg"/>
          <p:cNvPicPr/>
          <p:nvPr/>
        </p:nvPicPr>
        <p:blipFill>
          <a:blip r:embed="rId3"/>
          <a:stretch/>
        </p:blipFill>
        <p:spPr>
          <a:xfrm>
            <a:off x="2438280" y="4419720"/>
            <a:ext cx="4267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1110524\Desktop\Новая папка (2)\IMG_20201202_102904.jpg"/>
          <p:cNvPicPr/>
          <p:nvPr/>
        </p:nvPicPr>
        <p:blipFill>
          <a:blip r:embed="rId1"/>
          <a:stretch/>
        </p:blipFill>
        <p:spPr>
          <a:xfrm>
            <a:off x="5486400" y="10666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1110524\Desktop\Новая папка (2)\IMG_20201203_092923.jpg"/>
          <p:cNvPicPr/>
          <p:nvPr/>
        </p:nvPicPr>
        <p:blipFill>
          <a:blip r:embed="rId2"/>
          <a:stretch/>
        </p:blipFill>
        <p:spPr>
          <a:xfrm>
            <a:off x="304920" y="914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1110524\Desktop\Новая папка (2)\IMG_20201203_102948.jpg"/>
          <p:cNvPicPr/>
          <p:nvPr/>
        </p:nvPicPr>
        <p:blipFill>
          <a:blip r:embed="rId3"/>
          <a:stretch/>
        </p:blipFill>
        <p:spPr>
          <a:xfrm>
            <a:off x="5105520" y="3505320"/>
            <a:ext cx="24382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1110524\Desktop\Новая папка (2)\IMG_20201203_102818.jpg"/>
          <p:cNvPicPr/>
          <p:nvPr/>
        </p:nvPicPr>
        <p:blipFill>
          <a:blip r:embed="rId4"/>
          <a:stretch/>
        </p:blipFill>
        <p:spPr>
          <a:xfrm>
            <a:off x="1752480" y="3560760"/>
            <a:ext cx="2514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рольный анализ результатов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330120" y="1397160"/>
            <a:ext cx="8636040" cy="52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1110524\Desktop\Новая папка (2)\IMG_20201203_103237.jpg"/>
          <p:cNvPicPr/>
          <p:nvPr/>
        </p:nvPicPr>
        <p:blipFill>
          <a:blip r:embed="rId1"/>
          <a:stretch/>
        </p:blipFill>
        <p:spPr>
          <a:xfrm>
            <a:off x="304920" y="1143000"/>
            <a:ext cx="510516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5867280" y="1523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cloud.mail.ru/public/pVvV/S4KuJm2S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1-02-09T09:23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