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238-7945-4820-B121-EA38A22D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44C-D268-4E9B-A1D7-CF157C2B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6E9-0D43-4751-8B45-A5E31111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BE6-C525-4840-BFD0-98BB67DF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BE7C-01C1-485A-89A0-F4CFBF94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3A3-2089-4C80-B2DC-1A0279B7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571-F83D-4C2F-967E-424EE435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DAA-4E6F-4535-912B-28BEDCD5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11D-D4D3-4716-9408-4AEC4E4E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E01-0783-4E99-B294-455E928F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CEE-80B6-41C2-98A6-5C40C7B8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F75-A1C0-430B-B451-88569FEE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2766B-D7FD-4A19-8975-F21D8FEEC12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erspektiva-olymp.ru/pony/main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hyperlink" Target="http://www.perspektiva-olymp.ru/pony/main" TargetMode="External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kitendo.ru/events/leo/?utm_source=yandex&amp;utm_medium=cpc&amp;utm_campaign=nachalka&amp;utm_term=176&amp;yclid=2378588897774672440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ww.kitendo.ru/events/leo/?utm_source=yandex&amp;utm_medium=cpc&amp;utm_campaign=nachalka&amp;utm_term=176&amp;yclid=2378588897774672440" TargetMode="External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yndychok-znaniy.ru/raspisaniye-meropriyatiy?_openstat=ZGlyZWN0LnlhbmRleC5ydTsxOTYyODk4MTsyMzU1MzE5MDY1O3lhbmRleC5ydTpwcmVtaXVt&amp;yclid=237871027681912921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hyperlink" Target="https://syndychok-znaniy.ru/raspisaniye-meropriyatiy?_openstat=ZGlyZWN0LnlhbmRleC5ydTsxOTYyODk4MTsyMzU1MzE5MDY1O3lhbmRleC5ydTpwcmVtaXVt&amp;yclid=2378710276819129214" TargetMode="External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ega-talant.com/olimpiada-nachalnaya-shkola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hyperlink" Target="https://mega-talant.com/olimpiada-nachalnaya-shkola" TargetMode="Externa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inger-cat.ru/olimpiady-dlya-1-4-klassov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hyperlink" Target="http://ginger-cat.ru/olimpiady-dlya-1-4-klassov" TargetMode="Externa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athkang.ru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hyperlink" Target="http://mathkang.ru/" TargetMode="External"/><Relationship Id="rId5" Type="http://schemas.openxmlformats.org/officeDocument/2006/relationships/hyperlink" Target="http://nsportal.ru/nachalnaya-shkola/matematika/2016/11/28/chto-takoe-kenguru" TargetMode="External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ianews.ru/articles/92629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hyperlink" Target="https://ianews.ru/articles/92629/" TargetMode="Externa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nodog.ru/index/2016_2017/0-9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hyperlink" Target="http://runodog.ru/index/2016_2017/0-91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rc43.ru/olimpiada-muravejnik.htm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hyperlink" Target="http://irc43.ru/olimpiada-muravejnik.html" TargetMode="Externa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лимпиады с 1 по 4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640" y="1800360"/>
            <a:ext cx="3672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ЛЬВЁ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76360" y="2684520"/>
            <a:ext cx="67676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УНДУЧОК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1840" y="1631880"/>
            <a:ext cx="4592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МЕГА-ТАЛ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7280" y="3743280"/>
            <a:ext cx="525636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РЫЖИЙ К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89680" y="3743280"/>
            <a:ext cx="28306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КЕНГУ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0360" y="4751280"/>
            <a:ext cx="972036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7826"/>
                </a:solidFill>
                <a:latin typeface="Arial"/>
              </a:rPr>
              <a:t>РУССКИЙ МЕДВЕЖО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0" y="5616720"/>
            <a:ext cx="421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ОЛОТОЕ РУ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1320" y="5759280"/>
            <a:ext cx="536904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МУРАВЕЙ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6573960"/>
            <a:ext cx="259236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О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8254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41560" y="2087640"/>
            <a:ext cx="6048360" cy="3828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11280" y="6408720"/>
            <a:ext cx="547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perspektiva-olymp.ru/pony/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118584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03640" y="3024360"/>
            <a:ext cx="5688000" cy="38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ЬВЁ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87640" y="1368360"/>
            <a:ext cx="3456000" cy="475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3280" y="6480000"/>
            <a:ext cx="9360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kitendo.ru/events/leo/?utm_source=yandex&amp;utm_medium=cpc&amp;utm_campaign=nachalka&amp;utm_term=176&amp;yclid=2378588897774672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538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УНДУЧОК ЗНА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89280" y="2519280"/>
            <a:ext cx="2935440" cy="271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92000" y="6551640"/>
            <a:ext cx="878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s://syndychok-znaniy.ru/raspisaniye-meropriyatiy?_openstat=ZGlyZWN0LnlhbmRleC5ydTsxOTYyODk4MTsyMzU1MzE5MDY1O3lhbmRleC5ydTpwcmVtaXVt&amp;yclid=2378710276819129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6094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ЕГА-ТАЛА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664000" y="2697120"/>
            <a:ext cx="4871880" cy="183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16000" y="6191280"/>
            <a:ext cx="656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s://mega-talant.com/olimpiada-nachalnaya-sh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640" y="68256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ЫЖИЙ КО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362320" y="2808360"/>
            <a:ext cx="5052960" cy="1944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76360" y="6191280"/>
            <a:ext cx="577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ginger-cat.ru/olimpiady-dlya-1-4-klass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7440" y="9363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ЕНГУР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9280" y="2664000"/>
            <a:ext cx="4608720" cy="2087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95280" y="6119640"/>
            <a:ext cx="234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mathkang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360" y="6840360"/>
            <a:ext cx="9861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nsportal.ru/nachalnaya-shkola/matematika/2016/11/28/chto-takoe-keng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7538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УССКИЙ МЕДВЕЖОН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303640" y="2592360"/>
            <a:ext cx="5479920" cy="2535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16000" y="6478560"/>
            <a:ext cx="3930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s://ianews.ru/articles/9262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969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ОЛОТОЕ РУ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095640" y="2519280"/>
            <a:ext cx="3887640" cy="316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32000" y="6551640"/>
            <a:ext cx="4943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runodog.ru/index/2016_2017/0-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9363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УРАВЕЙ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98600" y="2570040"/>
            <a:ext cx="5477040" cy="254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28720" y="6048360"/>
            <a:ext cx="5119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rc43.ru/olimpiada-muravejni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3T07:53:33Z</dcterms:created>
  <dc:creator>Ирина Гулакова</dc:creator>
  <dc:description/>
  <dc:language>en-US</dc:language>
  <cp:lastModifiedBy/>
  <cp:revision>1</cp:revision>
  <dc:subject/>
  <dc:title/>
</cp:coreProperties>
</file>