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8B95-1BBB-4D46-BA9E-E8EA32678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A5A2-E399-4648-ADD9-E33D184A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2E64-1999-4D37-899C-95FEE5523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995D-C5C3-45B6-B07F-71B2C4DDA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9F0E-6243-4178-B790-A05BE2BF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9CBB-5F24-48B4-947B-E2A3FFA5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D019-D9B2-4364-9FAF-5A1DFC9D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CBFF-0095-421D-9DCC-2C5ED444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09F4-D3D4-4E3D-B8E6-E6E77135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5059-2028-4488-B75F-7798C471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D766-75C6-4E2F-98FD-E04CA676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13FF-70D7-48E2-96C4-B98D39AE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6C63-1493-46BB-B347-3911808EAD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s1200?webp=false"/>
          <p:cNvPicPr/>
          <p:nvPr/>
        </p:nvPicPr>
        <p:blipFill>
          <a:blip r:embed="rId1"/>
          <a:stretch/>
        </p:blipFill>
        <p:spPr>
          <a:xfrm>
            <a:off x="0" y="3314880"/>
            <a:ext cx="4724280" cy="3543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origami_paper_57"/>
          <p:cNvPicPr/>
          <p:nvPr/>
        </p:nvPicPr>
        <p:blipFill>
          <a:blip r:embed="rId2"/>
          <a:stretch/>
        </p:blipFill>
        <p:spPr>
          <a:xfrm>
            <a:off x="0" y="0"/>
            <a:ext cx="5029200" cy="3346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64821d132d1da11_3757977ptichka_origami__8_"/>
          <p:cNvPicPr/>
          <p:nvPr/>
        </p:nvPicPr>
        <p:blipFill>
          <a:blip r:embed="rId3"/>
          <a:stretch/>
        </p:blipFill>
        <p:spPr>
          <a:xfrm>
            <a:off x="4724280" y="2133720"/>
            <a:ext cx="44197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topoboi"/>
          <p:cNvPicPr/>
          <p:nvPr/>
        </p:nvPicPr>
        <p:blipFill>
          <a:blip r:embed="rId1"/>
          <a:stretch/>
        </p:blipFill>
        <p:spPr>
          <a:xfrm>
            <a:off x="0" y="0"/>
            <a:ext cx="5334120" cy="3333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s1200?webp=false"/>
          <p:cNvPicPr/>
          <p:nvPr/>
        </p:nvPicPr>
        <p:blipFill>
          <a:blip r:embed="rId2"/>
          <a:stretch/>
        </p:blipFill>
        <p:spPr>
          <a:xfrm>
            <a:off x="3809880" y="3314880"/>
            <a:ext cx="533412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 урок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гами.Рыбк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 урок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ить рыбку в технике оригами из бумаг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Этапы выполнения издел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7720" y="1600200"/>
            <a:ext cx="9068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. Разметка бумаг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 заготовка фигуры рыбк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. украшение рыбк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. подбор инструментов и материалов для рабо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19T15:08:44Z</dcterms:created>
  <dc:creator>1</dc:creator>
  <dc:description/>
  <dc:language>en-US</dc:language>
  <cp:lastModifiedBy>Учетная запись Майкрософт</cp:lastModifiedBy>
  <dcterms:modified xsi:type="dcterms:W3CDTF">2022-04-20T13:38:4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