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A4D-5037-4117-AFA2-F40A285D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B2C-1E65-43AE-A081-53A5125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3C2-7D8E-4207-996C-21FFDDD1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A6C-756B-4B0D-B070-D9FF8581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DBD0-8D38-466E-9986-CB4D369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EBD4-844B-49C9-BDB4-D147FAD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FB6B-8BE0-4FE9-880A-C67F119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688A-9232-4F0B-9BA7-B7304B2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7230-8927-4A96-BCD3-D548F710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6BFD-FDB1-4157-A21A-0DC8B87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9E10-99C4-4F6D-9A15-8B8CEFD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F6D-A76F-4FE6-BFED-54CCCEE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29F-2CE3-423C-85BB-7FA8145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0AC-5C6D-4749-8504-0039F8D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4F3-EE91-4190-B25C-CD868F0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2B49-67B9-44AC-BD59-91715A10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B271-CAFE-4834-8252-D37EBC50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8C01-5159-439C-8D52-065BD768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92A5-F398-4960-ABB7-034E571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DEDF-4CE8-4929-BF5C-6C45E76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53EC-08BE-4998-B95A-574DA40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3CB3-F467-4F48-A439-EA7879C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826-67B8-462F-9D75-C6648DD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5157-966E-40F6-8707-EEAACCC4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155-43C5-4F57-B838-68C020F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B181-3589-4F70-BD6A-89477B1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2024-E856-4FF3-A091-F406E50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B95C-3738-4B1E-B825-9BB130E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854F-2227-4434-A6AA-E490A70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D36F-AFE9-45EC-BB97-06463B07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8A6F-FC13-4FA3-BFA0-E43A4FD5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4610-37FB-4DA4-BF9A-E583546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5DD7-BC7F-4743-B718-D78F2F25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699-7767-4E45-BBA4-079A2E07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3963-608C-453A-8070-3FA5E72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3913-D364-4746-88CB-447415AC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3C66-F9BC-46A8-8C99-555DEFD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AF17-D18B-4E7E-BAB7-64B7687C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6609-2EF3-48D4-8077-8A5A5BE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9CD8-E09C-41A8-9FF1-2C5DE9F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F8F0-8974-4A20-BFA4-C19073D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E5B1-2D27-46B0-B0C7-C8B7E124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B5EE-36B8-4407-86D5-525E9595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68AB-EEF3-467D-AF22-2A0FAE4F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9A6-C449-485B-8B5E-1E7A064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B72D-C1C2-47EC-8317-CA50D50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52E2-8BD0-4714-AB06-A3035A5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3DB7-30DE-4F98-B35E-8DE6DB3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41EE-F472-4963-9520-B8A59906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3D6B-BE19-4BFE-9802-D394E82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2866-09A1-4706-A447-2DCFE4A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82BD-AC24-4ABF-83C6-221BFA5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DE9E-2717-44B0-950B-E7F8577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C228-D271-49B7-B2BB-D4549AB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637C-83EF-4704-AE79-59F2F7AC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185-5D03-4658-9FBA-5FC44E52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A29A-6429-4EA0-AF4A-87A690B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499-1DF2-488A-AEFC-0C1550C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4CC-FFD0-47B6-A0D5-C4C9D32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2CA-7448-4F32-896C-582CE8F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D48-46CB-4C5A-87C1-6FCAEB8F7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43A2-40E2-4E3D-81FA-FBA4360AE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FEE-61E3-421D-9421-A70CAD1E1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ADE5-AD6A-41A1-9D27-C37B84B1F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3245-2DA2-4FA7-BF68-5C8E1DCC9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201080" cy="9176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250920" y="254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кологических 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тарших дошкольников посредством ознакомления с животным миром Прибайкал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1403280" y="4869000"/>
            <a:ext cx="70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Подготовил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Иванченко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Arial"/>
              </a:rPr>
              <a:t>г. Иркутск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611280" y="40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униципальное  бюджетное  дошкольное  образовательное учреждение  города Иркутска детский сад №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3"/>
          <p:cNvSpPr/>
          <p:nvPr/>
        </p:nvSpPr>
        <p:spPr>
          <a:xfrm>
            <a:off x="127080" y="108000"/>
            <a:ext cx="8802720" cy="1054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Arial"/>
                <a:ea typeface="Arial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трелка вниз 3"/>
          <p:cNvSpPr/>
          <p:nvPr/>
        </p:nvSpPr>
        <p:spPr>
          <a:xfrm>
            <a:off x="1042920" y="12682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4"/>
          <p:cNvSpPr/>
          <p:nvPr/>
        </p:nvSpPr>
        <p:spPr>
          <a:xfrm>
            <a:off x="0" y="2428920"/>
            <a:ext cx="3000240" cy="19288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родителей к участию в конкурсах, выставках, 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5"/>
          <p:cNvSpPr/>
          <p:nvPr/>
        </p:nvSpPr>
        <p:spPr>
          <a:xfrm>
            <a:off x="1692360" y="465300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6"/>
          <p:cNvSpPr/>
          <p:nvPr/>
        </p:nvSpPr>
        <p:spPr>
          <a:xfrm>
            <a:off x="3059280" y="2428920"/>
            <a:ext cx="3168360" cy="19288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за круглым столом, совет родителей в нетрадиционной форме (ток- шоу, деловые игры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7"/>
          <p:cNvSpPr/>
          <p:nvPr/>
        </p:nvSpPr>
        <p:spPr>
          <a:xfrm>
            <a:off x="4788000" y="4581360"/>
            <a:ext cx="2643120" cy="1857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по проблеме экологического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8"/>
          <p:cNvSpPr/>
          <p:nvPr/>
        </p:nvSpPr>
        <p:spPr>
          <a:xfrm>
            <a:off x="6072120" y="2428920"/>
            <a:ext cx="2857680" cy="19288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ческий стенд» в экологическом уголке - выпуск газет, плакатов, папок передви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9"/>
          <p:cNvSpPr/>
          <p:nvPr/>
        </p:nvSpPr>
        <p:spPr>
          <a:xfrm>
            <a:off x="4214880" y="1285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10"/>
          <p:cNvSpPr/>
          <p:nvPr/>
        </p:nvSpPr>
        <p:spPr>
          <a:xfrm>
            <a:off x="7215120" y="1285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низ 11"/>
          <p:cNvSpPr/>
          <p:nvPr/>
        </p:nvSpPr>
        <p:spPr>
          <a:xfrm>
            <a:off x="2928960" y="1357200"/>
            <a:ext cx="285840" cy="32860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трелка вниз 12"/>
          <p:cNvSpPr/>
          <p:nvPr/>
        </p:nvSpPr>
        <p:spPr>
          <a:xfrm>
            <a:off x="6012000" y="1341360"/>
            <a:ext cx="285480" cy="32860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826920" y="549360"/>
            <a:ext cx="765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Работа с педаго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-клас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е досуги, празд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тематических выставках, смотрах - кон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Users\Pc-HP\Desktop\98b5d2d5e5ac577ebe63f477cb956944_600x495.jpg"/>
          <p:cNvPicPr/>
          <p:nvPr/>
        </p:nvPicPr>
        <p:blipFill>
          <a:blip r:embed="rId1"/>
          <a:stretch/>
        </p:blipFill>
        <p:spPr>
          <a:xfrm>
            <a:off x="2786040" y="3657600"/>
            <a:ext cx="37386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684360" y="40464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Сравнительная характери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уровней развит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экологических представлений у до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(сентябрь 2021 - май 20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Диаграмма 2"/>
          <p:cNvGraphicFramePr/>
          <p:nvPr/>
        </p:nvGraphicFramePr>
        <p:xfrm>
          <a:off x="344520" y="1924200"/>
          <a:ext cx="8381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924200"/>
                    <a:ext cx="8381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  <a:ea typeface="Arial"/>
              </a:rPr>
              <a:t>Заключени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 целостная система  работы по формированию основ экологического мировоззрения и экологической культуры  позволит подвести детей к пониманию того, что все мы вместе и каждый из нас в отдельности в ответе за землю, и каждый может сохранять и преумножать ее красо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, только вместе, только сообща, мы сможем побудить в маленьком человеке –  неисчерпаемую природу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ОГАТСТВО МИРА - Д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755640" y="1052640"/>
            <a:ext cx="768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Берегите природу родного кр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D:\Фото\Сад\Фото0248.jpg"/>
          <p:cNvPicPr/>
          <p:nvPr/>
        </p:nvPicPr>
        <p:blipFill>
          <a:blip r:embed="rId1"/>
          <a:stretch/>
        </p:blipFill>
        <p:spPr>
          <a:xfrm>
            <a:off x="2340000" y="2997360"/>
            <a:ext cx="4838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f81bd"/>
                </a:solidFill>
                <a:latin typeface="Arial"/>
                <a:ea typeface="Arial"/>
              </a:rPr>
              <a:t>«Мир, окружающий ребёнка –это прежде всего - мир природы с безграничным богатством явлений, с неисчерпаемой красотой. </a:t>
            </a:r>
            <a:br>
              <a:rPr sz="4000"/>
            </a:br>
            <a:r>
              <a:rPr b="1" i="1" lang="ru-RU" sz="4000" spc="-1" strike="noStrike">
                <a:solidFill>
                  <a:srgbClr val="4f81bd"/>
                </a:solidFill>
                <a:latin typeface="Arial"/>
                <a:ea typeface="Arial"/>
              </a:rPr>
              <a:t>Здесь, в природе, вечный источник детского разума»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Прямоугольник 6" descr=""/>
          <p:cNvPicPr/>
          <p:nvPr/>
        </p:nvPicPr>
        <p:blipFill>
          <a:blip r:embed="rId1"/>
          <a:stretch/>
        </p:blipFill>
        <p:spPr>
          <a:xfrm>
            <a:off x="5425920" y="5505480"/>
            <a:ext cx="2900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755640" y="1557360"/>
            <a:ext cx="7561440" cy="3020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экологического сознания дошкольников – чрезвычайно актуальная проблема настоящ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ологическое мировоззр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ологическая культу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ыне живущих людей могут вывести планету и человечество из катастрофического состоя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99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  <a:ea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TextBox 5" descr=""/>
          <p:cNvPicPr/>
          <p:nvPr/>
        </p:nvPicPr>
        <p:blipFill>
          <a:blip r:embed="rId1"/>
          <a:stretch/>
        </p:blipFill>
        <p:spPr>
          <a:xfrm>
            <a:off x="743040" y="4986360"/>
            <a:ext cx="758340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Стрелка вниз 6"/>
          <p:cNvSpPr/>
          <p:nvPr/>
        </p:nvSpPr>
        <p:spPr>
          <a:xfrm>
            <a:off x="6084720" y="4179960"/>
            <a:ext cx="648000" cy="7207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7"/>
          <p:cNvSpPr/>
          <p:nvPr/>
        </p:nvSpPr>
        <p:spPr>
          <a:xfrm>
            <a:off x="2987640" y="4309920"/>
            <a:ext cx="647640" cy="7192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4000" y="1109520"/>
          <a:ext cx="8424720" cy="5488200"/>
        </p:xfrm>
        <a:graphic>
          <a:graphicData uri="http://schemas.openxmlformats.org/drawingml/2006/table">
            <a:tbl>
              <a:tblPr/>
              <a:tblGrid>
                <a:gridCol w="2271600"/>
                <a:gridCol w="615312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 образовательных област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ч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детской литературой, в том числе и с природоведческо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ервичных представлениях об объектах окружающего мира, их свойствах и отношениях (форме, цвете, размере, причинах и следствиях и др.); о планете Земля как общем доме людей, об особенностях ее природы, многообразии стран и народов; расширение кругозора де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ценностей здорового образа жизни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коммуникатив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норм и ценностей, принятых в обществе; развитие эмоциональной отзывчивости, сопереживания, в том числе и по отношению к природным объектам; формирование основ безопасного поведения в быту, социуме, природ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-эсте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ие предпосылок ценностно-смыслового восприятия и понимания мира природы; формирование эстетического отношения к окружающему миру в ц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7" name="Прямоугольник 8"/>
          <p:cNvSpPr/>
          <p:nvPr/>
        </p:nvSpPr>
        <p:spPr>
          <a:xfrm>
            <a:off x="324000" y="189000"/>
            <a:ext cx="8424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81bd"/>
                </a:solidFill>
                <a:latin typeface="Arial"/>
              </a:rPr>
              <a:t>Содержание  образовательных областей (в интеграции) в осуществлении экологического образования дошкольников по ФГ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6"/>
          <p:cNvSpPr/>
          <p:nvPr/>
        </p:nvSpPr>
        <p:spPr>
          <a:xfrm>
            <a:off x="1258920" y="189000"/>
            <a:ext cx="684216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Эколог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324000" y="1268280"/>
            <a:ext cx="8135640" cy="187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ерывный процесс обучения, воспитания и развития личности, направленный на формирование системы знаний и умений, ценностных ориентаций, нравственно-этических и эстетических отношений, обеспечивающих экологическую ответственность личности за состояние и улучшение социоприродной среды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И.Д.Звер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4"/>
          <p:cNvSpPr/>
          <p:nvPr/>
        </p:nvSpPr>
        <p:spPr>
          <a:xfrm>
            <a:off x="324000" y="3141720"/>
            <a:ext cx="244764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5"/>
          <p:cNvSpPr/>
          <p:nvPr/>
        </p:nvSpPr>
        <p:spPr>
          <a:xfrm>
            <a:off x="3419640" y="314172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6"/>
          <p:cNvSpPr/>
          <p:nvPr/>
        </p:nvSpPr>
        <p:spPr>
          <a:xfrm>
            <a:off x="6588000" y="3213000"/>
            <a:ext cx="2160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3059280" y="4076640"/>
            <a:ext cx="316836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едставлений о взаимосвязи природы, общества и человека; формирование практических умений по разрешению экологически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2"/>
          <p:cNvSpPr/>
          <p:nvPr/>
        </p:nvSpPr>
        <p:spPr>
          <a:xfrm flipH="1">
            <a:off x="250920" y="4149720"/>
            <a:ext cx="252072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й, мотивов, потребности, привычки активной деятельности по охране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3"/>
          <p:cNvSpPr/>
          <p:nvPr/>
        </p:nvSpPr>
        <p:spPr>
          <a:xfrm>
            <a:off x="6516720" y="4221000"/>
            <a:ext cx="237636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 анализировать экологические ситуации; оценивать эстетическое состояние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179280" y="1052640"/>
            <a:ext cx="874872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ГЛЯДНЫ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, демонстрация, рассматривание, пок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беседа, рассказ, чтение х/л , объяснение, указание, педагогическая оценка, вопрос и т.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элементарные опыты, моделирование, упражнения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О-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бращение к опыту детей, практические ситуации, поисковые действия, обследо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ГРОВЫ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ие игры, игровая ситуация, действия с игрушками,  имитация действий, прятанье, поиск, подвижная игра,  эпизодические игровые приемы, загад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1547640" y="260280"/>
            <a:ext cx="5472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05800" cy="100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  <a:ea typeface="Arial"/>
              </a:rPr>
              <a:t>РППС: элементы экологоразвивающей  ср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кругленный прямоугольник 6"/>
          <p:cNvSpPr/>
          <p:nvPr/>
        </p:nvSpPr>
        <p:spPr>
          <a:xfrm>
            <a:off x="0" y="242100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троп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6732720" y="1484280"/>
            <a:ext cx="185580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библиотеки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0"/>
          <p:cNvSpPr/>
          <p:nvPr/>
        </p:nvSpPr>
        <p:spPr>
          <a:xfrm>
            <a:off x="2268360" y="134136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 -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1"/>
          <p:cNvSpPr/>
          <p:nvPr/>
        </p:nvSpPr>
        <p:spPr>
          <a:xfrm>
            <a:off x="1979640" y="5516640"/>
            <a:ext cx="214308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3"/>
          <p:cNvSpPr/>
          <p:nvPr/>
        </p:nvSpPr>
        <p:spPr>
          <a:xfrm>
            <a:off x="6084720" y="5589720"/>
            <a:ext cx="271332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ный муз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4"/>
          <p:cNvSpPr/>
          <p:nvPr/>
        </p:nvSpPr>
        <p:spPr>
          <a:xfrm>
            <a:off x="4500720" y="1989000"/>
            <a:ext cx="196056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я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5"/>
          <p:cNvSpPr/>
          <p:nvPr/>
        </p:nvSpPr>
        <p:spPr>
          <a:xfrm>
            <a:off x="6659640" y="3357720"/>
            <a:ext cx="185580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ород,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8"/>
          <p:cNvSpPr/>
          <p:nvPr/>
        </p:nvSpPr>
        <p:spPr>
          <a:xfrm>
            <a:off x="179280" y="4149720"/>
            <a:ext cx="2305080" cy="11509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ые уг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1"/>
          <p:cNvSpPr/>
          <p:nvPr/>
        </p:nvSpPr>
        <p:spPr>
          <a:xfrm>
            <a:off x="2627280" y="3068640"/>
            <a:ext cx="185580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голки природы в групп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23"/>
          <p:cNvSpPr/>
          <p:nvPr/>
        </p:nvSpPr>
        <p:spPr>
          <a:xfrm>
            <a:off x="4356000" y="4221000"/>
            <a:ext cx="2087640" cy="1008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авоч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258920" y="333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Возрастные 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68360" y="1341360"/>
            <a:ext cx="84247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ети старшего дошкольного возраста уже знают основные правила поведения в природе; хорошо ориентируются не только в знакомой, но и в незнакомой обстановке; способны управлять своим поведением, 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еще нуждаются в организующей помощи; стремятся проникнуть в суть вещей, понять связь явлений. В этом возрасте становится возможным формирование экологических представлений и пон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rcRect l="61334" t="31146" r="4252" b="9059"/>
          <a:stretch/>
        </p:blipFill>
        <p:spPr>
          <a:xfrm>
            <a:off x="2340000" y="4221000"/>
            <a:ext cx="2685960" cy="2492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2"/>
          <a:stretch/>
        </p:blipFill>
        <p:spPr>
          <a:xfrm>
            <a:off x="4708440" y="3379680"/>
            <a:ext cx="2475000" cy="24764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611280" y="333360"/>
            <a:ext cx="819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Работа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по эколо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е игры, праздники и досу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обучающие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тельных экологические игры, виктор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е акци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6" descr=""/>
          <p:cNvPicPr/>
          <p:nvPr/>
        </p:nvPicPr>
        <p:blipFill>
          <a:blip r:embed="rId3"/>
          <a:stretch/>
        </p:blipFill>
        <p:spPr>
          <a:xfrm>
            <a:off x="144360" y="3573360"/>
            <a:ext cx="2367000" cy="2386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"/>
          <p:cNvPicPr/>
          <p:nvPr/>
        </p:nvPicPr>
        <p:blipFill>
          <a:blip r:embed="rId4"/>
          <a:srcRect l="7848" t="0" r="0" b="34244"/>
          <a:stretch/>
        </p:blipFill>
        <p:spPr>
          <a:xfrm>
            <a:off x="6608880" y="4363920"/>
            <a:ext cx="24415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9:41:16Z</dcterms:created>
  <dc:creator>Windows User</dc:creator>
  <dc:description/>
  <dc:language>en-US</dc:language>
  <cp:lastModifiedBy>Ольга Сергеевна Попова</cp:lastModifiedBy>
  <dcterms:modified xsi:type="dcterms:W3CDTF">2022-10-20T02:45:54Z</dcterms:modified>
  <cp:revision>56</cp:revision>
  <dc:subject/>
  <dc:title>Слайд 1</dc:title>
</cp:coreProperties>
</file>