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E71-9BE7-4142-B0C1-F688BA76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459-6D27-4E39-861A-54C96899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B3D-C4E6-45F2-8CBE-09C34E90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BC4-C8A1-485E-AED0-49B7C963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968-19D8-4FD8-ADFD-CB0EBCD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ED9-A35F-4F64-9944-D6F7EBA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DC5-46EA-4E56-A446-3616D37F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7F4-40D5-42BC-B67D-66F55F4D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C28-A087-494B-AC70-D989205C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183-675C-4277-902B-91B0E06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341-3E06-46C8-BA27-0850E79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AA9-CB10-4678-A83C-8AAB018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CBF-1241-4EEB-92A2-630F7A3C3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6633"/>
                </a:solidFill>
                <a:latin typeface="Comic Sans MS"/>
              </a:rPr>
              <a:t>А. Погорельск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2360" y="1698120"/>
            <a:ext cx="8352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33"/>
                </a:solidFill>
                <a:latin typeface="Comic Sans MS"/>
              </a:rPr>
              <a:t>«Черная курица, или подземные жители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_yudin-hud_3"/>
          <p:cNvPicPr/>
          <p:nvPr/>
        </p:nvPicPr>
        <p:blipFill>
          <a:blip r:embed="rId1"/>
          <a:stretch/>
        </p:blipFill>
        <p:spPr>
          <a:xfrm>
            <a:off x="52560" y="3790800"/>
            <a:ext cx="4032000" cy="2737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211640" y="3857760"/>
            <a:ext cx="49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Comic Sans MS"/>
              </a:rPr>
              <a:t>Презентация к уроку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Comic Sans MS"/>
              </a:rPr>
              <a:t>в 5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Comic Sans MS"/>
              </a:rPr>
              <a:t>Учитель: Замятина Милана Стани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Comic Sans MS"/>
              </a:rPr>
              <a:t>МАОУ «МСОШ№16» г. Миасс, Челяб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ook26il"/>
          <p:cNvPicPr/>
          <p:nvPr/>
        </p:nvPicPr>
        <p:blipFill>
          <a:blip r:embed="rId1"/>
          <a:stretch/>
        </p:blipFill>
        <p:spPr>
          <a:xfrm>
            <a:off x="1419120" y="115920"/>
            <a:ext cx="5410440" cy="5146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58920" y="5408640"/>
            <a:ext cx="842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Что Алёша просит у короля в награду за спасение Чернуш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6396317_spirin11"/>
          <p:cNvPicPr/>
          <p:nvPr/>
        </p:nvPicPr>
        <p:blipFill>
          <a:blip r:embed="rId1"/>
          <a:stretch/>
        </p:blipFill>
        <p:spPr>
          <a:xfrm>
            <a:off x="131760" y="333360"/>
            <a:ext cx="3941640" cy="5999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284720" y="1197000"/>
            <a:ext cx="475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Что случилось с характером Алеши, получившим волшебное зерныш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79280" y="281160"/>
            <a:ext cx="878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33"/>
                </a:solidFill>
                <a:latin typeface="Comic Sans MS"/>
              </a:rPr>
              <a:t>Добрый, жестокий, ласковый, упрямый, общительный, самолюбивый, гордый, дерзкий, любознательный, застенчивый, непослуш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58760" y="281160"/>
            <a:ext cx="412596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Comic Sans MS"/>
              </a:rPr>
              <a:t>До получения зёрны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Доб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Ласк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Общи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Скро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Застенч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Любозна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500720" y="260280"/>
            <a:ext cx="45352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6633"/>
                </a:solidFill>
                <a:uFillTx/>
                <a:latin typeface="Comic Sans MS"/>
              </a:rPr>
              <a:t>После получения зёрны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Жесто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Упря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Непослу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Самолюб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Горд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Дерз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6396029_spirin9"/>
          <p:cNvPicPr/>
          <p:nvPr/>
        </p:nvPicPr>
        <p:blipFill>
          <a:blip r:embed="rId1"/>
          <a:stretch/>
        </p:blipFill>
        <p:spPr>
          <a:xfrm>
            <a:off x="2050920" y="189000"/>
            <a:ext cx="4826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68360" y="476280"/>
            <a:ext cx="8496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Скромный-1.Сдержанный  в обнаружении своих достоинств, заслуг, не хвастлив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Учёный скро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2. Сдержанный, умеренный, простой и пристой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скром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скромная вн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скромно оде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79280" y="352440"/>
            <a:ext cx="87854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Нескромный - . Лишённый скром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нескромная де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нескром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2. Неделикатный, нетактичный, бесцерем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нескром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3. Лишённый стыдлив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0" y="549360"/>
            <a:ext cx="925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Какие отрицательные человеческие качества осуждаются в этой сказк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Какие законы волшебной сказки соблюдены в этом произвед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108000" y="33336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Comic Sans MS"/>
              </a:rPr>
              <a:t>Сегодня на уроке 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- </a:t>
            </a:r>
            <a:r>
              <a:rPr b="0" lang="ru-RU" sz="4000" spc="-1" strike="noStrike">
                <a:solidFill>
                  <a:srgbClr val="996633"/>
                </a:solidFill>
                <a:latin typeface="Comic Sans MS"/>
              </a:rPr>
              <a:t>научился…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663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Comic Sans MS"/>
              </a:rPr>
              <a:t>узнал…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663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Comic Sans MS"/>
              </a:rPr>
              <a:t>заинтересовался…</a:t>
            </a: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333360"/>
            <a:ext cx="8964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Comic Sans MS"/>
              </a:rPr>
              <a:t>Написать ответ на вопрос: «Какие уроки извлёк я из сказки А. Погорельского « Черная курица»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mg381"/>
          <p:cNvPicPr/>
          <p:nvPr/>
        </p:nvPicPr>
        <p:blipFill>
          <a:blip r:embed="rId1"/>
          <a:stretch/>
        </p:blipFill>
        <p:spPr>
          <a:xfrm>
            <a:off x="5867280" y="3933720"/>
            <a:ext cx="3097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0173d2x"/>
          <p:cNvPicPr/>
          <p:nvPr/>
        </p:nvPicPr>
        <p:blipFill>
          <a:blip r:embed="rId1"/>
          <a:stretch/>
        </p:blipFill>
        <p:spPr>
          <a:xfrm>
            <a:off x="179280" y="404640"/>
            <a:ext cx="4753080" cy="5329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932360" y="549360"/>
            <a:ext cx="4211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Сказка - ложь, да в ней нам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Добрым молодцам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   </a:t>
            </a: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А. С.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329080" cy="6480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1908000" y="566100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тоний Погорельский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3887640" y="260280"/>
            <a:ext cx="5256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Антоний Погорельский (настоящее имя Алексей Алексеевич Перовский) родился в 1787 году. Мальчик был сыном графа А. К. Разумовского, и все детство провел в имении отца на Укра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С 1805 года Погорельский учится в Московском университете, становится доктором философских и словесных наук. Во времена учебы Антоний стал писать, но это было скорее его хобб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Погорельский состоял на государственной службе в Петербурге до начала войны 1812 года. Во время войны он ушел добровольцем на фронт и служил там до 1816 года, после чего вернулся в Петербур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В 1825 году начинается настоящая литературная деятельность Погорельского. Творчество Погорельского было новаторским, смелым, поэтому многие критики не любили его творчество, однако читателям нравились повести и романы Погорель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Погорельский ушел со службы и после смерти отца он переехал в родовое имение, много путешествовал. Умер писатель в 1836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996633"/>
                </a:solidFill>
                <a:latin typeface="Comic Sans MS"/>
              </a:rPr>
              <a:t>Антония Погорельского называют автором первой русской фантастической повести, одного из первых семейных романов и первой русской повести-сказки дл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133200" y="692280"/>
            <a:ext cx="3718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17440" y="50652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Что такое сказ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17440" y="1341360"/>
            <a:ext cx="889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6633"/>
                </a:solidFill>
                <a:latin typeface="Comic Sans MS"/>
              </a:rPr>
              <a:t>Сказка – это занимательный рассказ о необыкновенных, часто фантастических событиях и приклю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32860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Какие виды сказок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Чем отличается литературная  сказка от народ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ansion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97000" y="836640"/>
            <a:ext cx="86407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Пансион- закрытое среднее учебное заведение с общежит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Comic Sans MS"/>
              </a:rPr>
              <a:t>пансион благородных дев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Comic Sans MS"/>
              </a:rPr>
              <a:t>воспитываться в панси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79360" y="308772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Дортуары-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спальные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Сени-прихожая, корид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3120" y="48434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Шандал – подсвеч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omic Sans MS"/>
              </a:rPr>
              <a:t>Рукомойник – умываль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448640" y="87480"/>
            <a:ext cx="50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6633"/>
                </a:solidFill>
                <a:uFillTx/>
                <a:latin typeface="Comic Sans MS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372"/>
          <p:cNvPicPr/>
          <p:nvPr/>
        </p:nvPicPr>
        <p:blipFill>
          <a:blip r:embed="rId1"/>
          <a:stretch/>
        </p:blipFill>
        <p:spPr>
          <a:xfrm>
            <a:off x="1476360" y="115920"/>
            <a:ext cx="4187880" cy="4968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0" y="522936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Как курочка отблагодарила Алёшу за спас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6396134_spirin7"/>
          <p:cNvPicPr/>
          <p:nvPr/>
        </p:nvPicPr>
        <p:blipFill>
          <a:blip r:embed="rId1"/>
          <a:stretch/>
        </p:blipFill>
        <p:spPr>
          <a:xfrm>
            <a:off x="2604960" y="233280"/>
            <a:ext cx="39322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14:00Z</dcterms:created>
  <dc:creator>OK</dc:creator>
  <dc:description/>
  <dc:language>en-US</dc:language>
  <cp:lastModifiedBy>___</cp:lastModifiedBy>
  <dcterms:modified xsi:type="dcterms:W3CDTF">2022-11-10T09:45:41Z</dcterms:modified>
  <cp:revision>25</cp:revision>
  <dc:subject/>
  <dc:title>Слайд 1</dc:title>
</cp:coreProperties>
</file>