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FCE2-F5CD-43A5-80A3-44D745E1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36360" y="1768320"/>
            <a:ext cx="8435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6360" y="4057920"/>
            <a:ext cx="8435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D089-2841-41D0-B9DA-8EE72F5F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6360" y="17683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9240" y="17683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36360" y="40579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9240" y="40579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B24B-BC2A-4981-8EDD-0C4B352E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36360" y="1768320"/>
            <a:ext cx="2716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68000"/>
          </a:bodyPr>
          <a:p>
            <a:pPr marL="2332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8320"/>
            <a:ext cx="2716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68000"/>
          </a:bodyPr>
          <a:p>
            <a:pPr marL="2332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1280" y="1768320"/>
            <a:ext cx="2716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68000"/>
          </a:bodyPr>
          <a:p>
            <a:pPr marL="2332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36360" y="4057920"/>
            <a:ext cx="2716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68000"/>
          </a:bodyPr>
          <a:p>
            <a:pPr marL="2332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057920"/>
            <a:ext cx="2716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68000"/>
          </a:bodyPr>
          <a:p>
            <a:pPr marL="2332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1280" y="4057920"/>
            <a:ext cx="2716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68000"/>
          </a:bodyPr>
          <a:p>
            <a:pPr marL="2332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7C3-03CB-4892-A86B-F8EDD45C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D0E7-5759-4C92-A20E-E788BBDB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36360" y="1768320"/>
            <a:ext cx="8435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6662-18BA-41EF-B313-1D6CEAE5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36360" y="1768320"/>
            <a:ext cx="8435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0625-0C17-47F5-93A3-5AFC5A01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6360" y="1768320"/>
            <a:ext cx="41166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9240" y="1768320"/>
            <a:ext cx="41166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8BBB-0E26-47C3-8E6F-C07009AF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4D3E-8E7B-4DAC-AADC-39988D0D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55640" y="479160"/>
            <a:ext cx="316692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E136-3AEB-4F0F-9E03-4DD6919B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6360" y="17683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9240" y="1768320"/>
            <a:ext cx="41166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36360" y="40579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D597-DD82-414B-8FC7-A53853AA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36360" y="1768320"/>
            <a:ext cx="8435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5ED-0F87-4C20-B1FA-995D5682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36360" y="1768320"/>
            <a:ext cx="41166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9240" y="17683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9240" y="40579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E15F-C50F-4FE5-AF33-801B9EF2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36360" y="17683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9240" y="17683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36360" y="4057920"/>
            <a:ext cx="8435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81D2-F882-40E3-952F-124D3C53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36360" y="1768320"/>
            <a:ext cx="8435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36360" y="4057920"/>
            <a:ext cx="8435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BA34-53C4-4771-B4CF-53A89873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6360" y="17683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9240" y="17683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36360" y="40579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9240" y="40579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CD96-C622-430C-8F20-F7C02803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36360" y="1768320"/>
            <a:ext cx="2716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68000"/>
          </a:bodyPr>
          <a:p>
            <a:pPr marL="2332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8640" y="1768320"/>
            <a:ext cx="2716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68000"/>
          </a:bodyPr>
          <a:p>
            <a:pPr marL="2332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1280" y="1768320"/>
            <a:ext cx="2716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68000"/>
          </a:bodyPr>
          <a:p>
            <a:pPr marL="2332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36360" y="4057920"/>
            <a:ext cx="2716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68000"/>
          </a:bodyPr>
          <a:p>
            <a:pPr marL="2332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8640" y="4057920"/>
            <a:ext cx="2716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68000"/>
          </a:bodyPr>
          <a:p>
            <a:pPr marL="2332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1280" y="4057920"/>
            <a:ext cx="2716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68000"/>
          </a:bodyPr>
          <a:p>
            <a:pPr marL="2332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3F3A-AD3F-4751-A9BF-A783B91D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8A333-7A05-4D2E-BDE3-3C1C8661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36360" y="1768320"/>
            <a:ext cx="8435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967FB-771D-4D51-8C78-9FC6DD58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36360" y="1768320"/>
            <a:ext cx="8435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7FE96-BA54-4DC5-8212-83D30D64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36360" y="1768320"/>
            <a:ext cx="41166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59240" y="1768320"/>
            <a:ext cx="41166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4929C-943C-4038-BB46-72B88F41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20F2A-7D8B-4A9F-97B9-22EE0D8B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36360" y="1768320"/>
            <a:ext cx="8435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DE54-8CCD-40ED-BDBA-CC912C9D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455640" y="479160"/>
            <a:ext cx="316692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9D5D2-54CF-4276-B463-076B4E4A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36360" y="17683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59240" y="1768320"/>
            <a:ext cx="41166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36360" y="40579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F74AC-B5CA-4FC3-8EBA-D9A8887A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36360" y="1768320"/>
            <a:ext cx="41166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59240" y="17683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259240" y="40579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A0BF7-629A-4CBD-B3E4-2C56C86D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36360" y="17683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59240" y="17683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36360" y="4057920"/>
            <a:ext cx="8435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A845D-3621-4A2C-9934-723D076E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36360" y="1768320"/>
            <a:ext cx="8435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36360" y="4057920"/>
            <a:ext cx="8435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4A1C0-E227-4A79-A78F-1B56D0A4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36360" y="17683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59240" y="17683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36360" y="40579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259240" y="40579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F1214-CFE8-4A80-B004-B639AD4E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36360" y="1768320"/>
            <a:ext cx="2716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68000"/>
          </a:bodyPr>
          <a:p>
            <a:pPr marL="2332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788640" y="1768320"/>
            <a:ext cx="2716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68000"/>
          </a:bodyPr>
          <a:p>
            <a:pPr marL="2332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641280" y="1768320"/>
            <a:ext cx="2716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68000"/>
          </a:bodyPr>
          <a:p>
            <a:pPr marL="2332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36360" y="4057920"/>
            <a:ext cx="2716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68000"/>
          </a:bodyPr>
          <a:p>
            <a:pPr marL="2332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788640" y="4057920"/>
            <a:ext cx="2716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68000"/>
          </a:bodyPr>
          <a:p>
            <a:pPr marL="2332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641280" y="4057920"/>
            <a:ext cx="2716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68000"/>
          </a:bodyPr>
          <a:p>
            <a:pPr marL="2332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C2523-366C-4EE1-BB30-F7C15523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36360" y="1768320"/>
            <a:ext cx="41166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9240" y="1768320"/>
            <a:ext cx="41166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78FA-0F0A-43D1-86C1-16D8F5CF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12C8-8BDD-4083-866A-A4CD46AA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55640" y="479160"/>
            <a:ext cx="316692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818D-5928-4A23-B311-7893303C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36360" y="17683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9240" y="1768320"/>
            <a:ext cx="41166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36360" y="40579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D506-8AA0-4223-8576-30EA5905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36360" y="1768320"/>
            <a:ext cx="41166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9240" y="17683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9240" y="40579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A128-E8A5-4443-AFA2-310364FF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55640" y="-1927440"/>
            <a:ext cx="3166920" cy="58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36360" y="17683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9240" y="1768320"/>
            <a:ext cx="4116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36360" y="4057920"/>
            <a:ext cx="8435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33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CC9-8175-4A4E-9EE4-A1BFC82C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A07BB-FE68-4CEE-884C-DB02D59FE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97284-F277-43D2-A032-413018BE69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5640" y="479160"/>
            <a:ext cx="3166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36360" y="1768320"/>
            <a:ext cx="8435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66960" bIns="0" anchor="t">
            <a:normAutofit fontScale="42000"/>
          </a:bodyPr>
          <a:p>
            <a:pPr marL="144000" indent="0">
              <a:lnSpc>
                <a:spcPct val="93000"/>
              </a:lnSpc>
              <a:spcAft>
                <a:spcPts val="33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  <a:p>
            <a:pPr lvl="1" marL="144000" indent="-144000">
              <a:lnSpc>
                <a:spcPct val="93000"/>
              </a:lnSpc>
              <a:spcAft>
                <a:spcPts val="33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  <a:p>
            <a:pPr lvl="2" marL="144000" indent="-144000">
              <a:lnSpc>
                <a:spcPct val="93000"/>
              </a:lnSpc>
              <a:spcAft>
                <a:spcPts val="33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  <a:p>
            <a:pPr lvl="3" marL="144000" indent="-144000">
              <a:lnSpc>
                <a:spcPct val="93000"/>
              </a:lnSpc>
              <a:spcAft>
                <a:spcPts val="33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  <a:p>
            <a:pPr lvl="4" marL="144000" indent="-144000">
              <a:lnSpc>
                <a:spcPct val="93000"/>
              </a:lnSpc>
              <a:spcAft>
                <a:spcPts val="33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  <a:p>
            <a:pPr lvl="5" marL="144000" indent="-144000">
              <a:lnSpc>
                <a:spcPct val="93000"/>
              </a:lnSpc>
              <a:spcAft>
                <a:spcPts val="33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  <a:p>
            <a:pPr lvl="6" marL="144000" indent="-144000">
              <a:lnSpc>
                <a:spcPct val="93000"/>
              </a:lnSpc>
              <a:spcAft>
                <a:spcPts val="33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2D370-4511-4356-BF96-33076A2821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10078920" cy="755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0360" y="26820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Сальнова Мария Павло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3-12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419640" y="430200"/>
            <a:ext cx="324000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Была членом  организации МДО С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Ю-Пи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70480" y="2340000"/>
            <a:ext cx="3990960" cy="4859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20720" y="2340000"/>
            <a:ext cx="442116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672000" y="-1440000"/>
            <a:ext cx="3168360" cy="56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Так же я занималась журналист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79640" y="2281320"/>
            <a:ext cx="474048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40000" y="1260360"/>
            <a:ext cx="6840360" cy="57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40000" y="-1800360"/>
            <a:ext cx="3959280" cy="56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В колледже я стала командиром своей любимой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40000" y="1901880"/>
            <a:ext cx="7670520" cy="51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60720" y="446040"/>
            <a:ext cx="4680000" cy="56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Мое педогагическое кред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Каждый ребенок не смотря на свои особенности уникал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456000" y="479520"/>
            <a:ext cx="3168720" cy="56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084720" y="1260360"/>
            <a:ext cx="2916360" cy="58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С этого родного мне человека которого я называю Мамуля и пошла вся история 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20720" y="539640"/>
            <a:ext cx="53211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419640" y="-360360"/>
            <a:ext cx="31683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С детства Мама  приучала меня к музыки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045880" y="4464000"/>
          <a:ext cx="1079280" cy="7002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</a:tblGrid>
              <a:tr h="384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84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19640" y="2009880"/>
            <a:ext cx="4010040" cy="5010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20720" y="1979640"/>
            <a:ext cx="4140360" cy="50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600360" y="-1014480"/>
            <a:ext cx="306072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...Сейчас я пою в ансамбле «Юн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9640" y="1979640"/>
            <a:ext cx="4500720" cy="5219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219640" y="1995480"/>
            <a:ext cx="4137120" cy="50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700360" y="360360"/>
            <a:ext cx="45007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Так же Мама учила меня  продуктивной 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20720" y="2700360"/>
            <a:ext cx="4319640" cy="4500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19640" y="2340000"/>
            <a:ext cx="414036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456000" y="479520"/>
            <a:ext cx="31687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...И вот что из этого выш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20720" y="1619280"/>
            <a:ext cx="4319640" cy="287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580000" y="1800360"/>
            <a:ext cx="3780000" cy="4679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20720" y="4319640"/>
            <a:ext cx="43196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492360" y="-1619280"/>
            <a:ext cx="3168720" cy="56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Так же Мама делала из меня принцес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219640" y="2135160"/>
            <a:ext cx="3640320" cy="4884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900000" y="1954080"/>
            <a:ext cx="3419640" cy="48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456000" y="479520"/>
            <a:ext cx="31687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И повзрослев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004840" y="1440000"/>
            <a:ext cx="6096240" cy="555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456000" y="479520"/>
            <a:ext cx="31687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Занимаюсь чирлидинг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44600" y="2160720"/>
            <a:ext cx="6754680" cy="467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/>
  <dcterms:modified xsi:type="dcterms:W3CDTF">2014-11-26T17:20:15Z</dcterms:modified>
  <cp:revision>6</cp:revision>
  <dc:subject/>
  <dc:title/>
</cp:coreProperties>
</file>