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6A10-BB07-450A-98F8-DF8C6EDF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2F41-EAAF-43DC-91A9-BF900BCF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5AF-3C2A-4FC4-91FE-58A11743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9F4A-B927-4798-A007-AF9517D1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CAE0-7A6B-4454-8D58-969D8058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6ACA-C6D7-440C-B550-36738FDA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F16-5B72-4418-8F81-B786F486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A71-AB02-494A-B8AB-0A134823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5E73-D5DB-4A62-ACD3-DFD695DB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EA37-BA5F-42B3-A696-5FA835A8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D49F-4256-4B65-A7E7-EDDC86B8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531-D6AB-491D-AE81-1CC4FAEA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5A47-6BAE-4C4E-9E61-F5836437B5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114300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66"/>
                </a:solidFill>
                <a:latin typeface="Times New Roman"/>
              </a:rPr>
              <a:t>СКАЗКА </a:t>
            </a:r>
            <a:r>
              <a:rPr b="1" lang="ru-RU" sz="5400" spc="-1" strike="noStrike">
                <a:solidFill>
                  <a:srgbClr val="ff3399"/>
                </a:solidFill>
                <a:latin typeface="Times New Roman"/>
              </a:rPr>
              <a:t>О ВЕСЕЛОМ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cc99"/>
                </a:solidFill>
                <a:latin typeface="Times New Roman"/>
              </a:rPr>
              <a:t>ЯЗЫЧ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720" y="4357800"/>
            <a:ext cx="384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ыполнила: студен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р. ДДЛ-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емёнова Е.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и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6292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хорошо! ответил Язычок, и вдруг увидел кошку Мур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09_Киска"/>
          <p:cNvPicPr/>
          <p:nvPr/>
        </p:nvPicPr>
        <p:blipFill>
          <a:blip r:embed="rId1"/>
          <a:stretch/>
        </p:blipFill>
        <p:spPr>
          <a:xfrm>
            <a:off x="755640" y="4522680"/>
            <a:ext cx="73454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ймаем мыш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рка ловит мыш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льзя, Мурка! прогнал Язычок кошку. Погрозил пальчиком кошке. Нельзя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10_ПоймаемМышку"/>
          <p:cNvPicPr/>
          <p:nvPr/>
        </p:nvPicPr>
        <p:blipFill>
          <a:blip r:embed="rId1"/>
          <a:stretch/>
        </p:blipFill>
        <p:spPr>
          <a:xfrm>
            <a:off x="611280" y="4543560"/>
            <a:ext cx="8064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ОШАД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бежал Язычок к свое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ошад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гладил её.  «Здравствуй, лошадка!» - ласково сказал Язычок. Лошадка обрадовалась. Заржала «Иго-го!» Вскочил Язычок на лошадку, поскакали они вмес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11_Лошадку"/>
          <p:cNvPicPr/>
          <p:nvPr/>
        </p:nvPicPr>
        <p:blipFill>
          <a:blip r:embed="rId1"/>
          <a:stretch/>
        </p:blipFill>
        <p:spPr>
          <a:xfrm>
            <a:off x="395280" y="4673520"/>
            <a:ext cx="84978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АРОХОД  ГУД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ачут они берегом реки. На реке гуди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рох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«Ы-ы...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Счастливого пути, пароход!» - помахал ему вслед Языч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12_ПароходГудит"/>
          <p:cNvPicPr/>
          <p:nvPr/>
        </p:nvPicPr>
        <p:blipFill>
          <a:blip r:embed="rId1"/>
          <a:stretch/>
        </p:blipFill>
        <p:spPr>
          <a:xfrm>
            <a:off x="684360" y="4595760"/>
            <a:ext cx="82087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ДРАВСТВУ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чут они с лошадкой дальше. Скачут полем, скачут лес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оровается язычок со всеми. «Здравствуйте, деревья!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дравствуй, небо!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тут язычок увидел Солнце. «Здравствуй, Солнце!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равшивают деревья, небо, солнце – кто это с нами поздоровал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Это – я!!!» - крикнул Язычок. «Кто это – Я?» - переспрашивают деревья, небо, солнце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Это – я!!!»  (назови свое им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ЛОНИК ПЬЁ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134200" cy="25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ачет язычок , скачет и прискакал он в зоопарк. В зоопарке он встретил своих друзей. Язычок увидел ослика. «Иа-иа-иа!» - поздоровался осли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зычок посмотрел, как ум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селый слон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эмби: набирает хоботом водичку и моет себя, как из ду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13_СлоникПьет"/>
          <p:cNvPicPr/>
          <p:nvPr/>
        </p:nvPicPr>
        <p:blipFill>
          <a:blip r:embed="rId1"/>
          <a:stretch/>
        </p:blipFill>
        <p:spPr>
          <a:xfrm>
            <a:off x="395280" y="4575240"/>
            <a:ext cx="84978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НДЮКИ БОЛТАЮ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ним подошел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дю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без умолка болтал «бл-бл-бл..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14_ИндюкиБолтают"/>
          <p:cNvPicPr/>
          <p:nvPr/>
        </p:nvPicPr>
        <p:blipFill>
          <a:blip r:embed="rId1"/>
          <a:stretch/>
        </p:blipFill>
        <p:spPr>
          <a:xfrm>
            <a:off x="395280" y="4756320"/>
            <a:ext cx="849780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ЕШ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енькая белочка угостила Язычк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ешк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15_Орешки"/>
          <p:cNvPicPr/>
          <p:nvPr/>
        </p:nvPicPr>
        <p:blipFill>
          <a:blip r:embed="rId1"/>
          <a:stretch/>
        </p:blipFill>
        <p:spPr>
          <a:xfrm>
            <a:off x="324000" y="4653000"/>
            <a:ext cx="84247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Ч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62920" cy="26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зоопарке Язычок покатался н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чел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тался на маленьком автомобильчике «Дрррр..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о очень жарко. Язычок купил себе мороженое – эскимо на палоч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вкусное морожено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16_Качели"/>
          <p:cNvPicPr/>
          <p:nvPr/>
        </p:nvPicPr>
        <p:blipFill>
          <a:blip r:embed="rId1"/>
          <a:stretch/>
        </p:blipFill>
        <p:spPr>
          <a:xfrm>
            <a:off x="468360" y="4635360"/>
            <a:ext cx="84963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АС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134200" cy="26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ъел Язычок мороженое и подумал, что надо домой возвращать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мотрел на часы, а они стоя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до часы завести: «тик-тик-тик...» 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шл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17_Часики"/>
          <p:cNvPicPr/>
          <p:nvPr/>
        </p:nvPicPr>
        <p:blipFill>
          <a:blip r:embed="rId1"/>
          <a:stretch/>
        </p:blipFill>
        <p:spPr>
          <a:xfrm>
            <a:off x="611280" y="4768920"/>
            <a:ext cx="82087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КОШК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5640" y="1196640"/>
            <a:ext cx="79200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ил-был веселый Язычок.  Проснулся он рано утром. Открыл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кошк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мотрел </a:t>
            </a: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налев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направ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0" lang="ru-RU" sz="1800" spc="-1" strike="noStrike">
                <a:solidFill>
                  <a:srgbClr val="00cc99"/>
                </a:solidFill>
                <a:latin typeface="Times New Roman"/>
              </a:rPr>
              <a:t>Вни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смотрел. Ночью шел дождь – нет ли луж? </a:t>
            </a:r>
            <a:r>
              <a:rPr b="0" lang="ru-RU" sz="1800" spc="-1" strike="noStrike">
                <a:solidFill>
                  <a:srgbClr val="ff9966"/>
                </a:solidFill>
                <a:latin typeface="Times New Roman"/>
              </a:rPr>
              <a:t>Ввер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смотрел  - светит ли солнышко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рыл окошк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бежал язычок в ванную умываться.  Открыл дверь ванной. Дверь заскрипела: Н-н-н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до смазать дверь – подумал Язычок. Вошел он в ванную. Включил свет – «чик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рыл кран «чик-чик-чик». Полилась горячая вода «ш-ш-ш»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Ой!» -  испугался язычок и отдернул руки. Надо открыть какую воду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вильно, холодную «чик-чик-чик».  И язычок открыл кран с холодной водой «с-с-с»...  Холодная водичка соединилась с горячей и стала тепл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01_Окошко"/>
          <p:cNvPicPr/>
          <p:nvPr/>
        </p:nvPicPr>
        <p:blipFill>
          <a:blip r:embed="rId1"/>
          <a:stretch/>
        </p:blipFill>
        <p:spPr>
          <a:xfrm>
            <a:off x="539640" y="4581360"/>
            <a:ext cx="81378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ЛИНЧ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й! меня мама ждет!» Вскочил Язычок на лошадку и поскакал дом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ма его ждала мам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а испекла Язычку вкусны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линчи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18_Блинчик"/>
          <p:cNvPicPr/>
          <p:nvPr/>
        </p:nvPicPr>
        <p:blipFill>
          <a:blip r:embed="rId1"/>
          <a:stretch/>
        </p:blipFill>
        <p:spPr>
          <a:xfrm>
            <a:off x="611280" y="4535640"/>
            <a:ext cx="8137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КУСНОЕ ВАРЕН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918560" cy="25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оложила вкусног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рень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19_ВкусноеВаренье"/>
          <p:cNvPicPr/>
          <p:nvPr/>
        </p:nvPicPr>
        <p:blipFill>
          <a:blip r:embed="rId1"/>
          <a:stretch/>
        </p:blipFill>
        <p:spPr>
          <a:xfrm>
            <a:off x="324000" y="4618080"/>
            <a:ext cx="864072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АР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ма сходила в магазин игрушек и купила своему любимому сыночку подар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ма подарила Язычку воздушный шари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го цвет на звук «з». Угадай, какого цвета шари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, зелено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зычок надул шарик: «Ф-ф-ф..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АРМОШ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ще мама купила Язычку красивую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армош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21_Гармошка"/>
          <p:cNvPicPr/>
          <p:nvPr/>
        </p:nvPicPr>
        <p:blipFill>
          <a:blip r:embed="rId1"/>
          <a:stretch/>
        </p:blipFill>
        <p:spPr>
          <a:xfrm>
            <a:off x="395280" y="4578480"/>
            <a:ext cx="84247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АРАБА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989840" cy="25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ма купила бараба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зычок взял барабанные палочки и заиграл веселый марш «дэ-дэ-дэ, дэ-дэ-дэ, дэ-дэ-дэ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был очень рад новым игрушкам и очень рад, что вернулся домой к мам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22_Барабанщик"/>
          <p:cNvPicPr/>
          <p:nvPr/>
        </p:nvPicPr>
        <p:blipFill>
          <a:blip r:embed="rId1"/>
          <a:stretch/>
        </p:blipFill>
        <p:spPr>
          <a:xfrm>
            <a:off x="324000" y="4649760"/>
            <a:ext cx="84960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АРАШЮТ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23_Парашютик"/>
          <p:cNvPicPr/>
          <p:nvPr/>
        </p:nvPicPr>
        <p:blipFill>
          <a:blip r:embed="rId1"/>
          <a:stretch/>
        </p:blipFill>
        <p:spPr>
          <a:xfrm>
            <a:off x="684360" y="2565360"/>
            <a:ext cx="77724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НАТЬ МЯЧ В ВОР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24_ЗагнатьМячВВорота"/>
          <p:cNvPicPr/>
          <p:nvPr/>
        </p:nvPicPr>
        <p:blipFill>
          <a:blip r:embed="rId1"/>
          <a:stretch/>
        </p:blipFill>
        <p:spPr>
          <a:xfrm>
            <a:off x="684360" y="2781360"/>
            <a:ext cx="777240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99"/>
                </a:solidFill>
                <a:latin typeface="Times New Roman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ИСТИМ ЗУБ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зычок умылся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чистил зуб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сначала нижние, затем верх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полоскал рот. Умылся еще раз. Вытерс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рыл кран с холодной водой «чик-чик-чик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рыл кран с горячей водой «чик-чик-чик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рыл дверь «н-н-н»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побежал веселый Язычок на кухню завтрака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02_ЧистимЗубки"/>
          <p:cNvPicPr/>
          <p:nvPr/>
        </p:nvPicPr>
        <p:blipFill>
          <a:blip r:embed="rId1"/>
          <a:stretch/>
        </p:blipFill>
        <p:spPr>
          <a:xfrm>
            <a:off x="179280" y="4581360"/>
            <a:ext cx="86360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СИМ ТЕСТ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9898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на кухне мама печет пирог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Мамочка, здравствуй!, - крикнул радостно язычок.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 тебя очень люблю.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Здравствуй, сыночек! Я тебя тоже очень люблю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гай мн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сто меси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!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я-пя-пя – разминали они тесто губами, потом зубками, снова губ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сто готово. Испекли они пирожки «Пя-пя-пя...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зычок съел три пирож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ты думаешь, с какой начинкой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03_МесимТесто"/>
          <p:cNvPicPr/>
          <p:nvPr/>
        </p:nvPicPr>
        <p:blipFill>
          <a:blip r:embed="rId1"/>
          <a:stretch/>
        </p:blipFill>
        <p:spPr>
          <a:xfrm>
            <a:off x="324000" y="4581360"/>
            <a:ext cx="85629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АШЕЧ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тем язычок выпил молока вот из так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шеч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азал «Спасибо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04_Чашечка"/>
          <p:cNvPicPr/>
          <p:nvPr/>
        </p:nvPicPr>
        <p:blipFill>
          <a:blip r:embed="rId1"/>
          <a:stretch/>
        </p:blipFill>
        <p:spPr>
          <a:xfrm>
            <a:off x="395280" y="4437000"/>
            <a:ext cx="8424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УДОЧ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84692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спросил Язычок у мамы – «Мамочка, можно я пойду погуляю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ма ответила «Конечно, можно, только не опоздай к обеду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ял язычо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удочк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весело загудел «Ду-ду-ду!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05_Дудочка"/>
          <p:cNvPicPr/>
          <p:nvPr/>
        </p:nvPicPr>
        <p:blipFill>
          <a:blip r:embed="rId1"/>
          <a:stretch/>
        </p:blipFill>
        <p:spPr>
          <a:xfrm>
            <a:off x="611280" y="4630680"/>
            <a:ext cx="82087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БОРЧ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шел Язычок на крыльцо дом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круг дома длинны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бо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Вот так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на крыше дома труба. В трубе живет  веселый ветер. «У-у-у...»поет о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06_Заборчик"/>
          <p:cNvPicPr/>
          <p:nvPr/>
        </p:nvPicPr>
        <p:blipFill>
          <a:blip r:embed="rId1"/>
          <a:stretch/>
        </p:blipFill>
        <p:spPr>
          <a:xfrm>
            <a:off x="684360" y="4551480"/>
            <a:ext cx="79912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ля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селы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ля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расил забо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07_Маляр"/>
          <p:cNvPicPr/>
          <p:nvPr/>
        </p:nvPicPr>
        <p:blipFill>
          <a:blip r:embed="rId1"/>
          <a:stretch/>
        </p:blipFill>
        <p:spPr>
          <a:xfrm>
            <a:off x="539640" y="4359240"/>
            <a:ext cx="842508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ИБ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6292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отри, Язычок, сказал маляр – возле забора выро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иб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08_Грибочек"/>
          <p:cNvPicPr/>
          <p:nvPr/>
        </p:nvPicPr>
        <p:blipFill>
          <a:blip r:embed="rId1"/>
          <a:stretch/>
        </p:blipFill>
        <p:spPr>
          <a:xfrm>
            <a:off x="468360" y="4503600"/>
            <a:ext cx="8136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emeevma</dc:creator>
  <dc:description/>
  <dc:language>en-US</dc:language>
  <cp:lastModifiedBy>Admin</cp:lastModifiedBy>
  <dcterms:modified xsi:type="dcterms:W3CDTF">2013-10-24T12:20:04Z</dcterms:modified>
  <cp:revision>7</cp:revision>
  <dc:subject/>
  <dc:title>PowerPoint Presentation</dc:title>
</cp:coreProperties>
</file>