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22A-A4BE-4F89-B1F6-670213DB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A39-3983-4D23-9342-7DCE42FE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0E8-C6BA-4214-93DF-E6B42E28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30F-9188-40F9-9C20-4AF6E9A6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28B-6190-409D-A6CF-D293AE37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409-1BBA-4725-AD11-47CBBF25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E66-6BB1-44DB-A174-6086B016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16F-61C9-441C-8758-4A5AF46A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9F7-0EF8-4BDE-95C8-A621DD4A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110-1555-4C26-8E6C-FE8D7B5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C5E-96C3-46D0-AA30-884F31B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B03-601E-4AAD-B95F-160D3FA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8D95-241C-4379-A541-E6FBF2986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кст и предложение (общее представлени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 -------ПРЕДЛОЖЕНИЕ----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1154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Кот чутко спит.Врач лечит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ушка испекла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120" y="3714840"/>
            <a:ext cx="832968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В лесу жила белка. У белки пушистый хвост. Белка любит оре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 flipH="1">
            <a:off x="4214880" y="928800"/>
            <a:ext cx="1440" cy="5715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imes New Roman"/>
              </a:rPr>
              <a:t>ТЕК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1413000"/>
            <a:ext cx="68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, что тако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учиться его распозн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27280" y="1700280"/>
            <a:ext cx="4259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пределить  текс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15640" y="155700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каждое предложение и определи о чём о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умай связаны ли предложения по смы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Текст можно озагл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 rot="21405000">
            <a:off x="1969920" y="2125440"/>
            <a:ext cx="57960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16:04Z</dcterms:created>
  <dc:creator>Люсенька</dc:creator>
  <dc:description/>
  <dc:language>en-US</dc:language>
  <cp:lastModifiedBy>Magicscreen</cp:lastModifiedBy>
  <dcterms:modified xsi:type="dcterms:W3CDTF">2022-11-10T09:10:01Z</dcterms:modified>
  <cp:revision>41</cp:revision>
  <dc:subject/>
  <dc:title>Слайд 1</dc:title>
</cp:coreProperties>
</file>