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9EF-356B-4D96-9C86-442F13DB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111-5765-4C81-9B57-BF33D6AA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9F8-BA78-4D9B-8996-EDBA880A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5E9F-7E0D-4375-80E0-FA6816E3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2F510-58C0-4085-97E6-418ECD6A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81816-8D38-4168-BC8C-2265C71B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14C5B-0B40-4890-BD73-D7E951AC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C264D-494B-492D-82F6-CDF650C9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D3F18-CB08-482E-8033-3171F99A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BA92B-9105-452B-B212-80446386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EF16C-FC6E-4B32-8430-8EAB1FD7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D13-9E4B-4D36-BEC2-944316EB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A73E9-0396-4546-A83D-DC0DB4FA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CFE1C-F393-4CD0-9FF0-1B1110D8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0FBFC-3664-4136-8036-B34B9ACE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76D04-A07A-4D31-B6F0-B7935399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E5DE1-C15F-40D1-9382-5C41EBDA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4259-4A15-45F2-AD89-786191BB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766-E4C2-498B-85B4-3CF3A68F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D79D-771B-4F52-9FEB-944BFA4A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CDD-2870-4A7C-9BB6-A2DBC1B6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222-B4DF-46D6-BA8A-D4958C58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7DA-A617-445E-9CAF-8B225039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01A-79FF-405F-9ACA-BFF724F0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135F-DF25-4A65-8A46-C041A8834942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050E-2997-4BBD-9540-FE7E3E206F24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Ядро клетк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916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троение и функции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0" t="22415" r="2470" b="29182"/>
          <a:stretch/>
        </p:blipFill>
        <p:spPr>
          <a:xfrm>
            <a:off x="0" y="2637000"/>
            <a:ext cx="9144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рганоиды клетки животн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2139840"/>
            <a:ext cx="6156360" cy="4718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05ff6"/>
                </a:solidFill>
                <a:latin typeface="Times New Roman"/>
              </a:rPr>
              <a:t>Клетка состоит из большого количества специализированных органоидов.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94560" y="2565360"/>
            <a:ext cx="24494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05ff6"/>
                </a:solidFill>
                <a:latin typeface="Times New Roman"/>
              </a:rPr>
              <a:t>Каждый органоид клетки выполняет определенные, свойственные только ему функции.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84720" y="1773360"/>
            <a:ext cx="266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dbd"/>
                </a:solidFill>
                <a:latin typeface="Times New Roman"/>
              </a:rPr>
              <a:t>Ядрышко находится внутри ядра, и не имеет собственной мембранной оболочки, однако хорошо различимо под световым и электронным микроскопом. Основной функцией ядрышка является синтез рибосом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троение яд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1266840"/>
            <a:ext cx="61196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труктура яд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rcRect l="0" t="0" r="1107" b="-788"/>
          <a:stretch/>
        </p:blipFill>
        <p:spPr>
          <a:xfrm>
            <a:off x="0" y="1284120"/>
            <a:ext cx="6732720" cy="509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694560" y="2565360"/>
            <a:ext cx="24494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b2dbd"/>
                </a:solidFill>
                <a:latin typeface="Times New Roman"/>
              </a:rPr>
              <a:t>В ядре содержится ДНК-хранитель наследственной информации клетки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дна из функций яд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08000" y="1844640"/>
            <a:ext cx="6218280" cy="4465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11640" y="16398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Times New Roman"/>
              </a:rPr>
              <a:t>Ядро управляет обменом веществ клетки, определяя, какие белки и в каком количестве должны быть синтезированы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кариотические клетк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0" y="198756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троение и функции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39716" r="0" b="20291"/>
          <a:stretch/>
        </p:blipFill>
        <p:spPr>
          <a:xfrm>
            <a:off x="0" y="2708280"/>
            <a:ext cx="91440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троение прокариатической кле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12000" y="1855800"/>
            <a:ext cx="313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b2dbd"/>
                </a:solidFill>
                <a:latin typeface="Times New Roman"/>
              </a:rPr>
              <a:t>Прокариоты или безъядерные — одноклеточные живые организмы, не обладающие (в отличие от эукариот) оформленным клеточным ядром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50920" y="1700280"/>
            <a:ext cx="5389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арактерные особен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1280" y="2332080"/>
            <a:ext cx="5364360" cy="3112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03280" y="1599840"/>
            <a:ext cx="4032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205ff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Times New Roman"/>
              </a:rPr>
              <a:t>Наличие оформленного ядра — нет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205ff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Times New Roman"/>
              </a:rPr>
              <a:t>Наличие жгутиков, плазмид и газовых вакуолей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205ff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Times New Roman"/>
              </a:rPr>
              <a:t>Структуры, в которых происходит фотосинтез — хлоросомы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205ff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Times New Roman"/>
              </a:rPr>
              <a:t>Формы размножения — бесполый способ, в результате которого происходит обмен генетической информацией, без увеличения числа клеток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равнение схемы реализации наследственной информации у  </a:t>
            </a:r>
            <a:r>
              <a:rPr b="0" lang="en-US" sz="3600" spc="-1" strike="noStrike">
                <a:solidFill>
                  <a:srgbClr val="205ff6"/>
                </a:solidFill>
                <a:latin typeface="Arial"/>
              </a:rPr>
              <a:t>прокариатической и эукариотической кле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620720" y="2492280"/>
            <a:ext cx="6120000" cy="3830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280" y="1988640"/>
            <a:ext cx="75610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b2dbd"/>
                </a:solidFill>
                <a:latin typeface="Arial"/>
              </a:rPr>
              <a:t>Основное функциональное отличие клеток эукариот от клеток прокариот заключается в пространственном разграничении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b2dbd"/>
                </a:solidFill>
                <a:latin typeface="Arial"/>
              </a:rPr>
              <a:t>процессов транскрипции (синтеза матричной РНК) и трансляции (синтеза белка рибосомой), что дает в распоряжение эукариотической клетки новые инструменты регуляции биосинтеза и контроля качества мРНК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3:57:37Z</dcterms:created>
  <dc:creator>BwrProtect</dc:creator>
  <dc:description/>
  <dc:language>en-US</dc:language>
  <cp:lastModifiedBy>BwrProtect</cp:lastModifiedBy>
  <dcterms:modified xsi:type="dcterms:W3CDTF">2009-11-10T19:15:36Z</dcterms:modified>
  <cp:revision>11</cp:revision>
  <dc:subject/>
  <dc:title>Ядро клет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