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D2E-C9D7-4254-853B-7863E369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394-4350-4D69-8A4F-BAD23BD8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DA9-8ACE-4886-AF17-BE14915B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9AB-F4D3-4FFF-BAA8-503CF293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1F9A-F424-44E0-848D-5282CE45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B686-BE15-4E5A-B19C-A83E9D6B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9F60-16E8-49A3-8CBC-D7ADC2A7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01F4-D997-4412-8CD5-BCB68EE0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E651-E7DF-4210-86E5-42FE2B96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6CAB-E238-41B4-A090-37328E76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E52A-D0F1-459D-AF51-8B148153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3E2-182F-45DA-A045-34B99968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B39F-4825-45C4-A903-D840A116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AF22-3818-4B51-9923-909EFD70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ACD2-B1A3-4024-A7CF-6C94F92B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2C88-8FEF-4F32-A6CC-F8CEC86E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DAC6-4010-4BAA-8A4A-FA615858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C9F-0ABB-4C52-9AD3-726BE5A9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A38-399B-45F7-83E3-33AB0B0D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ABF-645E-4504-BB8C-400E5517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4C3-155A-436B-A2F3-A2307B16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250-0058-460A-852B-AB1E6B50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D76-919A-4CAC-9F7E-29CF644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986-FFFB-4712-B7F5-967E6139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AD15-784D-4219-837A-E252E69856E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06C7-7BEC-46BA-87FC-7A4EF211A2E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Государственное бюджетное профессиональное 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Департамента здравоохранения города Москв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«Медицинский колледж №6» СП №3</a:t>
            </a:r>
            <a:br>
              <a:rPr sz="2000"/>
            </a:b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7058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рмарка</a:t>
            </a:r>
            <a:r>
              <a:rPr b="0" lang="ru-RU" sz="5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ru-RU" sz="5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акансий</a:t>
            </a:r>
            <a:endParaRPr b="0" lang="en-US" sz="5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82c4b"/>
                </a:solidFill>
                <a:latin typeface="Times New Roman"/>
                <a:ea typeface="Times New Roman"/>
              </a:rPr>
              <a:t>Результаты анкетирования 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82c4b"/>
                </a:solidFill>
                <a:latin typeface="Times New Roman"/>
                <a:ea typeface="Times New Roman"/>
              </a:rPr>
              <a:t>«Чего хотел бы ты? Что может помешать?»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2c4b"/>
                </a:solidFill>
                <a:latin typeface="Century Gothic"/>
              </a:rPr>
              <a:t>2019-2020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897"/>
                </a:solidFill>
                <a:latin typeface="Palatino Linotype"/>
              </a:rPr>
              <a:t>Анкета «Чего хотел бы ты? Что может помешать?»</a:t>
            </a:r>
            <a:endParaRPr b="0" lang="en-US" sz="1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83664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Факторы, непосредственно убедившие обучающихся в правильности выбора професси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3" name="Диаграмма 3" descr=""/>
          <p:cNvPicPr/>
          <p:nvPr/>
        </p:nvPicPr>
        <p:blipFill>
          <a:blip r:embed="rId1"/>
          <a:stretch/>
        </p:blipFill>
        <p:spPr>
          <a:xfrm>
            <a:off x="920880" y="1814400"/>
            <a:ext cx="73022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897"/>
                </a:solidFill>
                <a:latin typeface="Palatino Linotype"/>
              </a:rPr>
              <a:t>Анкета «Чего хотел бы ты? Что может помешать?»</a:t>
            </a:r>
            <a:endParaRPr b="0" lang="en-US" sz="1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83664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Практическое обуч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Отделение с наибольшей самореализацие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6" name="Диаграмма 3" descr=""/>
          <p:cNvPicPr/>
          <p:nvPr/>
        </p:nvPicPr>
        <p:blipFill>
          <a:blip r:embed="rId1"/>
          <a:stretch/>
        </p:blipFill>
        <p:spPr>
          <a:xfrm>
            <a:off x="920880" y="1773360"/>
            <a:ext cx="73022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897"/>
                </a:solidFill>
                <a:latin typeface="Palatino Linotype"/>
              </a:rPr>
              <a:t>Анкета «Чего хотел бы ты? Что может помешать?»</a:t>
            </a:r>
            <a:endParaRPr b="0" lang="en-US" sz="1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83664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Предполагаемое место работы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после окончания обучения в колледж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9" name="Диаграмма 3" descr=""/>
          <p:cNvPicPr/>
          <p:nvPr/>
        </p:nvPicPr>
        <p:blipFill>
          <a:blip r:embed="rId1"/>
          <a:stretch/>
        </p:blipFill>
        <p:spPr>
          <a:xfrm>
            <a:off x="920880" y="1793880"/>
            <a:ext cx="73022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897"/>
                </a:solidFill>
                <a:latin typeface="Palatino Linotype"/>
              </a:rPr>
              <a:t>Анкета «Чего хотел бы ты? Что может помешать?»</a:t>
            </a:r>
            <a:endParaRPr b="0" lang="en-US" sz="1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9640" y="83664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entury Gothic"/>
              </a:rPr>
              <a:t>Продолжение образования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entury Gothic"/>
              </a:rPr>
              <a:t>после окончания обучения в колледже (намерения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Диаграмма 3" descr=""/>
          <p:cNvPicPr/>
          <p:nvPr/>
        </p:nvPicPr>
        <p:blipFill>
          <a:blip r:embed="rId1"/>
          <a:stretch/>
        </p:blipFill>
        <p:spPr>
          <a:xfrm>
            <a:off x="920880" y="1793880"/>
            <a:ext cx="73022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897"/>
                </a:solidFill>
                <a:latin typeface="Palatino Linotype"/>
              </a:rPr>
              <a:t>Анкета «Чего хотел бы ты? Что может помешать?»</a:t>
            </a:r>
            <a:endParaRPr b="0" lang="en-US" sz="1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83664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Сомнения в своих возможностях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по преодолению трудностей в выбранной специальности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5" name="Диаграмма 3" descr=""/>
          <p:cNvPicPr/>
          <p:nvPr/>
        </p:nvPicPr>
        <p:blipFill>
          <a:blip r:embed="rId1"/>
          <a:stretch/>
        </p:blipFill>
        <p:spPr>
          <a:xfrm>
            <a:off x="633240" y="1793880"/>
            <a:ext cx="78775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Palatino Linotype"/>
              </a:rPr>
              <a:t>Предложения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1970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подготовке конкурентоспособного выпускника готовы участвовать все представители лечебных учреждений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улучшения взаимодействия между клиническими базами и медицинским колледжем для улучшения качества подготовки выпускников после окончания практики проводить совместные совещания и конференции, развивать партнерство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веряйте нашим студентам, давайте больше возможностей реализовать себя, проявить личностные качества, показать все умения и знания на практик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342432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1T07:01:59Z</dcterms:created>
  <dc:creator>Pабота</dc:creator>
  <dc:description/>
  <dc:language>en-US</dc:language>
  <cp:lastModifiedBy>Pабота</cp:lastModifiedBy>
  <dcterms:modified xsi:type="dcterms:W3CDTF">2020-02-21T09:31:44Z</dcterms:modified>
  <cp:revision>31</cp:revision>
  <dc:subject/>
  <dc:title>Презентация PowerPoint</dc:title>
</cp:coreProperties>
</file>