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20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669-A401-428D-9D34-5111B68E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483-95FF-451C-BB78-27ED62D5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D4B-8763-4C3C-88E6-111D4E60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54E-0B8D-4DF6-B49E-1F0CE6AE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797E-D739-4281-B2BD-F72FA7C5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B77F-37E3-4921-B2B2-065B351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3132-4486-4BA1-A4C3-82F3C2E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A8EA-CB76-4559-89B6-F3C84401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18A-725F-46EF-9B5F-FD1B8255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7903-9EC5-4C01-AA1B-53778DB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02C5-AF8C-43CE-9AC4-D3B76CE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52F-E9A6-4630-A220-D4CBA08F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FB2-0E1E-4591-96FB-29AB0F7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A812-D9C8-4ED6-9E0C-0AAB0E9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04E6-BD70-4BCD-B9A5-5D78DD1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3D3D-D8F6-4199-B494-E42A9321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313-9582-4626-967B-5BC078FB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D7DE-A178-4914-8BD0-1CA0CCCB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2F41-FC8C-4F98-A854-F11624E7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72F9-2773-433B-9081-D90C4F2F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557A-5607-4C3D-AB12-D010FB77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F32C-A001-4DF8-B912-1BBA295E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A44-B39C-47CB-B20D-09353A3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CAFD-192C-44BC-B6DF-C4944E4F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2367-4BE1-44B0-9864-B694FCC8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85ED-0A97-4452-92F5-AF87FD6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5C2F-E66D-49C5-B5DC-848AF20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A6AF-20D0-43D8-98ED-618DE9C8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3BB0-A401-495C-8F7B-5F8D9D0B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7D67-EEA4-4EAC-9643-D4C12D35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FB6C-D963-4ED2-B941-2ED333D9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6E0A-EA8C-4988-B7F3-26FE9B78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90A2-B9EC-40B7-8A34-C1110F4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79E-C944-4E53-AFAF-A437269B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7351-D66D-47F4-91B9-1F41136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37E6A-80B3-4853-8E0B-EE0C3E01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B7B0-1A1F-45E8-8C46-ED0338F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38C8-B365-4EC8-8972-E5130CC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1713-F2C0-4C7A-BB15-A8F7838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9C8F-0BCE-4212-8DA1-39E2690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F1BC-EA1C-4309-B527-8D008BB0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BBC95-9817-4293-835C-E936B0A5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9F34-3401-4026-A588-1B030F66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0A6-457C-4D99-AA95-40AE5C4C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3E3-1A9E-4ABF-9BA9-9707BD6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DEA-CDAE-4424-A097-44F29D9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FF4-4460-46C8-A03D-253E420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0EA-E1BE-4451-8778-A4C437C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D5C-61E6-469B-8121-971A830D64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43F2-65CB-4487-97C6-54C2EB228DF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3D03-918B-4158-B75E-4A3D9AA4D18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9E04-693E-4AC0-9CBB-9E0E748508C6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А ну-ка, мальчики!»</a:t>
            </a:r>
            <a:br>
              <a:rPr sz="4400"/>
            </a:br>
            <a:br>
              <a:rPr sz="1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, посвящённая Дню защитника Отече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27" descr="592324e6005d117393f61bfdfsmr-655x655"/>
          <p:cNvPicPr/>
          <p:nvPr/>
        </p:nvPicPr>
        <p:blipFill>
          <a:blip r:embed="rId2"/>
          <a:stretch/>
        </p:blipFill>
        <p:spPr>
          <a:xfrm>
            <a:off x="324000" y="2997360"/>
            <a:ext cx="3606480" cy="3254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014"/>
          <p:cNvPicPr/>
          <p:nvPr/>
        </p:nvPicPr>
        <p:blipFill>
          <a:blip r:embed="rId3"/>
          <a:stretch/>
        </p:blipFill>
        <p:spPr>
          <a:xfrm>
            <a:off x="3708360" y="3141720"/>
            <a:ext cx="48340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6 конкурс «Загадк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Еще вчера он был мальчишкой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И пошалить всегда был рад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егодня он в строю и в форме..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Так кто же он теперь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Он стреляет безотказно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И любой простой солдат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Управляет им прекрасно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Что же это?..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Гусеницы есть и пушка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Цвета он, как та лягушка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Весь железный, боевой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На войне он — ходов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Я служу сейчас на флоте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Слух хороший у меня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Есть такой же и в пехоте — Дружим с рацией не зря!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7 конкурс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Verdana"/>
              </a:rPr>
              <a:t>Чтение наизусть стихотворения о Российской Армии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 Днём Защитника Отечеств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1600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рвый конкур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«Физическая подготовка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545840" y="1773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коман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81480" y="1773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коман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4716360" y="2060640"/>
            <a:ext cx="0" cy="4437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9" name="Picture 23" descr="ребус 1"/>
          <p:cNvPicPr/>
          <p:nvPr/>
        </p:nvPicPr>
        <p:blipFill>
          <a:blip r:embed="rId2"/>
          <a:stretch/>
        </p:blipFill>
        <p:spPr>
          <a:xfrm>
            <a:off x="539640" y="2349360"/>
            <a:ext cx="2411640" cy="15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27" descr="ребусы 3"/>
          <p:cNvPicPr/>
          <p:nvPr/>
        </p:nvPicPr>
        <p:blipFill>
          <a:blip r:embed="rId3"/>
          <a:stretch/>
        </p:blipFill>
        <p:spPr>
          <a:xfrm>
            <a:off x="6300720" y="2349360"/>
            <a:ext cx="2346480" cy="15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28" descr="ребус 2"/>
          <p:cNvPicPr/>
          <p:nvPr/>
        </p:nvPicPr>
        <p:blipFill>
          <a:blip r:embed="rId4"/>
          <a:stretch/>
        </p:blipFill>
        <p:spPr>
          <a:xfrm>
            <a:off x="4932360" y="3716280"/>
            <a:ext cx="240984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2" name="Picture 30" descr="ребусы 3 - копия"/>
          <p:cNvPicPr/>
          <p:nvPr/>
        </p:nvPicPr>
        <p:blipFill>
          <a:blip r:embed="rId5"/>
          <a:stretch/>
        </p:blipFill>
        <p:spPr>
          <a:xfrm>
            <a:off x="6205680" y="5013360"/>
            <a:ext cx="2484360" cy="142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3" descr=""/>
          <p:cNvPicPr/>
          <p:nvPr/>
        </p:nvPicPr>
        <p:blipFill>
          <a:blip r:embed="rId6"/>
          <a:stretch/>
        </p:blipFill>
        <p:spPr>
          <a:xfrm>
            <a:off x="1476360" y="3716280"/>
            <a:ext cx="3024360" cy="13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34" descr="ребус 2"/>
          <p:cNvPicPr/>
          <p:nvPr/>
        </p:nvPicPr>
        <p:blipFill>
          <a:blip r:embed="rId7"/>
          <a:stretch/>
        </p:blipFill>
        <p:spPr>
          <a:xfrm>
            <a:off x="539640" y="4941720"/>
            <a:ext cx="2397240" cy="15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755640" y="47628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торой конкур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«Полный вперёд!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11280" y="2133720"/>
            <a:ext cx="6480000" cy="316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90800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55600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320364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385128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450072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514836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579600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611280" y="278136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611280" y="335772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11280" y="400536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125892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611280" y="465300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6443640" y="2133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2009520" y="28526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2655360" y="28526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3302640" y="2852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950640" y="28526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4606560" y="2852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5249520" y="2852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5897520" y="2852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3950640" y="342900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4594680" y="3429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249520" y="342900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5889960" y="3429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696960" y="47242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4601880" y="47242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5252760" y="472428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2643480" y="40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Text Box 40"/>
          <p:cNvSpPr/>
          <p:nvPr/>
        </p:nvSpPr>
        <p:spPr>
          <a:xfrm>
            <a:off x="589752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6549480" y="47242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Ь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Text Box 42"/>
          <p:cNvSpPr/>
          <p:nvPr/>
        </p:nvSpPr>
        <p:spPr>
          <a:xfrm>
            <a:off x="3308040" y="40766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Text Box 43"/>
          <p:cNvSpPr/>
          <p:nvPr/>
        </p:nvSpPr>
        <p:spPr>
          <a:xfrm>
            <a:off x="3950280" y="40766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44"/>
          <p:cNvSpPr/>
          <p:nvPr/>
        </p:nvSpPr>
        <p:spPr>
          <a:xfrm>
            <a:off x="4599720" y="4076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Text Box 45"/>
          <p:cNvSpPr/>
          <p:nvPr/>
        </p:nvSpPr>
        <p:spPr>
          <a:xfrm>
            <a:off x="696600" y="472428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710640" y="2852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6544440" y="2852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Text Box 48"/>
          <p:cNvSpPr/>
          <p:nvPr/>
        </p:nvSpPr>
        <p:spPr>
          <a:xfrm>
            <a:off x="710280" y="2276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1361880" y="227664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1994400" y="2276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Text Box 51"/>
          <p:cNvSpPr/>
          <p:nvPr/>
        </p:nvSpPr>
        <p:spPr>
          <a:xfrm>
            <a:off x="2657160" y="227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Text Box 52"/>
          <p:cNvSpPr/>
          <p:nvPr/>
        </p:nvSpPr>
        <p:spPr>
          <a:xfrm>
            <a:off x="3308040" y="22766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Text Box 53"/>
          <p:cNvSpPr/>
          <p:nvPr/>
        </p:nvSpPr>
        <p:spPr>
          <a:xfrm>
            <a:off x="3954600" y="227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Text Box 54"/>
          <p:cNvSpPr/>
          <p:nvPr/>
        </p:nvSpPr>
        <p:spPr>
          <a:xfrm>
            <a:off x="4600800" y="22766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Text Box 55"/>
          <p:cNvSpPr/>
          <p:nvPr/>
        </p:nvSpPr>
        <p:spPr>
          <a:xfrm>
            <a:off x="5245560" y="227664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5892480" y="2276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Text Box 57"/>
          <p:cNvSpPr/>
          <p:nvPr/>
        </p:nvSpPr>
        <p:spPr>
          <a:xfrm>
            <a:off x="6546960" y="227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6546240" y="3429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Text Box 59"/>
          <p:cNvSpPr/>
          <p:nvPr/>
        </p:nvSpPr>
        <p:spPr>
          <a:xfrm>
            <a:off x="5249520" y="40766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Text Box 60"/>
          <p:cNvSpPr/>
          <p:nvPr/>
        </p:nvSpPr>
        <p:spPr>
          <a:xfrm>
            <a:off x="5890320" y="407664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Text Box 61"/>
          <p:cNvSpPr/>
          <p:nvPr/>
        </p:nvSpPr>
        <p:spPr>
          <a:xfrm>
            <a:off x="6551280" y="4076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Text Box 62"/>
          <p:cNvSpPr/>
          <p:nvPr/>
        </p:nvSpPr>
        <p:spPr>
          <a:xfrm>
            <a:off x="698040" y="3429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Text Box 63"/>
          <p:cNvSpPr/>
          <p:nvPr/>
        </p:nvSpPr>
        <p:spPr>
          <a:xfrm>
            <a:off x="1364760" y="3429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Text Box 64"/>
          <p:cNvSpPr/>
          <p:nvPr/>
        </p:nvSpPr>
        <p:spPr>
          <a:xfrm>
            <a:off x="201348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Ю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Text Box 65"/>
          <p:cNvSpPr/>
          <p:nvPr/>
        </p:nvSpPr>
        <p:spPr>
          <a:xfrm>
            <a:off x="2643840" y="34290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Text Box 66"/>
          <p:cNvSpPr/>
          <p:nvPr/>
        </p:nvSpPr>
        <p:spPr>
          <a:xfrm>
            <a:off x="3308040" y="342900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Text Box 67"/>
          <p:cNvSpPr/>
          <p:nvPr/>
        </p:nvSpPr>
        <p:spPr>
          <a:xfrm>
            <a:off x="717120" y="4076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Text Box 68"/>
          <p:cNvSpPr/>
          <p:nvPr/>
        </p:nvSpPr>
        <p:spPr>
          <a:xfrm>
            <a:off x="2014200" y="4724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Text Box 69"/>
          <p:cNvSpPr/>
          <p:nvPr/>
        </p:nvSpPr>
        <p:spPr>
          <a:xfrm>
            <a:off x="3289680" y="4724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Text Box 70"/>
          <p:cNvSpPr/>
          <p:nvPr/>
        </p:nvSpPr>
        <p:spPr>
          <a:xfrm>
            <a:off x="1349640" y="40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Text Box 71"/>
          <p:cNvSpPr/>
          <p:nvPr/>
        </p:nvSpPr>
        <p:spPr>
          <a:xfrm>
            <a:off x="2008080" y="40766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Text Box 72"/>
          <p:cNvSpPr/>
          <p:nvPr/>
        </p:nvSpPr>
        <p:spPr>
          <a:xfrm>
            <a:off x="2657160" y="47242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Text Box 73"/>
          <p:cNvSpPr/>
          <p:nvPr/>
        </p:nvSpPr>
        <p:spPr>
          <a:xfrm>
            <a:off x="1359360" y="2852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Text Box 74"/>
          <p:cNvSpPr/>
          <p:nvPr/>
        </p:nvSpPr>
        <p:spPr>
          <a:xfrm>
            <a:off x="3949920" y="472428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Text Box 75"/>
          <p:cNvSpPr/>
          <p:nvPr/>
        </p:nvSpPr>
        <p:spPr>
          <a:xfrm>
            <a:off x="1365120" y="472428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Ё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Text Box 76"/>
          <p:cNvSpPr/>
          <p:nvPr/>
        </p:nvSpPr>
        <p:spPr>
          <a:xfrm>
            <a:off x="395280" y="5445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трочках таблицы спрятались 5 названий морских судов. Отыщите их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Picture 79" descr="0_5f6f8_c78a9e04_L"/>
          <p:cNvPicPr/>
          <p:nvPr/>
        </p:nvPicPr>
        <p:blipFill>
          <a:blip r:embed="rId2"/>
          <a:stretch/>
        </p:blipFill>
        <p:spPr>
          <a:xfrm>
            <a:off x="7164360" y="2708280"/>
            <a:ext cx="1608120" cy="2590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3" descr="flying-sea-gull-hi"/>
          <p:cNvPicPr/>
          <p:nvPr/>
        </p:nvPicPr>
        <p:blipFill>
          <a:blip r:embed="rId3"/>
          <a:stretch/>
        </p:blipFill>
        <p:spPr>
          <a:xfrm>
            <a:off x="324000" y="620640"/>
            <a:ext cx="2226960" cy="1219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6" descr="0_71782_ec4cb7de_XL"/>
          <p:cNvPicPr/>
          <p:nvPr/>
        </p:nvPicPr>
        <p:blipFill>
          <a:blip r:embed="rId4"/>
          <a:stretch/>
        </p:blipFill>
        <p:spPr>
          <a:xfrm>
            <a:off x="6804000" y="549360"/>
            <a:ext cx="204012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11600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Третий конкур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«Расшифруй слово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4572000" y="1773360"/>
            <a:ext cx="4319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мотрите значки морской флажковой  азбуки и расшифруйте слов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7" name="Picture 24" descr="15_2"/>
          <p:cNvPicPr/>
          <p:nvPr/>
        </p:nvPicPr>
        <p:blipFill>
          <a:blip r:embed="rId2"/>
          <a:stretch/>
        </p:blipFill>
        <p:spPr>
          <a:xfrm>
            <a:off x="4788000" y="4005360"/>
            <a:ext cx="1244520" cy="93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8" name="Picture 26" descr="14_2"/>
          <p:cNvPicPr/>
          <p:nvPr/>
        </p:nvPicPr>
        <p:blipFill>
          <a:blip r:embed="rId3"/>
          <a:stretch/>
        </p:blipFill>
        <p:spPr>
          <a:xfrm>
            <a:off x="6156360" y="4005360"/>
            <a:ext cx="112716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9" name="Picture 28" descr="02_2"/>
          <p:cNvPicPr/>
          <p:nvPr/>
        </p:nvPicPr>
        <p:blipFill>
          <a:blip r:embed="rId4"/>
          <a:stretch/>
        </p:blipFill>
        <p:spPr>
          <a:xfrm>
            <a:off x="7451640" y="4005360"/>
            <a:ext cx="124632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0" name="Picture 32" descr="flag_alphabet"/>
          <p:cNvPicPr/>
          <p:nvPr/>
        </p:nvPicPr>
        <p:blipFill>
          <a:blip r:embed="rId5"/>
          <a:stretch/>
        </p:blipFill>
        <p:spPr>
          <a:xfrm>
            <a:off x="260280" y="1916280"/>
            <a:ext cx="4302360" cy="47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1" name="Picture 33" descr="flag_alphabet"/>
          <p:cNvPicPr/>
          <p:nvPr/>
        </p:nvPicPr>
        <p:blipFill>
          <a:blip r:embed="rId6"/>
          <a:srcRect l="4409" t="23220" r="78746" b="66701"/>
          <a:stretch/>
        </p:blipFill>
        <p:spPr>
          <a:xfrm>
            <a:off x="4788000" y="5157720"/>
            <a:ext cx="12240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2" name="Picture 35" descr="05_2"/>
          <p:cNvPicPr/>
          <p:nvPr/>
        </p:nvPicPr>
        <p:blipFill>
          <a:blip r:embed="rId7"/>
          <a:stretch/>
        </p:blipFill>
        <p:spPr>
          <a:xfrm>
            <a:off x="6156360" y="5157720"/>
            <a:ext cx="115092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3" name="Picture 38" descr="flag_alphabet"/>
          <p:cNvPicPr/>
          <p:nvPr/>
        </p:nvPicPr>
        <p:blipFill>
          <a:blip r:embed="rId8"/>
          <a:srcRect l="5669" t="10375" r="79376" b="81523"/>
          <a:stretch/>
        </p:blipFill>
        <p:spPr>
          <a:xfrm>
            <a:off x="7451640" y="5157720"/>
            <a:ext cx="1224000" cy="9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111600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твёртый конкур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«Составь пословицы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5840" y="19890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 коман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081480" y="19890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 коман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4643280" y="2276640"/>
            <a:ext cx="0" cy="4437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95280" y="458136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то, сила, за Родину, тому, дерётся, двойная, даёт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788000" y="270828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а, мать, у него, и, у человека, Родина, одн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395280" y="270828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рвое, служить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жизни, честно, Отчизне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788000" y="4581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дина, умей, мать, постоять, за неё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2" name="Picture 17" descr="Flag1"/>
          <p:cNvPicPr/>
          <p:nvPr/>
        </p:nvPicPr>
        <p:blipFill>
          <a:blip r:embed="rId2"/>
          <a:stretch/>
        </p:blipFill>
        <p:spPr>
          <a:xfrm>
            <a:off x="468360" y="692280"/>
            <a:ext cx="14572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11600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  <a:ea typeface="Arial"/>
              </a:rPr>
              <a:t>Пятый конкур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  <a:ea typeface="Arial"/>
              </a:rPr>
              <a:t>«Составь картинку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545840" y="19890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1 коман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6081480" y="19890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 коман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4643280" y="2276640"/>
            <a:ext cx="0" cy="4437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7" name="Picture 18" descr="eiMkRgL9T"/>
          <p:cNvPicPr/>
          <p:nvPr/>
        </p:nvPicPr>
        <p:blipFill>
          <a:blip r:embed="rId2"/>
          <a:stretch/>
        </p:blipFill>
        <p:spPr>
          <a:xfrm>
            <a:off x="250920" y="260280"/>
            <a:ext cx="2025720" cy="1739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0" descr="%D0%A0%D0%B0%D1%81%D0%BA%D1%80%D0%B0%D1%81%D0%BA%D0%B8-%D1%81%D0%B8%D1%81%D1%82%D0%B5%D0%BC-%D0%BF%D1%80%D0%BE%D1%82%D0%B8%D0%B2%D0%BE%D0%B2%D0%BE%D0%B7%D0%B4%D1%83%D1%88%D0%BD%D0%BE%D0%B9-%D0%BE%D0%B1%D0%BE%D1%80%D0%BE%D0%BD%D1%8B-%D0%B8-%D0%BF%D1%80%D0%BE%D1%82%D0%B8%D0%B2%D0%BE%D1%80%D0%B0%D0%BA%D0%B5%D1%82%D0%BD%D1%8B%D0%B5-%D1%81%D0%B8%D1%81%D1%82%D0%B5%D0%BC%D1%8B-6435"/>
          <p:cNvPicPr/>
          <p:nvPr/>
        </p:nvPicPr>
        <p:blipFill>
          <a:blip r:embed="rId3"/>
          <a:stretch/>
        </p:blipFill>
        <p:spPr>
          <a:xfrm>
            <a:off x="971640" y="2492280"/>
            <a:ext cx="31687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Picture 22" descr="kolorowanki-wojsko-zolnierz-malowanka-do-wydruku-48"/>
          <p:cNvPicPr/>
          <p:nvPr/>
        </p:nvPicPr>
        <p:blipFill>
          <a:blip r:embed="rId4"/>
          <a:stretch/>
        </p:blipFill>
        <p:spPr>
          <a:xfrm>
            <a:off x="5292720" y="2492280"/>
            <a:ext cx="3095640" cy="41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Picture 23" descr="kolorowanki-wojsko-zolnierz-malowanka-do-wydruku-48"/>
          <p:cNvPicPr/>
          <p:nvPr/>
        </p:nvPicPr>
        <p:blipFill>
          <a:blip r:embed="rId5"/>
          <a:stretch/>
        </p:blipFill>
        <p:spPr>
          <a:xfrm>
            <a:off x="5292720" y="2492280"/>
            <a:ext cx="3095640" cy="41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7:44:31Z</dcterms:created>
  <dc:creator>Муромов С.И.</dc:creator>
  <dc:description/>
  <dc:language>en-US</dc:language>
  <cp:lastModifiedBy>tb_el</cp:lastModifiedBy>
  <dcterms:modified xsi:type="dcterms:W3CDTF">2022-02-21T07:41:04Z</dcterms:modified>
  <cp:revision>40</cp:revision>
  <dc:subject/>
  <dc:title>Слайд 1</dc:title>
</cp:coreProperties>
</file>