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8973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3C7-E642-44EA-B386-C911A3E8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617-4F61-465E-B280-CC0CB0A0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E4D-CA15-489F-8FAB-A2982AED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895-8E43-4A0C-9C11-DB5F69D1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F3B5-9A9D-4CF5-BEA0-DD637939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EF26-E41B-4FBC-B9D0-89BE996E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3B28-58E7-425E-BA76-6DC4B150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0B98-1176-4F85-A7B1-2BFE9B47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FC31-532A-418F-8945-A5E828EF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B681-6A08-49D5-9F5A-4C9F8E77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CFD5-C6DE-4E7C-B681-5326ADB0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36A-EA4E-48AB-9DA2-37C9AD71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259F-8152-4699-B24B-53675FB3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1836-F01F-427D-A9CD-C8193F26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140E-C9E7-4DC2-81BB-44BBF82E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15B5-B18B-438C-B504-3AB9D709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DECB-5915-4976-9FCC-4405B138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2AE4F-ED67-4F54-B129-20AD5D4E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E1C50-2E22-43A9-A404-0584E2E3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82CAA-B43C-41DB-BFBC-7361AD09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2083B-6175-4C47-AF30-F896E12C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BC26-34D7-4CE5-8635-B161FF86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309-7156-4E95-B2B5-2003D5C7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171DF-7464-4D1F-9416-EC427DC2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57A90-7BD3-4BD0-A128-B705E88E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A07CF-8FDB-4A51-8267-BCE1530B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805F8-5A24-4DEB-9F98-88C35EE7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743D8-C71F-4338-B934-9684AD36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A0A16-F533-4271-B97E-095B200E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98E45-7B59-4979-A006-F5D5E76D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1BA2D-F906-4AD3-B004-5B60EB87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FE200-04A5-4C20-B1FA-B1131197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B0D05-A27E-40FC-B4BC-7F2707AC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9B7-66AF-443C-9E15-F9F5CC9F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A0F8D-DD1C-40BF-8879-BBF2963C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36C02-4B95-47C4-BCEB-7FB1991A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FEC0E-93EB-4C4A-A973-F34A8698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520E3-1475-4F81-AB0A-3B4F1542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B5A8A-DA76-443A-8010-A6F6C6EB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1EFE2-E1DD-48E7-BE21-8BF868CE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0DF68-0331-4E99-9D40-C99114B1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D79A5-ED8D-4251-98F0-95027B55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21425-4F84-44F3-B124-E5DB316F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7402B-058E-460B-8E57-8DBC7DDB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526-7943-4FB2-86DD-0E55BE35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E620D-30CE-4AF2-98C8-7AD26191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36E64-EEC0-4652-AEA4-D421BB13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46FEF-E934-450E-B447-2D226B98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C5C5B-CB59-41C0-853E-4A468210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8243E-D0AD-4529-9701-06E5EBAE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133FC-528A-43E1-A997-C0F54252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77F95-FCE5-492A-96C5-0421B25F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62005-DD4A-4EF4-BB64-547AB3A5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E50B5-4399-491A-8B7A-6CAE8E2B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F6C28-3F70-45EB-B531-0280CC74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552-035C-45EE-A77C-A168A2CC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B711B-74DD-4681-9C87-7E1B33AC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C97-4E8A-46E0-A263-8ECFAE5F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A49-869C-4215-AFF6-8A8EEABE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A61-D429-4E8C-8704-63066125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AD7E-2C69-43B2-A90A-F899D14F47B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57F1-15FD-458C-9258-9667A146C0B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B5C6-9D02-4A4D-96AA-DD31EC52423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5785-F2B7-4ABE-8B65-DAF7430C3A8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61B1-1989-44D6-80F0-DBC6C65352B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420840" y="2279520"/>
            <a:ext cx="7443720" cy="2584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499920" y="4214520"/>
            <a:ext cx="3821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Кельзина В.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450720" y="633240"/>
            <a:ext cx="8242560" cy="519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7234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Обучение  учебному материалу через активную  самостоятельную деятельность ученик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cc"/>
                </a:solidFill>
                <a:latin typeface="Trebuchet MS"/>
              </a:rPr>
              <a:t>РЕЗУЛЬТАТ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Происходит развитие познавательных навыков учащихся, умений самостоятельно конструировать свои знания и ориентироваться в информационном пространстве, развитие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ритического мышл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6840" y="1600200"/>
            <a:ext cx="75438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Проект в начальной школ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это самостоятельная творческая работа, от идеи до её воплощения,  выполненная либо под руководством учителя, либо самостоятельно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лема – осмысление – самостоятельный поиск  и выбор информации – применение, интерпретация информации – результат – применение в реально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285480" y="428760"/>
            <a:ext cx="77864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rebuchet MS"/>
              </a:rPr>
              <a:t>КАК  УСПЕШНО ВЫПОЛНИТЬ ПРОЕК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Наличие значимой проблемы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alibri"/>
              </a:rPr>
              <a:t>2. Значимость  исходных  результато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Самостоятельная  групповая  или индивидуальная  деятельность учащихся (под руководством учителя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alibri"/>
              </a:rPr>
              <a:t>4. Соблюдение этапов  проекта: </a:t>
            </a:r>
            <a:r>
              <a:rPr b="1" i="1" lang="ru-RU" sz="2000" spc="-1" strike="noStrike">
                <a:solidFill>
                  <a:srgbClr val="0066cc"/>
                </a:solidFill>
                <a:latin typeface="Calibri"/>
              </a:rPr>
              <a:t>разработка проекта,</a:t>
            </a:r>
            <a:r>
              <a:rPr b="1" lang="ru-RU" sz="20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66cc"/>
                </a:solidFill>
                <a:latin typeface="Calibri"/>
              </a:rPr>
              <a:t>практическая реализация проекта, защита проекта</a:t>
            </a:r>
            <a:r>
              <a:rPr b="1" lang="ru-RU" sz="2000" spc="-1" strike="noStrike">
                <a:solidFill>
                  <a:srgbClr val="0066cc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Применение исследовательских методов 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 умение выделять проблему, ставить задач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 умение выдвигать гипотезы и выстраивать возможные пути их решен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 сбор, систематизация и анализ полученных данных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alibri"/>
              </a:rPr>
              <a:t>6. Создание ПРОДУКТА  проекта:  </a:t>
            </a:r>
            <a:r>
              <a:rPr b="1" i="1" lang="ru-RU" sz="2000" spc="-1" strike="noStrike">
                <a:solidFill>
                  <a:srgbClr val="0066cc"/>
                </a:solidFill>
                <a:latin typeface="Calibri"/>
              </a:rPr>
              <a:t>изделие,</a:t>
            </a:r>
            <a:r>
              <a:rPr b="1" lang="ru-RU" sz="2000" spc="-1" strike="noStrike">
                <a:solidFill>
                  <a:srgbClr val="0066cc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66cc"/>
                </a:solidFill>
                <a:latin typeface="Calibri"/>
              </a:rPr>
              <a:t>альбом, газета, доклад, видеофильм , презентац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-60480" y="281160"/>
            <a:ext cx="799812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ыявить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уровень достижения обучающимися  метапредметных планируемых результатов по программе «Формирование универсальных учебных действий» (регулятивные и коммуникативные универсальные учебные действия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165240" y="-19080"/>
            <a:ext cx="7515000" cy="1384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)Описание материалов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93560" indent="-49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2) Текст задания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93560" indent="-49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3) Лист планирования и продвижения по заданию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93560" indent="-49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4) Лист самооценк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93560" indent="-49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5) Соблюдение  этапов  проведения занятия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93560" indent="-49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6) Памятка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93560" indent="-49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7) Информационные ресурсы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93560" indent="-49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8) Карта наблюдения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93560" indent="-49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9) Карта эксперт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304920" y="-957240"/>
            <a:ext cx="8388360" cy="210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имерное время выполнения проекта (1-2 урока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2000160"/>
          <a:ext cx="7786800" cy="431640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73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анном этап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будущем, когда проектная деятельность станет привыч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проекта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–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– 3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и работ групп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–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– 1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оценка и подсчет голосов, самооценка, подведение ито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– 15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–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–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1365120" y="530280"/>
            <a:ext cx="8444160" cy="6159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28592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rebuchet MS"/>
              </a:rPr>
              <a:t>Литер класса ____________  Номер группы _________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rebuchet MS"/>
              </a:rPr>
              <a:t>Название группы ___________________________________________  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rebuchet MS"/>
              </a:rPr>
              <a:t>Тема, выбранная группой __________________________________________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rebuchet MS"/>
              </a:rPr>
              <a:t>Форма представления проекта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rebuchet MS"/>
              </a:rPr>
              <a:t>Отметьте </a:t>
            </a:r>
            <a:r>
              <a:rPr b="1" lang="ru-RU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1700" spc="-1" strike="noStrike">
                <a:solidFill>
                  <a:srgbClr val="000000"/>
                </a:solidFill>
                <a:latin typeface="Trebuchet MS"/>
              </a:rPr>
              <a:t> выбранную вами форму: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Symbol"/>
                <a:ea typeface="Symbol"/>
              </a:rPr>
              <a:t></a:t>
            </a:r>
            <a:r>
              <a:rPr b="1" lang="ru-RU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rebuchet MS"/>
              </a:rPr>
              <a:t>А.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Плакат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rebuchet MS"/>
              </a:rPr>
              <a:t>Б.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Компьютерная презентация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Начало работы __ час ___мин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Окончание работы __ час ___ мин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4429080"/>
          <a:ext cx="7358040" cy="2000160"/>
        </p:xfrm>
        <a:graphic>
          <a:graphicData uri="http://schemas.openxmlformats.org/drawingml/2006/table">
            <a:tbl>
              <a:tblPr/>
              <a:tblGrid>
                <a:gridCol w="2452680"/>
                <a:gridCol w="2452680"/>
                <a:gridCol w="245268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то дела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то дел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метка о выполн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+ или –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2011320" y="536400"/>
            <a:ext cx="6681960" cy="615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28760" y="135720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класс ____________ Номер группы _________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Название группы ___________________________________________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Фамилия и имя 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цени работу своей группы. Отметь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вариант ответа, с которым ты согласен (согласна)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Все ли члены группы принимали участие в работе над проектом?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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А.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Да, все работали одинаково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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Б.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Нет, работал только один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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. Кто-то работал больше, а кто-то меньше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Дружно ли вы работали? Были ли ссоры?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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А.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Работали дружно, ссор не было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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Б.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Работали дружно, спорили, но не ссорились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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В.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Очень трудно было договариваться, не всегда получалось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Тебе нравится результат работы группы?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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. Да, все получилось хорошо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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Б.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Нравится, но можно было бы сделать лучше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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В.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Нет, не нравится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Оцени свой вклад в работу группы. Отметь нужное место на линейке знаком Х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04:33:37Z</dcterms:created>
  <dc:creator>zueva_tp</dc:creator>
  <dc:description/>
  <dc:language>en-US</dc:language>
  <cp:lastModifiedBy>user</cp:lastModifiedBy>
  <dcterms:modified xsi:type="dcterms:W3CDTF">2022-11-11T02:22:14Z</dcterms:modified>
  <cp:revision>102</cp:revision>
  <dc:subject/>
  <dc:title>Групповые проекты  4 класс (промежуточная аттестация)</dc:title>
</cp:coreProperties>
</file>