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20-5B3A-4512-A2BD-0E9042D6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C92-9A97-4DA3-B7BD-A96EA76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35F-AB09-4D94-8592-84EBEFE9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57E-D1D1-49D2-8337-01616ABA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C3B-9913-4A9E-B744-E0FE0310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1681-B2D3-4CD0-95CD-BBED861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3BD5-1021-48FD-9E40-D5D0F8B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E171-15A7-4A73-9722-21360A4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8D6A-C4C7-4C1E-96A6-2AB2F4B1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2C26-7DA7-4618-8DD7-911ABC6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A24-5418-440D-B1A9-0868398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2C4-369C-44D3-91B3-49D637F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27EF-C29A-4940-86FD-69DB93F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0D28-138E-4363-9A8F-92FFBC2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BD7-BA31-436B-9787-1D4A5930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16A-002B-4C36-9E56-EBE8F245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D30-E896-4F6D-9C90-296309DA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FB7-4EBB-43AD-9168-88C27AE6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9E1-4C3F-4EC4-AB39-3A275B9D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792-EEC9-4840-8805-FDB85EB6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5AD-7A04-4AA1-A027-C0E9716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19A-FE9C-4183-A8E7-D194FF5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1DA-8B02-4EC6-BA09-651945F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263-4FCC-496C-857A-ACB0525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9D5-AC4A-41BE-A55C-6283FF7163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424C-A808-4C66-9AD1-F13A0CAA01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Главная мотивирующая роль оценки в старшей школ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чимых взрослых (учителей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20432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ценка мотивирует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0T18:57:13Z</dcterms:created>
  <dc:creator>м.видео</dc:creator>
  <dc:description/>
  <dc:language>en-US</dc:language>
  <cp:lastModifiedBy>Учитель</cp:lastModifiedBy>
  <dcterms:modified xsi:type="dcterms:W3CDTF">2017-11-01T06:09:20Z</dcterms:modified>
  <cp:revision>5</cp:revision>
  <dc:subject/>
  <dc:title>Оценка мотивирует:</dc:title>
</cp:coreProperties>
</file>