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556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24990-E900-40A0-AEAF-9D7047F3F15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262CED-050F-4454-8D52-73CE9E9865C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08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6456A7-55A6-44F2-A99A-4662B9CC341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6EE5B-70AC-41B4-AFEB-BA1DDC82CE5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37000" cy="40003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8456D-06DF-4A60-82C7-5806D6A518E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37000" cy="40003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C47153-F199-40A0-A95C-D5208F43D28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11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C99B9C-3824-4A83-8787-9AC572FFD75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4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89D67-72D4-48B0-8CD7-A28D3C4603E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17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F9B35A-8128-45B3-B099-73E4B169428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20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78BDC-53A7-4D30-8168-B11EB8E72CA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9A622F-C1BE-4044-BEFC-0F6BF57656E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26" name="Text Box 2"/>
          <p:cNvSpPr/>
          <p:nvPr/>
        </p:nvSpPr>
        <p:spPr>
          <a:xfrm>
            <a:off x="755640" y="5078520"/>
            <a:ext cx="6045120" cy="48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F03B8-6495-4282-9450-859CEBC2D16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29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0940B4-2F29-4D0F-8164-6B826071BD4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2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B7A0-627B-4B7A-8F5A-7234B211B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3960"/>
            <a:ext cx="906156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F0E1-7105-42D8-84B9-711E2645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396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200" y="405396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B8C3-4E3F-4E45-B881-6807053CE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3960"/>
            <a:ext cx="29174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053960"/>
            <a:ext cx="29174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0480" y="4053960"/>
            <a:ext cx="29174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DAB1-14F4-4943-8B3F-887FC5B83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7B34-2206-414B-A97F-5CFACF18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C6E5-55DC-4DDB-9488-5EB5BF86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E768-B1AD-4C54-AA82-A31B9E3C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A938-3C15-492A-AE73-3FE232EF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58AF-165E-4A24-83B6-0612D5C6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396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95EB-2152-451E-9698-20C3883C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200" y="405396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6019-FBC3-4B37-BFC9-4FE9B1B7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3960"/>
            <a:ext cx="906156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E8AD-A785-4FA6-BF08-8954DB04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860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6224C-5242-4CEE-A6CB-778559EF8CF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1"/>
          <p:cNvSpPr txBox="1"/>
          <p:nvPr/>
        </p:nvSpPr>
        <p:spPr>
          <a:xfrm>
            <a:off x="792000" y="1079640"/>
            <a:ext cx="8423280" cy="40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 Black"/>
              </a:rPr>
              <a:t>Объём 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 Black"/>
              <a:ea typeface="Arial Black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 Black"/>
              </a:rPr>
              <a:t>параллелепипеда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 Black"/>
              <a:ea typeface="Arial Black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5184720" y="6110280"/>
            <a:ext cx="373536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ванова Татьяна Павл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анкт-Петербург Колпинский рай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кола 45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4248000" y="5184720"/>
            <a:ext cx="13924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990000"/>
                </a:solidFill>
                <a:latin typeface="Times New Roman"/>
              </a:rPr>
              <a:t>3 клас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614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"/>
          <p:cNvSpPr/>
          <p:nvPr/>
        </p:nvSpPr>
        <p:spPr>
          <a:xfrm>
            <a:off x="36360" y="6659640"/>
            <a:ext cx="993636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24000" y="1187280"/>
            <a:ext cx="258912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3500" spc="-1" strike="noStrike">
                <a:solidFill>
                  <a:srgbClr val="000000"/>
                </a:solidFill>
                <a:latin typeface="Noto Sans"/>
                <a:ea typeface="Noto Sans"/>
              </a:rPr>
              <a:t>·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ru-RU" sz="3500" spc="-1" strike="noStrike">
                <a:solidFill>
                  <a:srgbClr val="000000"/>
                </a:solidFill>
                <a:latin typeface="Noto Sans"/>
                <a:ea typeface="Noto Sans"/>
              </a:rPr>
              <a:t>·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2 = 8 см</a:t>
            </a:r>
            <a:r>
              <a:rPr b="0" lang="ru-RU" sz="3000" spc="-1" strike="noStrike" baseline="33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395960" y="1152360"/>
            <a:ext cx="29476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3500" spc="-1" strike="noStrike">
                <a:solidFill>
                  <a:srgbClr val="000000"/>
                </a:solidFill>
                <a:latin typeface="Noto Sans"/>
                <a:ea typeface="Noto Sans"/>
              </a:rPr>
              <a:t>·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4 </a:t>
            </a:r>
            <a:r>
              <a:rPr b="0" lang="ru-RU" sz="3500" spc="-1" strike="noStrike">
                <a:solidFill>
                  <a:srgbClr val="000000"/>
                </a:solidFill>
                <a:latin typeface="Noto Sans"/>
                <a:ea typeface="Noto Sans"/>
              </a:rPr>
              <a:t>·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3 = 24 см</a:t>
            </a:r>
            <a:r>
              <a:rPr b="0" lang="ru-RU" sz="3000" spc="-1" strike="noStrike" baseline="33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408720" y="3959280"/>
            <a:ext cx="309564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ru-RU" sz="3500" spc="-1" strike="noStrike">
                <a:solidFill>
                  <a:srgbClr val="000000"/>
                </a:solidFill>
                <a:latin typeface="Noto Sans"/>
                <a:ea typeface="Noto Sans"/>
              </a:rPr>
              <a:t>·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lang="ru-RU" sz="3500" spc="-1" strike="noStrike">
                <a:solidFill>
                  <a:srgbClr val="000000"/>
                </a:solidFill>
                <a:latin typeface="Noto Sans"/>
                <a:ea typeface="Noto Sans"/>
              </a:rPr>
              <a:t>·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3 = 36 см</a:t>
            </a:r>
            <a:r>
              <a:rPr b="0" lang="ru-RU" sz="3000" spc="-1" strike="noStrike" baseline="33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1836720" y="3844800"/>
            <a:ext cx="273204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3500" spc="-1" strike="noStrike">
                <a:solidFill>
                  <a:srgbClr val="000000"/>
                </a:solidFill>
                <a:latin typeface="Noto Sans"/>
                <a:ea typeface="Noto Sans"/>
              </a:rPr>
              <a:t>·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ru-RU" sz="3500" spc="-1" strike="noStrike">
                <a:solidFill>
                  <a:srgbClr val="000000"/>
                </a:solidFill>
                <a:latin typeface="Noto Sans"/>
                <a:ea typeface="Noto Sans"/>
              </a:rPr>
              <a:t>·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4 = 8 см</a:t>
            </a:r>
            <a:r>
              <a:rPr b="0" lang="ru-RU" sz="3000" spc="-1" strike="noStrike" baseline="33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507960" y="2735280"/>
            <a:ext cx="10764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6 см</a:t>
            </a:r>
            <a:r>
              <a:rPr b="0" lang="ru-RU" sz="3000" spc="-1" strike="noStrike" baseline="33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8136000" y="1397160"/>
            <a:ext cx="10080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1 см</a:t>
            </a:r>
            <a:r>
              <a:rPr b="0" lang="ru-RU" sz="3000" spc="-1" strike="noStrike" baseline="33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07640" cy="751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684360" y="1692360"/>
            <a:ext cx="80643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ные ресурс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593640" y="2517840"/>
            <a:ext cx="8047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s://foxford.ru/wiki/matematika/pryamougolnyj-parallelepi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563400" y="2997360"/>
            <a:ext cx="88696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http://www.webstaratel.ru/2012/03/obem-prjamougolnogo-parallelepipeda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598320" y="3456000"/>
            <a:ext cx="82584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https://otvet.mail.ru/question/2132204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47640" y="4032360"/>
            <a:ext cx="8928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https://infourok.ru/obem-pryamougolnogo-parallelepipeda-5-klass-merzlyak-5113005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03440" y="5013360"/>
            <a:ext cx="86565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https://klike.net/875-kartinka-spasibo-za-urok-dlya-prezentacii-25-foto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169920" y="216000"/>
            <a:ext cx="95202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990066"/>
                </a:solidFill>
                <a:latin typeface="Arial"/>
              </a:rPr>
              <a:t>Как называются эти геометрические фигуры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503280" y="1728720"/>
            <a:ext cx="180036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3"/>
          <p:cNvSpPr/>
          <p:nvPr/>
        </p:nvSpPr>
        <p:spPr>
          <a:xfrm>
            <a:off x="7991640" y="1655640"/>
            <a:ext cx="936360" cy="1729080"/>
          </a:xfrm>
          <a:prstGeom prst="ellipse">
            <a:avLst/>
          </a:prstGeom>
          <a:solidFill>
            <a:srgbClr val="66ff66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2879640" y="2016000"/>
            <a:ext cx="1656000" cy="1584360"/>
          </a:xfrm>
          <a:prstGeom prst="diamond">
            <a:avLst/>
          </a:prstGeom>
          <a:solidFill>
            <a:srgbClr val="ff6600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5"/>
          <p:cNvSpPr/>
          <p:nvPr/>
        </p:nvSpPr>
        <p:spPr>
          <a:xfrm>
            <a:off x="5400720" y="3816360"/>
            <a:ext cx="1871640" cy="180036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5256360" y="1728720"/>
            <a:ext cx="1223640" cy="2016360"/>
          </a:xfrm>
          <a:prstGeom prst="can">
            <a:avLst>
              <a:gd name="adj" fmla="val 25000"/>
            </a:avLst>
          </a:prstGeom>
          <a:solidFill>
            <a:srgbClr val="77216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647640" y="4390920"/>
            <a:ext cx="3240000" cy="1368360"/>
          </a:xfrm>
          <a:prstGeom prst="cube">
            <a:avLst>
              <a:gd name="adj" fmla="val 25000"/>
            </a:avLst>
          </a:prstGeom>
          <a:solidFill>
            <a:srgbClr val="ff8080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8"/>
          <p:cNvSpPr/>
          <p:nvPr/>
        </p:nvSpPr>
        <p:spPr>
          <a:xfrm>
            <a:off x="7920000" y="4608360"/>
            <a:ext cx="1511280" cy="1511280"/>
          </a:xfrm>
          <a:prstGeom prst="cube">
            <a:avLst>
              <a:gd name="adj" fmla="val 25000"/>
            </a:avLst>
          </a:prstGeom>
          <a:solidFill>
            <a:srgbClr val="006666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1008000" y="6624720"/>
            <a:ext cx="716904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000" spc="-1" strike="noStrike">
                <a:solidFill>
                  <a:srgbClr val="990000"/>
                </a:solidFill>
                <a:latin typeface="Arial"/>
              </a:rPr>
              <a:t>На какие группы их можно разделить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1079640" y="936720"/>
            <a:ext cx="31176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лоские фигур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5472000" y="971640"/>
            <a:ext cx="353232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ъёмные фигур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Oval 12"/>
          <p:cNvSpPr/>
          <p:nvPr/>
        </p:nvSpPr>
        <p:spPr>
          <a:xfrm>
            <a:off x="503280" y="2952720"/>
            <a:ext cx="792000" cy="792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863640" y="71280"/>
            <a:ext cx="8136000" cy="60944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"/>
          <p:cNvSpPr/>
          <p:nvPr/>
        </p:nvSpPr>
        <p:spPr>
          <a:xfrm>
            <a:off x="936720" y="6767640"/>
            <a:ext cx="867096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Объёмные фигуры занимают место в пространстве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287280" y="431640"/>
            <a:ext cx="9647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3000" spc="-1" strike="noStrike">
                <a:solidFill>
                  <a:srgbClr val="800000"/>
                </a:solidFill>
                <a:latin typeface="Arial"/>
              </a:rPr>
              <a:t>Чем отличается прямоугольник от параллелепипеда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36720" y="1943280"/>
            <a:ext cx="2448000" cy="1368360"/>
          </a:xfrm>
          <a:prstGeom prst="rect">
            <a:avLst/>
          </a:prstGeom>
          <a:solidFill>
            <a:srgbClr val="0000f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3"/>
          <p:cNvSpPr/>
          <p:nvPr/>
        </p:nvSpPr>
        <p:spPr>
          <a:xfrm>
            <a:off x="5472000" y="1403280"/>
            <a:ext cx="3743280" cy="2087640"/>
          </a:xfrm>
          <a:prstGeom prst="cube">
            <a:avLst>
              <a:gd name="adj" fmla="val 25000"/>
            </a:avLst>
          </a:prstGeom>
          <a:solidFill>
            <a:srgbClr val="66ff66"/>
          </a:solidFill>
          <a:ln w="3600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60360" y="3525840"/>
            <a:ext cx="388764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800000"/>
                </a:solidFill>
                <a:latin typeface="Times New Roman"/>
              </a:rPr>
              <a:t>Прямоугольник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плоский, имеет 2 измерения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Его можно расположить на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лоскости целиком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5040360" y="3529080"/>
            <a:ext cx="48243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800000"/>
                </a:solidFill>
                <a:latin typeface="Times New Roman"/>
              </a:rPr>
              <a:t>Параллелепипед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– объемный – имеет 3 измерения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Занимает определённое пространство и возвышается над плоскостью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71280" y="88920"/>
            <a:ext cx="8352000" cy="62643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"/>
          <p:cNvSpPr/>
          <p:nvPr/>
        </p:nvSpPr>
        <p:spPr>
          <a:xfrm>
            <a:off x="216000" y="6480000"/>
            <a:ext cx="5092560" cy="10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Объём параллелепип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431640" y="1800360"/>
            <a:ext cx="9360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440" bIns="45000" anchor="t">
            <a:noAutofit/>
          </a:bodyPr>
          <a:p>
            <a:pPr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ъём - численная характеристика трёхмерной (объёмной) геометрической фигуры. (куб, параллелепипед и другие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647640" y="3624120"/>
            <a:ext cx="5111640" cy="285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241200" y="387360"/>
            <a:ext cx="6670800" cy="49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0" y="6480"/>
            <a:ext cx="6245280" cy="38098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"/>
          <p:cNvSpPr/>
          <p:nvPr/>
        </p:nvSpPr>
        <p:spPr>
          <a:xfrm>
            <a:off x="1152360" y="4608360"/>
            <a:ext cx="2468880" cy="21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500" spc="-1" strike="noStrike">
                <a:solidFill>
                  <a:srgbClr val="000000"/>
                </a:solidFill>
                <a:latin typeface="Times New Roman"/>
              </a:rPr>
              <a:t>a — длина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500" spc="-1" strike="noStrike">
                <a:solidFill>
                  <a:srgbClr val="000000"/>
                </a:solidFill>
                <a:latin typeface="Times New Roman"/>
              </a:rPr>
              <a:t>b — ширина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500" spc="-1" strike="noStrike">
                <a:solidFill>
                  <a:srgbClr val="000000"/>
                </a:solidFill>
                <a:latin typeface="Times New Roman"/>
              </a:rPr>
              <a:t>c — высота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500" spc="-1" strike="noStrike">
                <a:solidFill>
                  <a:srgbClr val="000000"/>
                </a:solidFill>
                <a:latin typeface="Times New Roman"/>
              </a:rPr>
              <a:t>V — объём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3924360" y="216000"/>
            <a:ext cx="5570640" cy="29638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"/>
          <p:cNvSpPr/>
          <p:nvPr/>
        </p:nvSpPr>
        <p:spPr>
          <a:xfrm>
            <a:off x="0" y="6732720"/>
            <a:ext cx="9936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87280" y="3203640"/>
            <a:ext cx="9504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ычислите объём параллелепипеда, если его длина 5 см, ширина 3 см, высота 4 с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14360" y="4097160"/>
            <a:ext cx="188424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а — 5 см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d — 3см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c — 4 см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V - 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672000" y="4140360"/>
            <a:ext cx="247644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V = a </a:t>
            </a:r>
            <a:r>
              <a:rPr b="0" lang="ru-RU" sz="3500" spc="-1" strike="noStrike">
                <a:solidFill>
                  <a:srgbClr val="000000"/>
                </a:solidFill>
                <a:latin typeface="Noto Sans"/>
                <a:ea typeface="Noto Sans"/>
              </a:rPr>
              <a:t>·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 d </a:t>
            </a:r>
            <a:r>
              <a:rPr b="0" lang="ru-RU" sz="3500" spc="-1" strike="noStrike">
                <a:solidFill>
                  <a:srgbClr val="000000"/>
                </a:solidFill>
                <a:latin typeface="Noto Sans"/>
                <a:ea typeface="Noto Sans"/>
              </a:rPr>
              <a:t>·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672000" y="4788000"/>
            <a:ext cx="252396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V = 5 </a:t>
            </a:r>
            <a:r>
              <a:rPr b="0" lang="ru-RU" sz="3500" spc="-1" strike="noStrike">
                <a:solidFill>
                  <a:srgbClr val="000000"/>
                </a:solidFill>
                <a:latin typeface="Noto Sans"/>
                <a:ea typeface="Noto Sans"/>
              </a:rPr>
              <a:t>·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lang="ru-RU" sz="3500" spc="-1" strike="noStrike">
                <a:solidFill>
                  <a:srgbClr val="000000"/>
                </a:solidFill>
                <a:latin typeface="Noto Sans"/>
                <a:ea typeface="Noto Sans"/>
              </a:rPr>
              <a:t>·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3672000" y="5435640"/>
            <a:ext cx="22446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V = 60 см </a:t>
            </a:r>
            <a:r>
              <a:rPr b="0" lang="ru-RU" sz="3500" spc="-1" strike="noStrike" baseline="33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87280" y="6156360"/>
            <a:ext cx="75456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Ответ: объём параллелепипеда  60 см </a:t>
            </a:r>
            <a:r>
              <a:rPr b="0" lang="ru-RU" sz="3500" spc="-1" strike="noStrike" baseline="33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1-05T15:16:00Z</dcterms:created>
  <dc:creator/>
  <dc:description/>
  <cp:keywords/>
  <dc:language>en-US</dc:language>
  <cp:lastModifiedBy>Admin</cp:lastModifiedBy>
  <dcterms:modified xsi:type="dcterms:W3CDTF">2022-11-05T19:04:10Z</dcterms:modified>
  <cp:revision>16</cp:revision>
  <dc:subject/>
  <dc:title>Презентация PowerPoint</dc:title>
</cp:coreProperties>
</file>