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E12-B9DD-4680-B31A-6C41AFA9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A8CE-460D-44E8-BBC8-EE110A3A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3E9-D143-476E-968A-3718C27D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FBA-3502-471E-93AA-50C614F1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B8F-DEF7-4B0C-8281-0ECAD001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52D-EA7E-4AF3-8638-CDC5A6E5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146-9E3A-4910-AAFD-5C6CB200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5FB-2498-40E8-988C-F3F6CD75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D72-4718-474C-9B70-A1FD7348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53C-E414-4E45-A4F2-CFD8E523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20C-C919-4E2D-AC81-88EDAA74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9B5-AF77-41EC-BFB2-DBEEF2BB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9B518-175C-4134-A27A-EF8C4356E30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0"/>
            <a:ext cx="597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Муниципальное автономное дошкольное образовательное учреждение детский сад «Ивуш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1989000"/>
            <a:ext cx="5976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едагогическая копи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Банк презентация для проведения НОД по ознакомлению с профессиями прошлого и настояще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443700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Заместитель по ВМР, Епифанова С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595008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573408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Г.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2022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189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Актуальность применения информационно-коммуникационных технологий (презентац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052640"/>
            <a:ext cx="6767640" cy="863640"/>
          </a:xfrm>
          <a:custGeom>
            <a:avLst/>
            <a:gdLst>
              <a:gd name="textAreaLeft" fmla="*/ 0 w 6767640"/>
              <a:gd name="textAreaRight" fmla="*/ 6768000 w 6767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Мир профессий в социуме — это сложн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динамичная, постоянно развивающая 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276640"/>
            <a:ext cx="6767640" cy="863280"/>
          </a:xfrm>
          <a:custGeom>
            <a:avLst/>
            <a:gdLst>
              <a:gd name="textAreaLeft" fmla="*/ 0 w 6767640"/>
              <a:gd name="textAreaRight" fmla="*/ 6768000 w 6767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 наши дни профессий стало очень м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Их уже много тыся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3500280"/>
            <a:ext cx="6767640" cy="1008360"/>
          </a:xfrm>
          <a:custGeom>
            <a:avLst/>
            <a:gdLst>
              <a:gd name="textAreaLeft" fmla="*/ 0 w 6767640"/>
              <a:gd name="textAreaRight" fmla="*/ 6768000 w 6767640"/>
              <a:gd name="textAreaTop" fmla="*/ 0 h 1008360"/>
              <a:gd name="textAreaBottom" fmla="*/ 10083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 настоящее время проблема форм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едставлений дошкольников о разных професс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актически не разработана в нау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941720"/>
            <a:ext cx="6767640" cy="1368720"/>
          </a:xfrm>
          <a:custGeom>
            <a:avLst/>
            <a:gdLst>
              <a:gd name="textAreaLeft" fmla="*/ 0 w 6767640"/>
              <a:gd name="textAreaRight" fmla="*/ 6768000 w 6767640"/>
              <a:gd name="textAreaTop" fmla="*/ 0 h 1368720"/>
              <a:gd name="textAreaBottom" fmla="*/ 136908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Использование информационных 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озволяет сделать образовате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зрелищным, информационно богатым и комфорт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для восприятия ребен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18900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етодические рекомендации к созданию презен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981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се презентации должны быть едины по стилю оформления, структуре изложения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91628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Отражать следующие компон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349360"/>
            <a:ext cx="3600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>
              <a:spcBef>
                <a:spcPts val="112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глядно-познавательный это: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рабочее мест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инструмен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профессиональ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узкие специализации внутри проф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2349360"/>
            <a:ext cx="3456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акрепляющ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(интерактивные игр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«Найди лишнее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«Выбери нужное» («Помоги Мишке», «Свари компот», «Расставь по полочкам») «Найди соответств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37372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На этапе знакомства детей с конкретной профессией можно показать первые вводные слайды: рабочее место, инструменты, действия, специ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1280" y="907920"/>
            <a:ext cx="655164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По сравнению с традиционными формами обучения информационно-коммуникационные технологии имеют ряд преимуществ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представление информации на экране компьютера в виде игры вызывает большой интерес у детей дошкольного возрас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движение, звук, анимация в течении длительного времени привлекает внимание ребен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ребенок сам регулирует темп и количество решаемых задач обучения; это позволяет моделировать такие ситуации, которые нельзя увидеть в повседневной жизни (летающие ракеты, наводнение, северное сияние и т. 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использование новых непривычных приемов объяснения и закрепления, тем более в игровой форме, повышает непроизвольное внимание детей, помогает развить произвольное вним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информационные технологии обеспечивают личностно-ориентировочный под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333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еимущества применения презентаций во время 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33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банк презентаций вошли следующие 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1125360"/>
            <a:ext cx="67690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cc33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Службы, которые нас защищ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33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Профессия- вр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33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Профессии речного ф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33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Забытые 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33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Профессия-архит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33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Профессия-пека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33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Профессия- хлеборо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33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Ландшафтный дизай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33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Профессия 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3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банк презентаций вошли следующие 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260280"/>
            <a:ext cx="7056360" cy="65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>
              <a:spcBef>
                <a:spcPts val="112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125"/>
              </a:spcBef>
              <a:buClr>
                <a:srgbClr val="0066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Аверин, С. А. Информационно-коммуникационная среда в современной дошкольной организации: преемственность, доступность, безопасность / С. А. Аверин, П. А. Баринова //Современное дошкольное образование. Теория и практика. — 2014. — № 7. — С.50–5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125"/>
              </a:spcBef>
              <a:buClr>
                <a:srgbClr val="0066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Алябьева, Е. А. Поиграем в профессии: занятия, игры, беседы с детьми 5–7 лет: [методическое пособие]. — Москва: Творческий центр «Сфера», печ. 2015. — (Библиотека воспитателя). -Кн. 2. — печ. 2015. — 124 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125"/>
              </a:spcBef>
              <a:buClr>
                <a:srgbClr val="0066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Алябьева, Е. А. Ребенок в мире взрослых: рассказы о профессиях / Е. А. Алябьева. — Москва: ТЦ Сфера, cop. 2016. — 174, [1] 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125"/>
              </a:spcBef>
              <a:buClr>
                <a:srgbClr val="0066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Антонова А. В. Знакомство с профессиями детей старшего дошкольного возраста /А. В. Антонова // Воспитание и обучение детей младшего возраста. — 2017. — № 6. — С. 45–4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125"/>
              </a:spcBef>
              <a:buClr>
                <a:srgbClr val="0066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Газизова Ф. С. Информационные технологии как средство ознакомления старших дошкольников с миром профессий / Ф. С. Газизова, А. Ю. Мясникова. // Молодой ученый. — 2018. — № 19 (205). — С. 194-19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ckYouBill</cp:lastModifiedBy>
  <dcterms:modified xsi:type="dcterms:W3CDTF">2022-11-11T07:44:2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