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5299-57DC-449B-BC5F-379838CC29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ТЬ ВНИМАНИЕ НА ОБОЗНАЧЕНИЕ ПРЯ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4687-C3C0-4546-B60E-3C789A63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DCD-6D9F-440F-BC2A-6881F872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D14-72C9-4E26-B27E-514370F1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873-05AF-4257-AB30-3C2B0BC9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045A-805F-4939-BCA7-F55BCC7B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4743-4FD6-465F-BAFF-C35D7F27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2B98-644B-49D0-9872-E291EBF1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977A-53B1-47AA-89AA-1B3B5AC7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956E-5E26-467A-80EC-3F4BDCD5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E541-E446-46B1-870C-45FC4C70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9405-5529-4A70-B065-15D67685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97C-5AC4-4525-861C-FED91D18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C04A-B3D7-4BFE-A3EB-916D7851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F9CF-C941-4CED-9B63-7F10C917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5DC9-A6DD-4E4C-A887-3A391B01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114C-2EB4-45A6-9136-3993AC9C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3ED7-BFDB-4DCE-820B-28F3D40A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C611-9212-465C-854F-E8DDFF48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1B32-251F-4E66-AB29-E1CE2FD1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5B9-B3E9-4385-9D84-D74F5473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F63-08D2-428F-B284-DDF16418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0280-D2BC-4828-A47F-E60C2E9B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DFD-8D3C-44EF-A1BB-8E8B850B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B7D-D44A-4AFC-AC88-FC6D3463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8B12-C057-4B10-9591-565264226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6268-7C9D-4451-86BE-67BB2D53B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cc"/>
                </a:solidFill>
                <a:latin typeface="Tahoma"/>
              </a:rPr>
              <a:t>Тема</a:t>
            </a:r>
            <a:r>
              <a:rPr b="0" lang="en-US" sz="4800" spc="-1" strike="noStrike">
                <a:solidFill>
                  <a:srgbClr val="0033cc"/>
                </a:solidFill>
                <a:latin typeface="Tahoma"/>
              </a:rPr>
              <a:t>: </a:t>
            </a:r>
            <a:r>
              <a:rPr b="0" i="1" lang="ru-RU" sz="4000" spc="-1" strike="noStrike" u="sng">
                <a:solidFill>
                  <a:srgbClr val="0033cc"/>
                </a:solidFill>
                <a:uFillTx/>
                <a:latin typeface="Tahoma"/>
              </a:rPr>
              <a:t>Плоскость</a:t>
            </a:r>
            <a:r>
              <a:rPr b="0" i="1" lang="en-US" sz="4000" spc="-1" strike="noStrike" u="sng">
                <a:solidFill>
                  <a:srgbClr val="0033cc"/>
                </a:solidFill>
                <a:uFillTx/>
                <a:latin typeface="Tahoma"/>
              </a:rPr>
              <a:t>,</a:t>
            </a:r>
            <a:r>
              <a:rPr b="0" i="1" lang="ru-RU" sz="4000" spc="-1" strike="noStrike" u="sng">
                <a:solidFill>
                  <a:srgbClr val="0033cc"/>
                </a:solidFill>
                <a:uFillTx/>
                <a:latin typeface="Tahoma"/>
              </a:rPr>
              <a:t> прямая</a:t>
            </a:r>
            <a:r>
              <a:rPr b="0" i="1" lang="en-US" sz="4000" spc="-1" strike="noStrike" u="sng">
                <a:solidFill>
                  <a:srgbClr val="0033cc"/>
                </a:solidFill>
                <a:uFillTx/>
                <a:latin typeface="Tahoma"/>
              </a:rPr>
              <a:t>, </a:t>
            </a:r>
            <a:r>
              <a:rPr b="0" i="1" lang="ru-RU" sz="4000" spc="-1" strike="noStrike" u="sng">
                <a:solidFill>
                  <a:srgbClr val="0033cc"/>
                </a:solidFill>
                <a:uFillTx/>
                <a:latin typeface="Tahoma"/>
              </a:rPr>
              <a:t>луч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59436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5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429000"/>
            <a:ext cx="801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ель урока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знакомить учащихся  с понятиями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лоскость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ямая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лу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33cc"/>
                </a:solidFill>
                <a:uFillTx/>
                <a:latin typeface="Tahoma"/>
              </a:rPr>
              <a:t>Задание1</a:t>
            </a:r>
            <a:r>
              <a:rPr b="0" i="1" lang="en-US" sz="2800" spc="-1" strike="noStrike" u="sng">
                <a:solidFill>
                  <a:srgbClr val="0033cc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676520"/>
            <a:ext cx="38862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ая 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езки АС и 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ая АС и отрезок 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 СА и луч 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 ОВ и луч 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ая АС и луч 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105520" y="1676520"/>
            <a:ext cx="167616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3048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3429000"/>
            <a:ext cx="76320" cy="7632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629400" y="1828800"/>
            <a:ext cx="76320" cy="7632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3429000"/>
            <a:ext cx="76320" cy="7632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419720"/>
            <a:ext cx="76320" cy="7596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4240" y="36576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0" y="1752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77120" y="43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539640" y="83664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ертите прямую МК и отрезки АВ и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ак, чтобы прямая МК пересекала отрезок АВ, но не пересекала отрезок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1042920" y="3284640"/>
            <a:ext cx="6624720" cy="21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1835280" y="4437000"/>
            <a:ext cx="3960720" cy="7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4859280" y="2924280"/>
            <a:ext cx="2233800" cy="144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 flipH="1">
            <a:off x="1752480" y="4365720"/>
            <a:ext cx="82800" cy="7452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 flipH="1">
            <a:off x="5791320" y="4495680"/>
            <a:ext cx="85680" cy="7488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 flipH="1">
            <a:off x="4713120" y="2852640"/>
            <a:ext cx="74880" cy="7488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7020000" y="4292640"/>
            <a:ext cx="74520" cy="7452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611280" y="29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6659640" y="4941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1187280" y="386064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5029200" y="38862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3995640" y="242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6588000" y="3860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-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33cc"/>
                </a:solidFill>
                <a:uFillTx/>
                <a:latin typeface="Tahoma"/>
              </a:rPr>
              <a:t>Задание2</a:t>
            </a:r>
            <a:r>
              <a:rPr b="0" i="1" lang="en-US" sz="2800" spc="-1" strike="noStrike" u="sng">
                <a:solidFill>
                  <a:srgbClr val="0033cc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чертите треугольник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На скольк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астей делят плоскость прямы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, AC, B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3124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33cc"/>
                </a:solidFill>
                <a:uFillTx/>
                <a:latin typeface="Tahoma"/>
              </a:rPr>
              <a:t>Задание</a:t>
            </a:r>
            <a:r>
              <a:rPr b="0" i="1" lang="en-US" sz="2800" spc="-1" strike="noStrike" u="sng">
                <a:solidFill>
                  <a:srgbClr val="0033cc"/>
                </a:solidFill>
                <a:uFillTx/>
                <a:latin typeface="Tahoma"/>
              </a:rPr>
              <a:t>3: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3124080"/>
            <a:ext cx="297180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2895480"/>
            <a:ext cx="403848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7400" y="4800600"/>
            <a:ext cx="5029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14600" y="4952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525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9, №80, №98, №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8040" y="838080"/>
            <a:ext cx="34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. Задания на повторени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800" y="24750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изображе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143000" y="3657600"/>
            <a:ext cx="1143000" cy="3808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3962520"/>
            <a:ext cx="76320" cy="7596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581280"/>
            <a:ext cx="76320" cy="7632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6200" y="4038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11480" y="3581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0384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2a4ac"/>
                </a:solidFill>
                <a:latin typeface="Arial"/>
              </a:rPr>
              <a:t>отре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000" y="476100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3400" y="4800600"/>
            <a:ext cx="17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цы отре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962520" y="3124080"/>
            <a:ext cx="761760" cy="762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886200"/>
            <a:ext cx="1447560" cy="457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3124080"/>
            <a:ext cx="685800" cy="1219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2720" y="419112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2a4ac"/>
                </a:solidFill>
                <a:latin typeface="Arial"/>
              </a:rPr>
              <a:t>тре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3809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380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040" y="4227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18440" y="491328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42120" y="5370480"/>
            <a:ext cx="15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С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3480" y="495288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шины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08040" y="533412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роны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553080" y="2742840"/>
            <a:ext cx="685800" cy="685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2743200"/>
            <a:ext cx="457200" cy="457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96080" y="320040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3429000"/>
            <a:ext cx="1143000" cy="457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55240" y="419112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2a4ac"/>
                </a:solidFill>
                <a:latin typeface="Arial"/>
              </a:rPr>
              <a:t>четырех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10440" y="3389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96240" y="2398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920" y="2971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560" y="3809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27f4c"/>
                </a:solidFill>
                <a:latin typeface="Tahoma"/>
              </a:rPr>
              <a:t>Вопросы</a:t>
            </a:r>
            <a:r>
              <a:rPr b="0" lang="en-US" sz="2800" spc="-1" strike="noStrike">
                <a:solidFill>
                  <a:srgbClr val="827f4c"/>
                </a:solidFill>
                <a:latin typeface="Tahoma"/>
              </a:rPr>
              <a:t>:</a:t>
            </a: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Как сравнивают два отрезк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Какие единицы для измерения длин вы знает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Сколько сантиметров в дециметр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) Сколько миллиметров в сантиметр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Назовите единицу длины в 100 раз большу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чем сантиметр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) Назовите единицу длин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1000 раз большую метра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27f4c"/>
                </a:solidFill>
                <a:latin typeface="Tahoma"/>
              </a:rPr>
              <a:t>Назовите все фигуры одним словом.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4" name="PubTriangle"/>
          <p:cNvSpPr/>
          <p:nvPr/>
        </p:nvSpPr>
        <p:spPr>
          <a:xfrm>
            <a:off x="533520" y="1447920"/>
            <a:ext cx="1828800" cy="182880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562720" y="36576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391520" y="2819520"/>
            <a:ext cx="1428480" cy="1209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2971800" y="3200400"/>
            <a:ext cx="1000080" cy="990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685800" y="4267080"/>
            <a:ext cx="1343160" cy="752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5105520" y="2057400"/>
            <a:ext cx="1057320" cy="981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02560" y="5715000"/>
            <a:ext cx="27165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2a4ac"/>
                </a:solidFill>
                <a:latin typeface="Arial"/>
              </a:rPr>
              <a:t>МНОГОУГОЛЬ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27f4c"/>
                </a:solidFill>
                <a:uFillTx/>
                <a:latin typeface="Tahoma"/>
              </a:rPr>
              <a:t>Подготовьте карандаши и линейки</a:t>
            </a:r>
            <a:r>
              <a:rPr b="0" lang="en-US" sz="2400" spc="-1" strike="noStrike" u="sng">
                <a:solidFill>
                  <a:srgbClr val="827f4c"/>
                </a:solidFill>
                <a:uFillTx/>
                <a:latin typeface="Tahoma"/>
              </a:rPr>
              <a:t>,</a:t>
            </a:r>
            <a:r>
              <a:rPr b="0" lang="ru-RU" sz="2400" spc="-1" strike="noStrike" u="sng">
                <a:solidFill>
                  <a:srgbClr val="827f4c"/>
                </a:solidFill>
                <a:uFillTx/>
                <a:latin typeface="Tahoma"/>
              </a:rPr>
              <a:t> будем работать в тетради</a:t>
            </a: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05640" y="2057400"/>
            <a:ext cx="29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Изобразим отрезок  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019920" y="335232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581280"/>
            <a:ext cx="76320" cy="7632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3352680"/>
            <a:ext cx="75960" cy="7632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16800" y="3809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3612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0200" y="2438280"/>
            <a:ext cx="48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Продолжим АВ по линейке в обе сто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7640" y="2895480"/>
            <a:ext cx="411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Получим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прямую А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или 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мая не имеет конц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а неограниченно продолж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бе стор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010280" y="320004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410080" y="3581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8360" y="4532400"/>
            <a:ext cx="58867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Через любые 2 точки проходит единственная пря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4038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Если 2 прямые имеют общую точку</a:t>
            </a:r>
            <a:r>
              <a:rPr b="0" lang="en-US" sz="1800" spc="-1" strike="noStrike">
                <a:solidFill>
                  <a:srgbClr val="827f4c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то говорят</a:t>
            </a:r>
            <a:r>
              <a:rPr b="0" lang="en-US" sz="1800" spc="-1" strike="noStrike">
                <a:solidFill>
                  <a:srgbClr val="827f4c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 что они </a:t>
            </a: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пересекаются</a:t>
            </a:r>
            <a:endParaRPr b="0" lang="en-US" sz="1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52280" y="2209320"/>
            <a:ext cx="23623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905120"/>
            <a:ext cx="28195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9360" y="2895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" y="4114800"/>
            <a:ext cx="38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– точка пересечения 2-х прям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914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7f4c"/>
                </a:solidFill>
                <a:latin typeface="Arial"/>
              </a:rPr>
              <a:t>Если 2 прямые не имеют общих точек</a:t>
            </a:r>
            <a:r>
              <a:rPr b="0" lang="en-US" sz="1800" spc="-1" strike="noStrike">
                <a:solidFill>
                  <a:srgbClr val="827f4c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827f4c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Arial"/>
              </a:rPr>
              <a:t>то они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аралл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952880" y="198072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259056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0"/>
            <a:ext cx="0" cy="6477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7f4c"/>
                </a:solidFill>
                <a:latin typeface="Tahoma"/>
              </a:rPr>
              <a:t>Нарисуем прямую АВ и отметим на ней точку О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33520" y="1752120"/>
            <a:ext cx="2971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5320" y="21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92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14400" y="20937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1905120"/>
            <a:ext cx="76320" cy="7596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1000" y="2932200"/>
            <a:ext cx="3128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А -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лу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В –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лу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–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нача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их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лу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А –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дополнитель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 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В –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дополнитель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 О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27f4c"/>
                </a:solidFill>
                <a:latin typeface="Tahoma"/>
              </a:rPr>
              <a:t>Итак</a:t>
            </a:r>
            <a:r>
              <a:rPr b="0" lang="en-US" sz="2400" spc="-1" strike="noStrike">
                <a:solidFill>
                  <a:srgbClr val="827f4c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827f4c"/>
                </a:solidFill>
                <a:latin typeface="Tahoma"/>
              </a:rPr>
              <a:t>мы с вами познакомились с 2-мя геометрическими фигурами</a:t>
            </a: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280880" y="163656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ПРЯ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81840" y="16365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ЛУ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09480" y="2514240"/>
            <a:ext cx="1219320" cy="12193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3809880"/>
            <a:ext cx="1447560" cy="14479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362320" y="2743200"/>
            <a:ext cx="1676160" cy="8380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91320" y="2361960"/>
            <a:ext cx="9903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77120" y="396252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696080" y="2209680"/>
            <a:ext cx="91440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90600" y="3276720"/>
            <a:ext cx="75960" cy="7596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0120" y="3657600"/>
            <a:ext cx="75960" cy="7632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96080" y="4800600"/>
            <a:ext cx="76320" cy="7632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3160" y="3389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09480" y="2322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48280" y="31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57400" y="4836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11520" y="3200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02240" y="21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920" y="5029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62720" y="4075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97880" y="3657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444160" y="239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82040" y="73656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Назовем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чк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трезк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различные геометрические фигуры располагаются на 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плоскост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Представление о плоскости дает на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приме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038480" y="2286000"/>
            <a:ext cx="2286000" cy="1719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858000" y="2286000"/>
            <a:ext cx="2057400" cy="1536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Картинка 26 из 98166"/>
          <p:cNvPicPr/>
          <p:nvPr/>
        </p:nvPicPr>
        <p:blipFill>
          <a:blip r:embed="rId4"/>
          <a:stretch/>
        </p:blipFill>
        <p:spPr>
          <a:xfrm>
            <a:off x="457200" y="1905120"/>
            <a:ext cx="2965320" cy="21081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6400" y="16002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рхность ст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91840" y="17524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кольной до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9800" y="18288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онного стек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4343400"/>
            <a:ext cx="73152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Но!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и поверхности имеют края.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У плоскости края н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а безгранично простирается во всех направл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ша</cp:lastModifiedBy>
  <dcterms:modified xsi:type="dcterms:W3CDTF">2013-04-27T16:29:3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