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2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31"/>
          </p:nvPr>
        </p:nvSpPr>
        <p:spPr>
          <a:xfrm>
            <a:off x="384948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917280" y="744480"/>
            <a:ext cx="4957560" cy="3718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32"/>
          </p:nvPr>
        </p:nvSpPr>
        <p:spPr>
          <a:xfrm>
            <a:off x="-360" y="942624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33"/>
          </p:nvPr>
        </p:nvSpPr>
        <p:spPr>
          <a:xfrm>
            <a:off x="3849480" y="942624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7EB99-7C9A-463F-833E-3C26469811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9"/>
          <p:cNvSpPr/>
          <p:nvPr/>
        </p:nvSpPr>
        <p:spPr>
          <a:xfrm>
            <a:off x="3849840" y="942660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35851-7C8D-432A-BF4D-8C4B3AEE6E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49840" y="942660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87CE6-E5B6-40E7-9B68-BE9956A238E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49840" y="942660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D92C0-776C-4214-B119-464FA2A80446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49840" y="942660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92EEA-0C36-4712-86D2-A80960EEEE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B84-9E0C-42EC-811D-721CB394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5D7-6CAF-4602-9B68-AA38987A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D1650-0F77-4544-BD46-FEFEAC4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DC0FE-D0CE-40C3-AB82-FF79670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B26F3-9E2B-4E73-9E27-5E206AC1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7231D-4AEF-4EA2-B75A-4759F9C8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34B38-25C1-459A-864B-D1031D5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15894-019B-4B36-A3E3-BEB6049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921F8-7BCD-454F-8677-33B83D2C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D1ED8-945D-4332-9D73-CF030296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B90C8-A28D-48E4-AB6B-A365DA6A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AA854-18B7-4553-A8C0-C3E1AA73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2CE-9802-48C7-8680-DE50AF49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1C785-F839-4C6E-B70D-FD1658F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3C3E2-FD24-4A15-AF66-88D2B3C3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0CD0A-B61C-47AA-957D-066FFB0F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76EB2-8D26-40B9-9F50-26E11964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D733A-7AF5-4399-A4BD-FF7E589E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D2688-2739-4F60-AC80-E7DEA91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71F04-B900-406E-8A1A-B116D1A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6BDE7-8D90-4759-917A-29E1605F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46F17-D1DB-4AF6-ABE2-876BCD96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0DA97-33F9-427D-AD83-F96A35D3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740-518B-43DF-B3C2-3D0879F2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BC8D6-D4BB-4654-9202-10681C1B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FE01-A32B-48C9-8494-40D1A562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D15-00C2-4883-BDF1-46793CBF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544C-384D-4E3D-8F3B-9150035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288-7992-442B-837A-07E485D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3FF5-1906-423D-92EC-F928B926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030A-6D55-493F-85D0-FDBAB90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37C5-927F-45ED-A0A4-6A45234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9C4-5A6D-437E-A13E-48EB63A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D601-AFC4-4479-AF5A-77AB5D5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A19E-248A-4A6D-892D-623CBC47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D705-79D9-4E45-BB39-9D7695D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8B49-1884-4DD7-898B-EB7D4CA3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5E80-7108-4913-85C0-2327C298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9BA1-36C1-4FF0-887D-71B84753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9F21-3F92-495D-BEC0-F84C9FAC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B504-0AD3-4926-8200-FA8F170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148F-13F1-4AC3-9CF7-AA5F845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0E9C-BF91-414A-AA11-FEB366D3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BBE-81C9-4C28-8203-8C5230BA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6F80-731A-46C2-8A9A-2A6EB69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29A7-128A-4FC8-AB41-C41DF0D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C7C2-5B37-4231-8033-AF6CB71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073B-FA84-4C3E-BD1C-0CD1FE2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9091-6E9E-4642-8ACC-76306E48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7B05-7392-4361-8B56-FC1B90DF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8012-E8A6-4CA4-B870-95234ACD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6613-9973-4F77-866D-5AC6330E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F43E-DFA4-4196-906D-7A6312E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19C5-2EB9-411B-9FF6-E7EFA80A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4E5-C7A4-4C93-8AA4-BF890D4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8D39-DAAA-4026-91B3-85714AD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3439-C4CA-4160-824D-79B77AC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8201-DD50-4404-808B-8E5C0AE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5918-CD53-4A32-8DEB-CC26CCA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9A8D-0D1F-43E4-9C7C-BA717F2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EC5C-95AE-4208-9295-A2E90F29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CDCF-91BD-4477-BDFC-B264AC6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4872-AC2A-449F-AA7F-E90B72A4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3BC8-2E98-4EDA-87C4-98AE2E85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3104-1AD2-4B32-BD44-2489783B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24E-2479-4B26-864F-055D4904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3B4B-B136-4107-8544-6CB77FFD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95F3-5868-4605-8D6E-A17E392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2D86-EE9A-4291-B8CD-736A0189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1BA5-244B-46BB-BA2B-D27414A7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CDD2-8702-4A3E-8A76-3FF1E88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4E1A-238D-4851-92F6-680F03E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E705-1A4B-42E5-B266-46FF5EB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8F2F-5ECD-4BB2-A7CE-5BA8029F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3804-9A1E-49A4-B605-3595D0A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8A3C9-9CD5-4894-9505-A4B12514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75F-6951-4405-8D00-DA7AFE51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2085-ED44-4033-89C3-5416947A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50A9-0524-4C72-8438-43EEBC5E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F03D1-C6EE-4079-84F7-7284C47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DA1E4-3190-453C-96B0-BEF14C00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327E7-476D-45BE-848B-052AECFF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C4B7-217A-4BAE-89EF-500736E3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13DF-9DEB-4628-9A8D-DA005E3F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6323-E8ED-4B6D-ADF3-DEEEAEC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E8F3-D334-4E26-B5B2-28870DE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7F65-2DFF-43E1-9B3B-C5B1505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82A-59E3-4CB1-8EFB-0BF8E08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18B8-49D2-4C3D-9F0C-0F17C8F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222EE-11A4-4CBC-9BD7-F17CE387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56D4-E1B2-4143-93A0-382C0060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DD7C-CE43-4230-AC7E-2EF73513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2525-179A-4470-96DB-968811C0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35E47-0043-41E4-AF73-D1D3766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F882-81AB-46D9-A0A2-00E02C8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63AF-7218-47F4-903A-EA7EDB69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644A-1382-4BB1-81BE-162B8D48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0236-4A55-472D-982D-21AB3A5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D6F-D400-46AB-828D-581A668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82318-C677-4773-9308-F89796E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C8F8-EC55-4619-9AB7-C650D33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3407-307B-4BA2-8674-084B89DC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5AB77-0696-496F-8DAB-56AF41F0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ABE92-6A3E-4659-AC4E-E07B0273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1D45-6E42-406D-92F0-7259E41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BDBF-A3B3-4823-B4EA-F34E8C3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FBA0-A3A2-4E27-8ED1-DD41A507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4C32-543E-4B7A-9919-61DB309A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300F5-9410-4CF0-AF2D-DF968280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BCB-B9B9-4BFB-8150-A989371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25CE-F860-42D6-9D31-369E5028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104C5-8ADF-486C-9756-A3CACCA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840C7-3559-4737-B230-3BA685D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29017-146F-4D5F-8319-68F9DA8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CDDEB-C658-4700-A70B-699B266F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B876-34E1-4B43-8F0B-C47DACC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0781-E835-4ECA-8D8F-DDDF5071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5652-1E67-451D-8F0B-4A73049B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B570B-2FAC-4860-9612-6BC295D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31E9B-18CE-4B6F-A238-D42BB990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012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981080" y="3962520"/>
            <a:ext cx="6550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ля добавления текста щё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76811-3EB6-4E88-BFFC-9C37409DB210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6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8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0D7C0A-8292-44E4-B027-EB20003B9D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C6519D-F444-4F55-8DC4-8F35C25674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058FB9-CAC9-4419-B44E-0EF1BBC670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B4086A-338E-47F2-B552-405EEA9C65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2DA50F-4923-43CE-8762-FDDED6B48C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7779F5-2B3C-4C06-A548-A395789960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830131-C8E3-4D25-867D-020E1BC87D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1D33F7-8B82-494A-97E8-23F8AB07CA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CC2B08-8C13-4B6E-A10C-1805588DF0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1" descr=""/>
          <p:cNvPicPr/>
          <p:nvPr/>
        </p:nvPicPr>
        <p:blipFill>
          <a:blip r:embed="rId1"/>
          <a:stretch/>
        </p:blipFill>
        <p:spPr>
          <a:xfrm>
            <a:off x="396720" y="2133720"/>
            <a:ext cx="7955280" cy="18954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5766"/>
                </a:solidFill>
                <a:latin typeface="Lucida Sans Unicode"/>
              </a:rPr>
              <a:t>Разработала учитель математики МБОУ Поваровской СОШ Морозова Надежда Сергеев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6201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Акустические раздражения подобно яду накапливаются в организме, всё сильнее угнетают нервную систему. Реакция на шум выражается в повышенной возбудимости и раздражительности. Люди, подвергающиеся постоянному воздействию шума, часто становятся трудными в общении. Шум приводит к появлению систематических головных болей и всегда к потере работоспособно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566640" y="-23760"/>
            <a:ext cx="8180640" cy="64054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2"/>
          <a:stretch/>
        </p:blipFill>
        <p:spPr>
          <a:xfrm>
            <a:off x="4284720" y="3357720"/>
            <a:ext cx="4319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609480" y="249120"/>
            <a:ext cx="76201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938160" y="549360"/>
            <a:ext cx="77122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183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7" name="Picture 3" descr="C:\Users\м.видео\Desktop\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C:\Users\м.видео\Desktop\img6.jpg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183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80" name="Picture 2" descr="C:\Users\м.видео\Desktop\018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969840" y="334800"/>
            <a:ext cx="7620120" cy="561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4356000" y="1916280"/>
          <a:ext cx="4032360" cy="792000"/>
        </p:xfrm>
        <a:graphic>
          <a:graphicData uri="http://schemas.openxmlformats.org/drawingml/2006/table">
            <a:tbl>
              <a:tblPr/>
              <a:tblGrid>
                <a:gridCol w="474840"/>
                <a:gridCol w="711000"/>
                <a:gridCol w="711360"/>
                <a:gridCol w="790560"/>
                <a:gridCol w="712800"/>
                <a:gridCol w="631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523880" y="4724280"/>
          <a:ext cx="7369200" cy="865440"/>
        </p:xfrm>
        <a:graphic>
          <a:graphicData uri="http://schemas.openxmlformats.org/drawingml/2006/table">
            <a:tbl>
              <a:tblPr/>
              <a:tblGrid>
                <a:gridCol w="920880"/>
                <a:gridCol w="922320"/>
                <a:gridCol w="920880"/>
                <a:gridCol w="920520"/>
                <a:gridCol w="920880"/>
                <a:gridCol w="922320"/>
                <a:gridCol w="920880"/>
                <a:gridCol w="920520"/>
              </a:tblGrid>
              <a:tr h="43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1832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85" name="Picture 2" descr="C:\Users\м.видео\Desktop\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719280" y="-60480"/>
            <a:ext cx="80899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7:42:35Z</dcterms:created>
  <dc:creator>м.видео</dc:creator>
  <dc:description/>
  <dc:language>en-US</dc:language>
  <cp:lastModifiedBy>Надежда</cp:lastModifiedBy>
  <dcterms:modified xsi:type="dcterms:W3CDTF">2018-01-30T17:10:48Z</dcterms:modified>
  <cp:revision>49</cp:revision>
  <dc:subject/>
  <dc:title>Устная математическая разминка</dc:title>
</cp:coreProperties>
</file>