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2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7F90-2DDD-4FC1-8085-EFD985A8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6663-4053-48FD-9105-1EFB4B05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0CB1-AC89-4E4A-B4BE-88445D5E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E0A-EB20-4917-ADB4-761AE3FF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E1CB-3B7B-4005-A6BF-181D3274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D225-B6B4-42D9-A175-2BCFF96E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65C0-DA7F-4310-BE83-8A6F3C5E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A1C4-7D84-4FCB-B155-008C27AB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FD1B-2514-4B3E-82CF-37669369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27792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9C3F-F121-497F-9D92-FB23F4EB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65AD-B454-457A-B43C-E11A35D7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2590-A0A9-4F66-AE33-5B0F1AAC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CD0C-DA1C-472E-B600-F8C5F334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4B51-04F4-4C35-B8B7-0EE71195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8A00-44D8-456B-9D2E-991A006C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A592-7ABE-4D22-87F8-C63582CE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552F-F9C4-4500-83E1-9F5624C0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DDC9-D0FF-4DD0-B86A-8278F108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040" y="27792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396B-B4BF-4CA5-9FB6-935FD523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94F6-3E8E-471E-8698-84797014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27792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0491-14F9-47AD-9559-8337EE66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6240-CC9A-4EBB-AAFC-1C518FDE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CA6D-B7E3-4EB8-A9A3-DAE9CDAE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1F4-883E-4399-8307-BBDC65DC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3560" cy="4873680"/>
            <a:chOff x="0" y="0"/>
            <a:chExt cx="8683560" cy="48736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6600" cy="48736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2680" cy="179280"/>
              <a:chOff x="380880" y="1417680"/>
              <a:chExt cx="8302680" cy="17928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5560" cy="179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2680" cy="0"/>
              </a:xfrm>
              <a:prstGeom prst="line">
                <a:avLst/>
              </a:prstGeom>
              <a:ln cap="sq"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82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160"/>
            <a:ext cx="29689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3DA55-32CF-4114-9348-032D9700B1B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cap="sq"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59880" cy="5940360"/>
            <a:chOff x="0" y="0"/>
            <a:chExt cx="8759880" cy="59403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49600" cy="48736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59880" cy="2435040"/>
              <a:chOff x="0" y="3505320"/>
              <a:chExt cx="8759880" cy="243504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69160" cy="24350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5320" cy="213516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87480" cy="0"/>
              </a:xfrm>
              <a:prstGeom prst="line">
                <a:avLst/>
              </a:prstGeom>
              <a:ln cap="sq"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4080" cy="301680"/>
              <a:chOff x="635040" y="533520"/>
              <a:chExt cx="8074080" cy="30168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5400" cy="30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4080" cy="0"/>
              </a:xfrm>
              <a:prstGeom prst="line">
                <a:avLst/>
              </a:prstGeom>
              <a:ln cap="sq"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1143000"/>
            <a:ext cx="662616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960" y="625140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480" y="6248160"/>
            <a:ext cx="28922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D102E-64A6-440B-9132-AB039336A373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900" spc="-1" strike="noStrike">
                <a:solidFill>
                  <a:srgbClr val="330033"/>
                </a:solidFill>
                <a:latin typeface="Times New Roman"/>
              </a:rPr>
              <a:t>Открытый урок в 8 классе «Исторический взгляд на квадратные уравнения»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работала учитель математики МБОУ Поваровской СОШ Морозова Надежда Серг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700360" y="549360"/>
            <a:ext cx="61275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иофа́нт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лександри́й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к, живший предположительно в III веке н. э. Нередко упоминается ка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отец алгебры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честь Диофанта назван кратер на видимой стороне Лу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ECA00-6E57-4560-B817-D47FAE28BD0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1997280" cy="2325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00000" y="3213000"/>
            <a:ext cx="194148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В Палатинской антологии содержится эпиграмма-задача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ctr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х Диофанта гробница покоит; дивись ей — и камен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Мудрым искусством его скажет усопшего век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Волей богов шестую часть жизни он прожил ребёнк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И половину шестой встретил с пушком на щёка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Только минула седьмая, с подругой он обручилс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С нею, пять лет проведя, сына дождался мудрец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Только полжизни отцовской возлюбленный сын его прожи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Отнят он был у отца ранней могилой сво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Дважды два года родитель оплакивал тяжкое гор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Тут и увидел предел жизни печальной своей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(Перевод С. П. Бобро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а эквивалентна решению следующего урав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 = х/6 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12 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7 + 5 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2 +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 = 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ак составлял и решал Диофант квадратные уравн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«Арифметике» Диофанта содержится систематизированный ряд задач, сопровождаемых объяснениями и решаемых при помощи составления уравнений разных степе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составлении уравнений Диофант для упрощения решения умело выбирает неизвест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21505" t="58693" r="10753" b="0"/>
          <a:stretch/>
        </p:blipFill>
        <p:spPr>
          <a:xfrm>
            <a:off x="685800" y="2057400"/>
            <a:ext cx="43848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16164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95636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Задача Диофан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«Найти два числа, зная, что их сумма равна 20, а произведение –96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иофант рассуждает следующим образом: из условия задачи вытекает, что искомые числа не равны, т.к. если бы они были равны, то их произведение равнялось бы не 96, а 100. Таким образом, одно из них будет больше половины их суммы, т.е. 10+х, другое же меньше, т.е.10-х. Разность между ними 2х. Отсюда уравнение(10+х)(10-х)=96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ли же  100-х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=96 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4=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тсюда х=2.Одно из искомых чисел равно 12, другое 8. Решение х=-2 для Диофанта не существует, т.к.греческая математика знала только положительные числа.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22598" t="30236" r="14123" b="34556"/>
          <a:stretch/>
        </p:blipFill>
        <p:spPr>
          <a:xfrm>
            <a:off x="914400" y="2320920"/>
            <a:ext cx="3811680" cy="30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68320" y="36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Инд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97708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Квадратные уравнения в Инд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и на квадратные уравнения встречаются уже в астрономическом трактате «Ариабхаттиам», составленном в 499 г. индийским математиком и астрономом Ариабхаттой. Другой индийский ученый, Брахмагупта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), изложил общее правило решения квадратных уравнений, приведенных к единой канонической форм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х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вх=с, а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12812" r="0" b="12812"/>
          <a:stretch/>
        </p:blipFill>
        <p:spPr>
          <a:xfrm>
            <a:off x="4875120" y="1925640"/>
            <a:ext cx="3811680" cy="38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80042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330033"/>
                </a:solidFill>
                <a:latin typeface="Times New Roman"/>
              </a:rPr>
              <a:t>Одна из задач знаменитого индийского математика Х</a:t>
            </a:r>
            <a:r>
              <a:rPr b="1" i="1" lang="en-US" sz="2500" spc="-1" strike="noStrike">
                <a:solidFill>
                  <a:srgbClr val="330033"/>
                </a:solidFill>
                <a:latin typeface="Times New Roman"/>
              </a:rPr>
              <a:t>II </a:t>
            </a:r>
            <a:r>
              <a:rPr b="1" i="1" lang="ru-RU" sz="2500" spc="-1" strike="noStrike">
                <a:solidFill>
                  <a:srgbClr val="330033"/>
                </a:solidFill>
                <a:latin typeface="Times New Roman"/>
              </a:rPr>
              <a:t>в Бхаскары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«Обезьянок резвых стая</a:t>
            </a:r>
            <a:br>
              <a:rPr sz="2100"/>
            </a:b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Всласть поевши, развлекалась, </a:t>
            </a:r>
            <a:br>
              <a:rPr sz="2100"/>
            </a:b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Их в квадрате часть восьмая</a:t>
            </a:r>
            <a:br>
              <a:rPr sz="2100"/>
            </a:b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На поляне забавлялась.</a:t>
            </a:r>
            <a:br>
              <a:rPr sz="2100"/>
            </a:b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А двенадцать по лианам…</a:t>
            </a:r>
            <a:br>
              <a:rPr sz="2100"/>
            </a:b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Стали прыгать, повисая…</a:t>
            </a:r>
            <a:br>
              <a:rPr sz="2100"/>
            </a:b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Сколько ж было обезьянок, </a:t>
            </a:r>
            <a:br>
              <a:rPr sz="2100"/>
            </a:b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Ты скажи мне, в этой стае?»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23220" t="14133" r="4940" b="40380"/>
          <a:stretch/>
        </p:blipFill>
        <p:spPr>
          <a:xfrm>
            <a:off x="4932360" y="3573360"/>
            <a:ext cx="40384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Бхаскаре – Акариа </a:t>
            </a: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– индийский математик в XII век н.э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омашнее зад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ть старинную индийскую задачу Бхаскары: «Квадрат пятой части обезьян, уменьшенный на три, спрятался в гроте, одна обезьяна влезла на дерево, была видна. Сколько было обезьян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300" spc="-1" strike="noStrike">
                <a:solidFill>
                  <a:srgbClr val="330033"/>
                </a:solidFill>
                <a:latin typeface="Times New Roman"/>
              </a:rPr>
              <a:t>Средневековый Восток</a:t>
            </a:r>
            <a:br>
              <a:rPr sz="3300"/>
            </a:br>
            <a:br>
              <a:rPr sz="2900"/>
            </a:br>
            <a:br>
              <a:rPr sz="2900"/>
            </a:br>
            <a:r>
              <a:rPr b="1" lang="ru-RU" sz="2900" spc="-1" strike="noStrike" u="sng">
                <a:solidFill>
                  <a:srgbClr val="330033"/>
                </a:solidFill>
                <a:uFillTx/>
                <a:latin typeface="Times New Roman"/>
              </a:rPr>
              <a:t>Аль – Хорезми</a:t>
            </a:r>
            <a:r>
              <a:rPr b="1" lang="ru-RU" sz="2900" spc="-1" strike="noStrike">
                <a:solidFill>
                  <a:srgbClr val="330033"/>
                </a:solidFill>
                <a:latin typeface="Times New Roman"/>
              </a:rPr>
              <a:t> — арабский учёный, который в 825 г. написал книгу «Книга о восстановлении и противопоставлении». Это был первый в мире учебник алгебры. Он также дал шесть видов квадратных уравнений и для каждого из шести уравнений в словесной форме сформулировал особое правило его решения</a:t>
            </a:r>
            <a:r>
              <a:rPr b="1" lang="ru-RU" sz="2500" spc="-1" strike="noStrike">
                <a:solidFill>
                  <a:srgbClr val="330033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65564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16164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820908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289080"/>
            <a:ext cx="7772400" cy="13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6920" y="404640"/>
            <a:ext cx="756144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ctr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ль-Хорезм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классификация линейных и квадратных уравнений –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видов уравнений, выражая их следующим образ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87280" y="2988720"/>
            <a:ext cx="7561440" cy="267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«Квадраты равны корнями», т.е. ах2 = b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«Квадраты равны числу», т.е. ах2 =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«Корни равны числу», т.е. ах =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«Квадраты и числа равны корням», т.е. ах2 + с = b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 «Квадраты и корни равны числу», т.е. ах2 + bx =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) «Корни и числа равны квадратам», т.е. bx + с = ах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Средневековый Восто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124080" y="1628280"/>
            <a:ext cx="601992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дача Мухаммеда ибн Мусы ал-Хорезми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вадрат и 10 корней равны 39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задача соответствует уравнению            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10х=3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-Хорезми предлагает решать ее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бы у нас был квадрат со стороной (х+5), тогда его можно было бы разбить на квадрат со стороной х, два прямоугольника 5х и квадрат со стороной 5 (см. рисунок). Нам известно, что х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2*5х=39. Тогда площадь большого квадрата 39+25=64, а значит его сторона равна 8. Но сторона этого квадрата равна х+5, то есть х=8-5=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х=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265284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900" spc="-1" strike="noStrike">
                <a:solidFill>
                  <a:srgbClr val="330033"/>
                </a:solidFill>
                <a:latin typeface="Times New Roman"/>
              </a:rPr>
              <a:t>Домашнее задание</a:t>
            </a: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Решить квадратное уравнение </a:t>
            </a:r>
            <a:br>
              <a:rPr sz="2100"/>
            </a:b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геометрическим способом</a:t>
            </a:r>
            <a:br>
              <a:rPr sz="2100"/>
            </a:b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в стиле Аль-Хорезми</a:t>
            </a:r>
            <a:br>
              <a:rPr sz="2100"/>
            </a:br>
            <a:br>
              <a:rPr sz="2500"/>
            </a:br>
            <a:r>
              <a:rPr b="1" lang="ru-RU" sz="2500" spc="-1" strike="noStrike">
                <a:solidFill>
                  <a:srgbClr val="330033"/>
                </a:solidFill>
                <a:latin typeface="Times New Roman"/>
              </a:rPr>
              <a:t>у</a:t>
            </a:r>
            <a:r>
              <a:rPr b="1" lang="en-US" sz="2500" spc="-1" strike="noStrike">
                <a:solidFill>
                  <a:srgbClr val="330033"/>
                </a:solidFill>
                <a:latin typeface="Times New Roman"/>
              </a:rPr>
              <a:t>2   + 6 </a:t>
            </a:r>
            <a:r>
              <a:rPr b="1" lang="ru-RU" sz="2500" spc="-1" strike="noStrike">
                <a:solidFill>
                  <a:srgbClr val="330033"/>
                </a:solidFill>
                <a:latin typeface="Times New Roman"/>
              </a:rPr>
              <a:t>у – 16 = 0</a:t>
            </a:r>
            <a:br>
              <a:rPr sz="2500"/>
            </a:br>
            <a:br>
              <a:rPr sz="2100"/>
            </a:b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3456000" cy="4032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971640" y="404640"/>
            <a:ext cx="3456000" cy="4032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971640" y="404640"/>
            <a:ext cx="345600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330033"/>
                </a:solidFill>
                <a:latin typeface="Times New Roman"/>
              </a:rPr>
              <a:t>Знаменитое уравнение Аль Хорезми:  «Квадрат и десять корней равны 39». </a:t>
            </a: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x2 + 10x = 39 (IX век)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.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ctr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воем трактате он пишет: «Правило                               таково: раздвой число корней, получится в этой задаче пять, умножь на это равное ему, будет двадцать пять. Прибавь это к тридцатидевяти, будет шестьдесят четыре. Извлеки из этого корень, будет восемь, и вычти из этого половину числа корней, т.е. пять, останется три: это и будет корень квадрата, который ты иска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187280" y="4508640"/>
            <a:ext cx="1683000" cy="21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5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1640" y="404640"/>
            <a:ext cx="7769160" cy="54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ть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иле Аль-Хорез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вадрат и число 21 равны 10 корням. Найти корень» (подразумевается уравнения корень  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309744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6164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7691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921440" cy="5084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635280" y="4986360"/>
            <a:ext cx="248292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6364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  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Выводы: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на квадратные уравнения встречаются уже в 499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работ Жирара (1592-1632), Декарта и Ньютона метод решения квадратных уравнений приобрёл нынешний ви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ляются новые методы решения квадрат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900" spc="-1" strike="noStrike">
                <a:solidFill>
                  <a:srgbClr val="330033"/>
                </a:solidFill>
                <a:latin typeface="Times New Roman"/>
              </a:rPr>
              <a:t>Посредством уравнений, теорем</a:t>
            </a:r>
            <a:br>
              <a:rPr sz="2900"/>
            </a:br>
            <a:r>
              <a:rPr b="1" i="1" lang="ru-RU" sz="2900" spc="-1" strike="noStrike">
                <a:solidFill>
                  <a:srgbClr val="330033"/>
                </a:solidFill>
                <a:latin typeface="Times New Roman"/>
              </a:rPr>
              <a:t>Я уйму всяких разрешил проблем.</a:t>
            </a:r>
            <a:br>
              <a:rPr sz="2900"/>
            </a:br>
            <a:r>
              <a:rPr b="1" i="1" lang="ru-RU" sz="1900" spc="-1" strike="noStrike">
                <a:solidFill>
                  <a:srgbClr val="cc3300"/>
                </a:solidFill>
                <a:latin typeface="Times New Roman"/>
              </a:rPr>
              <a:t>Английский поэт средних веков Чосер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стороны  прямоугольника, площадь которого   3 , а одна сторона больше другой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стороны  прямоугольника, площадь которого 371, а одна сторона больше другой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4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040" y="1104480"/>
            <a:ext cx="6629400" cy="22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280360" cy="63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6164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292720" y="333000"/>
            <a:ext cx="35733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Маршрут” исследова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1)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Древний Вави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t-RU" sz="2400" spc="-1" strike="noStrike">
                <a:solidFill>
                  <a:srgbClr val="990000"/>
                </a:solidFill>
                <a:latin typeface="Times New Roman"/>
              </a:rPr>
              <a:t>2)Диоф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t-RU" sz="2400" spc="-1" strike="noStrike">
                <a:solidFill>
                  <a:srgbClr val="990000"/>
                </a:solidFill>
                <a:latin typeface="Times New Roman"/>
              </a:rPr>
              <a:t>3)И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4)Средневековый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Во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t-RU" sz="2400" spc="-1" strike="noStrike">
                <a:solidFill>
                  <a:srgbClr val="990000"/>
                </a:solidFill>
                <a:latin typeface="Times New Roman"/>
              </a:rPr>
              <a:t>5) Евр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10653" t="8590" r="25475" b="11811"/>
          <a:stretch/>
        </p:blipFill>
        <p:spPr>
          <a:xfrm>
            <a:off x="990720" y="228600"/>
            <a:ext cx="40384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Древний Вавилон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 (I тысячелетие до н.э.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84036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400" spc="-1" strike="noStrike">
                <a:solidFill>
                  <a:srgbClr val="330033"/>
                </a:solidFill>
                <a:latin typeface="Times New Roman"/>
              </a:rPr>
              <a:t>Квадратные уравнения в Древнем Вавилоне (I тысячелетие до н.э.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бходимость решать уравнения не только первой, но и второй степени еще в древности была вызвана потребностью решать задачи, связанные с нахождением площадей земельных участков и с земляными работами военного характера, а также с развитием астрономии и самой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23159" t="40187" r="8800" b="34497"/>
          <a:stretch/>
        </p:blipFill>
        <p:spPr>
          <a:xfrm>
            <a:off x="762120" y="1600200"/>
            <a:ext cx="3927240" cy="1905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33516" t="50029" r="16500" b="17198"/>
          <a:stretch/>
        </p:blipFill>
        <p:spPr>
          <a:xfrm>
            <a:off x="990720" y="3581280"/>
            <a:ext cx="3489120" cy="30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Древний Вавилон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72428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ным принципом того времени было указание к действию (делай как Я). Объяснение при решении уравнений в то время отсутствует. Вывода формул нет. Дается тольк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цепт решения конкретного квадратного уравнения, алгоритм носит общий характе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равило решения этих уравнений, изложенное в вавилонских текстах Несмотря на высокий уровень развития алгебры в Вавилоне, в клинописных текстах отсутствуют понятие отрицательного числа и общие методы решения квадратных уравнений.</a:t>
            </a:r>
            <a:br>
              <a:rPr sz="18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10200" y="4065480"/>
            <a:ext cx="2025720" cy="1752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21784" t="21305" r="5446" b="61366"/>
          <a:stretch/>
        </p:blipFill>
        <p:spPr>
          <a:xfrm>
            <a:off x="5181480" y="2057400"/>
            <a:ext cx="3733920" cy="12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</a:t>
            </a: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Вавило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2892600"/>
            <a:ext cx="633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 древ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вычел из площади одну  сторону моего квадрата и получил  87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 –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= 87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пробуй 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211640" y="260280"/>
            <a:ext cx="4724280" cy="2667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5520" cy="387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16000" y="216000"/>
            <a:ext cx="155520" cy="387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132000" y="4581360"/>
            <a:ext cx="2024280" cy="159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08:37:02Z</dcterms:created>
  <dc:creator>cnit5</dc:creator>
  <dc:description/>
  <cp:keywords/>
  <dc:language>en-US</dc:language>
  <cp:lastModifiedBy>Учитель</cp:lastModifiedBy>
  <dcterms:modified xsi:type="dcterms:W3CDTF">2017-12-20T12:12:31Z</dcterms:modified>
  <cp:revision>127</cp:revision>
  <dc:subject/>
  <dc:title>Слайд 1</dc:title>
</cp:coreProperties>
</file>