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CD6B-9EEC-40CC-84BB-F315E679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0ACD-77FB-486A-B878-8FEB0A2E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47B680-4188-47BF-820D-4FD27E53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BCA478-1ED3-4245-B20F-ACD4CEC0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FA11B0-3680-44ED-A15D-726FA348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6899D-0245-49E0-A840-5125529A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FB3F30-F8AA-4DFB-A8D3-38B058FA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4D8A84-4702-4D4B-9E3D-1D940FEB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767AB7-95B2-43C5-BB79-9676F736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1FCFD8-27CF-42C1-B572-086278CA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DC67D7-3C3A-46F3-A915-BAD09A04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DC9ECA-EB86-4D2A-9F10-B916B62B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2C59-6192-4DC4-8117-4EFDF14A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601DEA-99E3-4C9C-8025-B4B96AC4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90ACD-577F-4926-8045-A8349A1A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188523-F403-4A5D-9505-05B91CC1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44D32-606F-4F15-AA24-69781375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7FCBAC-852D-4B52-92EB-E2708116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63C32D-B19B-4C5A-AD22-86196218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81C3BB-6B86-4B64-B379-544F21B2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D5114-48F2-483D-8C02-51C5C232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DB62D-F396-4A27-8D83-13D804CC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454A0-AB5C-4339-89D6-1DBC7C65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EBCD-4DBB-4041-8166-CF0BBA1D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49D38-F963-466F-8740-5855CA4B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266C3-E84F-43AD-B86C-2CD96AF7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11EC4-4667-4773-9040-4938B484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0CF15-4C5B-406D-994F-FDCF3293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64CD7-DF94-49A8-959C-AFDDB136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A7A57-6CF4-436E-9170-A6B42153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A51AE-B348-446C-9269-D6CA85FF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C86F6-6A0B-4367-BD97-C30DD233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7A9D0-AF6A-4A90-A2DF-3D9BB735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2E173-F1FD-4F3D-9AA4-46FF44FD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8F95-E3C7-49A9-9087-B6AF967E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7E50B-F14A-4F94-AA8E-E7322089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9D8A9-A9D7-4C36-B922-93714D53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2744C-860C-48BB-AD5B-CA4A2E41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F85286-BD17-4A46-A350-EAA61915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893D6E-FED7-4DD8-9B8C-1047FBE1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F3DE1E-2ADB-4AE6-91EC-AA86FC89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38DF7E-AC5E-4352-8601-19249624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C3CB5A-B647-49EF-B8B1-00DF02B3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782A33-40B8-454D-836D-10118102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0697B6-045D-4802-9C4F-5CB6D60D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E046-9CD8-42C3-ABB3-315D5F33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C8A6D-3F02-4B9A-B2FC-C29348BA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97583F-DF57-440D-95C0-B440758B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6155CA-AA80-420E-B722-A37589BA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5E609-FADD-445E-8958-29FC08E6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2F534B-9ABF-467D-8AB0-D7F6A468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92CF-120F-4DE7-8C9D-E31A0662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F799-F5CE-40B5-8846-A42A9316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6E56-9E91-4CBD-A5C5-C02B5811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3773-BB9C-4F27-94F1-6F155938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B908-AF1E-4C60-8E82-1A2476E7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372D-4284-46CD-B8F6-266524F3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5FCB-34F6-4052-840C-F2823B4C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96F5-1E64-4B59-9AD2-95043F01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EAD9-9987-4A97-92F4-4DC1052F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7EBC-640F-42A8-8710-0D9A5578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3E09-B492-47E5-B09E-CD9E0C23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05CA8-88D1-45FF-9F51-23A6CCCF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9165C-87D7-4164-A589-BD8F9105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B8E68-CC77-4532-A995-8B3091BB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31AEC-0177-4202-A4A2-B2EAA4CB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3A22E-E1C6-48EA-83B7-3A5FE574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0FA7-7DFA-476A-9E60-D983CC4B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A7ED2-94CB-410D-A453-6B719DB1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19FFB-60E3-4912-9C15-42D53E44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1995F-93D0-4071-BF2D-ACB134C1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47D11-7056-4107-B5CB-D4570CEF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A14B4-64C7-4580-9DBE-4E1CD1CE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A5C65-1C70-4520-AA79-983E0710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FCB95-2597-4466-9B66-75F0E443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A7D13-78D9-4B69-B4E1-C2ADB7D9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A32E-E526-43E0-A6A4-3E2A73C2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E4961-7285-4AEC-9F74-F8600D0C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F2A-71C0-4522-A3AC-7269B5A0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FD6B7-5046-43C6-A462-5A8FFF3B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A7CAC-BFFB-441D-9583-F34DA1F4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34B67-3B65-4D6D-AE3A-4C221AC2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187A9-E90A-4111-851E-0EDE8D59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0FF2D-7465-4846-8C9E-A428537E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CCFF3-72DF-436E-8A3E-63DD3E43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C8323-3401-47C4-8442-05A167B3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B477A-9AD3-4416-B0BA-408FA852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63773-A199-447C-92A9-1F58B954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6C1C3-A690-42F5-AA9E-5E83DA27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2BB2-8BCC-43CA-A21A-A6A30798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F1A92-0344-43EC-839E-478AE927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85BFB-5D5B-4B46-8FAF-4CF1BEA4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3082B-CA3D-4EC9-9585-E1FF4D58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DA40B-5F2C-4AFE-A876-FCC20622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3750E-66F8-43BA-A714-27E66A7E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4861A-C37D-48C3-9C74-4C33BE79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90485-C83A-41C5-9684-411F0D52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E7E84-7D0C-4057-A90F-9DECF59B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B66F2-9BE5-4F2E-866A-BFE47C36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82DD2-8CBE-4FD3-9C0F-DA7E0455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FFE-B4E9-40A5-A070-A322ED26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DFEF9-D791-47D4-B5A8-BD3CD33E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375E6-740F-4AC4-AFF0-F6AA175F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6F241-EDB5-46BC-8D62-06ED4653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23399-2004-48FC-8579-85820597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3C0DD-81F8-4D46-8AAB-4FC834E9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5BCA9-7384-4231-B56E-E543C4B1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7C3B9-AC0D-4D4C-A80E-1FEF9877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F83B7-A7E9-4DA3-B4A8-641B4D7D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32DDB-4275-43BD-9783-19E1B623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C3DF1-8760-49EE-8CC2-76B850AD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DE8-1F53-44F4-87A7-E9E9240D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73210-4E40-4FBA-83BE-053F2C98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9CBF1-5A34-40E0-BA8F-FF790103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63D27-0AFF-459B-9E9F-E6379F78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A011D-C4E4-4D25-A463-8D497581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AACA6-E233-4449-99F2-6A80C910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8DF4C-7B72-4151-9082-99767AA4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86B9A-7601-4C96-B3D4-2D337723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59EFC-FE4A-4BC5-AA0F-6ED18B9F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B2ADE-94F7-404F-919B-3690A09B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FE23C-130E-4A00-8158-B07D81C9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A81-BD29-49B9-BD94-DA7DC5C6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765C1-18FC-45DB-B32F-343007B0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E0E0D-3E30-4A43-A1C2-B01884C9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881E1-960D-482D-AA84-F8648C5D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5DAEC-1843-4885-9856-FB402049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5E42C-4ECD-4C42-9BBD-73305C74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EC02C-FB13-450C-8E5D-0DAB738C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AA891-D722-42C8-9FDD-6595DDB6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336C8-35CE-4E57-813F-706DBB2D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74AA0-06D1-46EF-92D2-ABA6A76F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E68AB-A06D-4A8D-8BB2-FFD6A47F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BA54-1393-431F-BD67-BB71B6DA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ABA32-B993-4706-9292-D612AFD4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59453-86B5-4448-954C-9516C55D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3ED8D-61E6-4C16-9330-0016790E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AD9C9-EA75-406B-A247-E1835D85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1CE81-2E37-4ED6-89C9-2295AA30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DD941-29CD-4996-A16B-D9DC0C34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DC704-E29F-436A-824A-9011E7E8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DEB916-5C30-4155-B84A-13EC7CE3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5FF8C-E72F-4F74-BC81-76624EE0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622B84-EA0B-46D6-B67F-43A63477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FBC9-6117-42E2-917D-0BAAFA0FD19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5CDB-149D-4864-A6C1-41DF5F94AE8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EC97-A59A-4F97-83BF-D7AD1D91A62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1556-5603-49E8-9677-D3A125E17E0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2DF6-CA77-406D-B222-8B360D164C6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30CD-183A-4BDD-B590-14313691FC5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B041-E1AA-49C7-933C-AD264434C95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5F3E-E91D-4359-93FB-A31C58C6676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6E85-AF3D-4234-AF03-39B15B433AF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5ED4-23EB-49F0-8C44-FF7F8ED7A75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9982-F67F-4664-9328-F329B006CC18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156A-FBEF-4CE7-824E-333D3937B1F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oudomlya.ru/wp-content/gallery/military_training/military_training_05_2010_8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sch-143.narod.ru/sbor/3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211280" y="3357360"/>
            <a:ext cx="493236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ОТДЕЛЕНИЕ ДОПОЛНИТЕЛЬНОГО ОБРАЗОВАН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СОСТАВИЛ: АНДРЕЕВ А.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ГБОУ СОШ №350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НЕВСКОГО РАЙОН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САНКТ-ПЕТЕРБУРГ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Georgia"/>
              </a:rPr>
              <a:t>Начальная военная подготовка</a:t>
            </a:r>
            <a:endParaRPr b="0" lang="en-US" sz="7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eorgia"/>
              </a:rPr>
              <a:t>Военная служба </a:t>
            </a:r>
            <a:r>
              <a:rPr b="0" lang="ru-RU" sz="3000" spc="-1" strike="noStrike">
                <a:solidFill>
                  <a:srgbClr val="002060"/>
                </a:solidFill>
                <a:latin typeface="Georgia"/>
              </a:rPr>
              <a:t>— это особый вид федеральной государственной службы. Она заключается в повседневном выполнении гражданами воинских обязанностей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9" name="Picture 2" descr="http://www.partbilet.ru/userfiles/2e9bf21a275dbf884eff1b320186b1ba.jpg"/>
          <p:cNvPicPr/>
          <p:nvPr/>
        </p:nvPicPr>
        <p:blipFill>
          <a:blip r:embed="rId1"/>
          <a:stretch/>
        </p:blipFill>
        <p:spPr>
          <a:xfrm>
            <a:off x="714240" y="1643040"/>
            <a:ext cx="78217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2060"/>
                </a:solidFill>
                <a:latin typeface="Georgia"/>
              </a:rPr>
              <a:t>Главная задача военной службы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 Постоянная целенаправленная подготовка к вооруженной защите или вооруженная защита территории РФ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http://pln-pskov.ru/pictures/0781112227.jpg"/>
          <p:cNvPicPr/>
          <p:nvPr/>
        </p:nvPicPr>
        <p:blipFill>
          <a:blip r:embed="rId1"/>
          <a:stretch/>
        </p:blipFill>
        <p:spPr>
          <a:xfrm>
            <a:off x="1500120" y="2857680"/>
            <a:ext cx="62150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Georgia"/>
              </a:rPr>
              <a:t>В соответствии с ФЗ «О военной обязанности и военной службе» от 28.03.1998 г. и ФЗ «Об образовании от 21.06.2005 г. предусмотрена подготовка обучающихся -  граждан мужского пола, не прошедших военной службы, по основам военной службы, а также проведение с ними учебных сборов после окончания 10 класса.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4" name="Picture 2" descr="Картинка 16 из 77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428920"/>
            <a:ext cx="6650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62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Georgia"/>
              </a:rPr>
              <a:t>Основная цель профессиональной подготовки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680" y="1527120"/>
            <a:ext cx="6913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знакомить учащихся с основами военной службы и привить им знания и умения в выполнении ряда общих обязанностей военнослужащего, проходящего военную службу по призыв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http://patriot-nvkz.ucoz.ru/meropriatie/sbory/sbori-1-.jpg"/>
          <p:cNvPicPr/>
          <p:nvPr/>
        </p:nvPicPr>
        <p:blipFill>
          <a:blip r:embed="rId1"/>
          <a:stretch/>
        </p:blipFill>
        <p:spPr>
          <a:xfrm>
            <a:off x="142920" y="4357800"/>
            <a:ext cx="3733920" cy="25002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" descr="http://school648.org/Sbor/IMG_3442-320x200-.jpg"/>
          <p:cNvPicPr/>
          <p:nvPr/>
        </p:nvPicPr>
        <p:blipFill>
          <a:blip r:embed="rId2"/>
          <a:stretch/>
        </p:blipFill>
        <p:spPr>
          <a:xfrm>
            <a:off x="7238880" y="1000080"/>
            <a:ext cx="1905120" cy="28576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Картинка 53 из 777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eorgia"/>
              </a:rPr>
              <a:t>Обязательная подготовка</a:t>
            </a:r>
            <a:r>
              <a:rPr b="0" lang="ru-RU" sz="3000" spc="-1" strike="noStrike">
                <a:solidFill>
                  <a:srgbClr val="002060"/>
                </a:solidFill>
                <a:latin typeface="Georgia"/>
              </a:rPr>
              <a:t> гражданина к военной службе предусматривает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олучение начальных знаний в области обороны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одготовку по основам военной службы в образовательном учреждении и на учебных пунктах организаций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военно-патриотическое воспитание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одготовку по военно-учетным специальностям солдат, матросов, сержантов и старшин по направлению военного комиссариата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медицинское освидетельствование и медицинское обследование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оведение лечебно-оздоровительных мероприятий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Georgia"/>
              </a:rPr>
              <a:t>Учебные сборы: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ятидневные учебные сборы проводятся в мае, после окончания учащимися 10 класс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ходе учебных сборов учащиеся знакомятся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С размещением военнослужащих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авилами содержания помещения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С основными мероприятиями, направленными на обеспечение безопасности военной службы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С распорядком служебного времени и организацией повседневного распорядка жизнедеятельности военнослужащих в военной част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С организацией суточного наряда и нарядной службы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зучают основные элементы строевой и тактической подготовк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оходят огневую подготовку: изучение автомата Калашникова, порядок подготовки его к ведению огня, меры безопасности при стрельбе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сновами военно-медицинских знаний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бщевоинскими уставам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2-11-11T09:12:09Z</dcterms:modified>
  <cp:revision>7</cp:revision>
  <dc:subject/>
  <dc:title>Начальная военная подготовка</dc:title>
</cp:coreProperties>
</file>