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0A555-3F38-46A0-98DB-40E7236ADE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67253-5E9D-4C55-B0B2-0A87EE0D77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5572-FE80-4EAD-9DE8-E151861D28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F58D-2D49-412E-8F6C-E460C4BC0E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61CDA-75D0-460A-B7E5-D79E120569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BCA9E-45E6-4D14-98C4-C1B45DEF0E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9D6E6-0FE7-4D18-82F1-DE4FAF63DA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0AE6-67F8-4824-9771-AA553C41CF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1D97D-EDB4-4F7D-92B6-4E762DE165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A0098-340A-4428-8668-38FFD4E4A0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5B720-96DC-4981-8B40-E6CD9D7BF3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1269A-1362-453E-9AD1-25FA48EF88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239-7E5C-4E64-ACF6-717726A3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7B2-C68D-45FA-8EF2-DC80355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F07-380F-48CF-87E0-D8A98470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095-98B4-4BB2-BA22-B1EA48FF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A01-6B7F-454A-8AE2-2D80FAE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E5C-DE24-43E9-94CC-4998EAA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A83-CC4B-4EC3-A0FF-F9E9A01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14B-BC06-41AB-B6C8-F1E4C1D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1FC-6E3F-49F0-BB58-70F31F1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364-D98E-4E94-B82C-3FD0B35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926-1699-469D-9412-2E4D902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806-37D1-4B8E-B0EF-643D6227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147EB-B39F-4FA1-A26E-9702FDFA234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ppt-online.org/1032024" TargetMode="External"/><Relationship Id="rId2" Type="http://schemas.openxmlformats.org/officeDocument/2006/relationships/hyperlink" Target="https://dostop.ru/moskva/krasnaya-ploshhad.html" TargetMode="External"/><Relationship Id="rId3" Type="http://schemas.openxmlformats.org/officeDocument/2006/relationships/hyperlink" Target="https://www.google.com/search?q=&#1095;&#1090;&#1086;+&#1090;&#1072;&#1082;&#1086;&#1077;+&#1087;&#1083;&#1086;&#1097;&#1072;&#1076;&#1100;&amp;oq=&#1095;&#1090;&#1086;+&#1090;&#1072;&#1082;&#1086;&#1077;+&#1087;&#1083;&#1086;&#1097;&#1072;&#1076;&#1100;&amp;aqs=chrome.0.69i59j0l5.7616j0j7&amp;sourceid=chrome&amp;ie=UTF-8" TargetMode="External"/><Relationship Id="rId4" Type="http://schemas.openxmlformats.org/officeDocument/2006/relationships/hyperlink" Target="https://cf2.ppt-online.org/files2/slide/b/BQC7D0nvOcNl4frTiVejaAGdY1LJKgb369Woph/slide-1.jpg" TargetMode="External"/><Relationship Id="rId5" Type="http://schemas.openxmlformats.org/officeDocument/2006/relationships/hyperlink" Target="https://foxford.ru/wiki/matematika/otsenka-ploshadi-figuri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youinroll.com/image/47/ploskie-geometricheskie-figur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ordArt 1" descr=""/>
          <p:cNvPicPr/>
          <p:nvPr/>
        </p:nvPicPr>
        <p:blipFill>
          <a:blip r:embed="rId1"/>
          <a:stretch/>
        </p:blipFill>
        <p:spPr>
          <a:xfrm>
            <a:off x="2030400" y="506520"/>
            <a:ext cx="725976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472000" y="5184720"/>
            <a:ext cx="40546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ова Татьяна Пав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4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пинский район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392720" y="4319640"/>
            <a:ext cx="13921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3 клас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152360" y="2160720"/>
            <a:ext cx="2913120" cy="2087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684360" y="647640"/>
            <a:ext cx="8740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Вычислить площадь прямоугольни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со сторонами 5 см и 3 с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771480" y="1944720"/>
            <a:ext cx="1857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pt-online.org/10320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806400" y="2303640"/>
            <a:ext cx="29368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dostop.ru/moskva/krasnaya-ploshhad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14320" y="2854440"/>
            <a:ext cx="7199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www.google.com/search?q=%D1%87%D1%82%D0%BE+%D1%82%D0%B0%D0%BA%D0%BE%D0%B5+%D0%BF%D0%BB%D0%BE%D1%89%D0%B0%D0%B4%D1%8C&amp;oq=%D1%87%D1%82%D0%BE+%D1%82%D0%B0%D0%BA%D0%BE%D0%B5+%D0%BF%D0%BB%D0%BE%D1%89%D0%B0%D0%B4%D1%8C&amp;aqs=chrome.0.69i59j0l5.7616j0j7&amp;sourceid=chrome&amp;ie=UTF-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63640" y="3780000"/>
            <a:ext cx="56228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s://cf2.ppt-online.org/files2/slide/b/BQC7D0nvOcNl4frTiVejaAGdY1LJKgb369Woph/slide-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78040" y="4211640"/>
            <a:ext cx="33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s://foxford.ru/wiki/matematika/otsenka-ploshadi-figur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63640" y="4680000"/>
            <a:ext cx="698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http://www.xn--24-6kct3an.xn--p1ai/%D0%9C%D0%B0%D1%82%D0%B5%D0%BC%D0%B0%D1%82%D0%B8%D0%BA%D0%B0_5_%D0%BA%D0%BB_%D0%92%D0%B8%D0%BB%D0%B5%D0%BD%D0%BA%D0%B8%D0%BD/18.5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36720" y="5481720"/>
            <a:ext cx="58309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https://obrazovaka.ru/wp-content/uploads/2018/08/pryamougolnik-razbityy-na-edinichnye-kvadraty.gi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57080" y="1224000"/>
            <a:ext cx="29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10096560" cy="7562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590400" y="3456000"/>
            <a:ext cx="18576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959280" y="6840360"/>
            <a:ext cx="5616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marL="431640" indent="-32220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Красная площадь в Москв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76360" y="1008000"/>
            <a:ext cx="8567640" cy="5689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78040" y="7112160"/>
            <a:ext cx="2936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Что такое площад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431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 математике: часть плоскости, заключённой внутри замкнутой геометрической фиг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реугольник, квадрат, прямоуголь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застроенное большое и ровное место (в городе, селе), от которого обычно расходятся в разные стороны у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368360" y="1536840"/>
            <a:ext cx="7775640" cy="5824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52360" y="7254720"/>
            <a:ext cx="3635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rmAutofit fontScale="94000"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youinroll.com/image/47/ploskie-geometricheskie-figury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87280" y="82440"/>
            <a:ext cx="9576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Любая плоская геометрическая фиг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имеет свою площад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52360" y="406440"/>
            <a:ext cx="9647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7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801900"/>
                </a:solidFill>
                <a:latin typeface="Times New Roman"/>
              </a:rPr>
              <a:t>Прямоугольники бывают разной фор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303640" y="2016000"/>
            <a:ext cx="3168360" cy="792360"/>
          </a:xfrm>
          <a:prstGeom prst="rect">
            <a:avLst/>
          </a:prstGeom>
          <a:solidFill>
            <a:srgbClr val="9966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319640" y="3672000"/>
            <a:ext cx="2160360" cy="3527280"/>
          </a:xfrm>
          <a:prstGeom prst="rect">
            <a:avLst/>
          </a:prstGeom>
          <a:solidFill>
            <a:srgbClr val="ffff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48360" y="1584360"/>
            <a:ext cx="1655640" cy="1584360"/>
          </a:xfrm>
          <a:prstGeom prst="rect">
            <a:avLst/>
          </a:prstGeom>
          <a:solidFill>
            <a:srgbClr val="009933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152360" y="3743280"/>
            <a:ext cx="2592720" cy="2376360"/>
          </a:xfrm>
          <a:prstGeom prst="diamond">
            <a:avLst/>
          </a:prstGeom>
          <a:solidFill>
            <a:srgbClr val="3300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8136000" y="2376360"/>
            <a:ext cx="576360" cy="4464000"/>
          </a:xfrm>
          <a:prstGeom prst="rect">
            <a:avLst/>
          </a:prstGeom>
          <a:solidFill>
            <a:srgbClr val="cc33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31640" y="289080"/>
            <a:ext cx="907128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лоща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численная характеристика двумерной (плоской) геометрической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47640" y="2268360"/>
            <a:ext cx="3672000" cy="2725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376360" y="1908000"/>
            <a:ext cx="30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392720" y="3456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7280" y="5292720"/>
            <a:ext cx="9576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тобы найти площадь прямоугольника, надо разделить его на одинаковые квадра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 квадрата сторона может быть 1см, тогда квадрат называется сантиметр квадратный — 1 см</a:t>
            </a:r>
            <a:r>
              <a:rPr b="0" lang="ru-RU" sz="3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295280" y="1711440"/>
            <a:ext cx="6945480" cy="3689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328680" y="173160"/>
            <a:ext cx="6078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801900"/>
                </a:solidFill>
                <a:latin typeface="Times New Roman"/>
              </a:rPr>
              <a:t>Эти фигуры разделен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801900"/>
                </a:solidFill>
                <a:latin typeface="Times New Roman"/>
              </a:rPr>
              <a:t>на одинаковые квадрат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31640" y="5572080"/>
            <a:ext cx="92887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Есть ли среди них одинаковые по площади фигур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503280" y="503280"/>
            <a:ext cx="7621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ак можно сосчитать квадра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в этом прямоугольни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47640" y="2268360"/>
            <a:ext cx="3672000" cy="2725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232000" y="1692360"/>
            <a:ext cx="409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319640" y="3384720"/>
            <a:ext cx="434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832360" y="2443320"/>
            <a:ext cx="1930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a = 6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904000" y="3343320"/>
            <a:ext cx="1957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b = 5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0360" y="4464000"/>
            <a:ext cx="1920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S = a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44360" y="5832360"/>
            <a:ext cx="9823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тобы найти </a:t>
            </a:r>
            <a:r>
              <a:rPr b="1" lang="ru-RU" sz="4000" spc="-1" strike="noStrike">
                <a:solidFill>
                  <a:srgbClr val="801900"/>
                </a:solidFill>
                <a:latin typeface="Times New Roman"/>
              </a:rPr>
              <a:t>площадь прямоугольник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до умножить его длину на ширин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5T13:46:10Z</dcterms:created>
  <dc:creator/>
  <dc:description/>
  <cp:keywords/>
  <dc:language>en-US</dc:language>
  <cp:lastModifiedBy>Admin</cp:lastModifiedBy>
  <dcterms:modified xsi:type="dcterms:W3CDTF">2022-11-05T19:06:41Z</dcterms:modified>
  <cp:revision>4</cp:revision>
  <dc:subject/>
  <dc:title>Презентация PowerPoint</dc:title>
</cp:coreProperties>
</file>