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7CA-06E4-487A-BD7A-C8B81E5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472-6C14-45CB-9215-C7A5022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37F-7810-47D5-AD49-768778AF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D49-AE10-4643-B368-043E21B5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ECB-D5C1-4991-BB3F-B7AE87F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96B4-6187-4D58-B842-25B707D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6B78-0C4D-4AF1-B2EC-0FCA6A63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07F-9179-4468-9106-636CEF27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D45-082D-43B9-80FC-3BA89907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689-5FEA-41E6-871F-D3F1069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611-F08D-4DBC-93A3-D1F9EE5F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435-8A0A-479C-B7AD-03FF027D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DE0-551E-47E6-A952-CA08A5C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09B-9A21-4D89-88F0-D01A563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D025-1019-4F7F-BC8F-ED6319CE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0B85-AD1A-4075-ADD1-6D55A69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9806-E59F-4736-87A0-961B1B1F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FE1-4007-47E9-B5B5-C045C5C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690-2AA7-4753-9E8C-E3FE3E8F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A5D-75BE-4ACA-A094-A8068551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F5D-6BD4-48B9-BF37-BB3B22D0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0C0-AA35-4829-AD09-17C689E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CD2-EC26-4769-B83B-E188480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71E-5BE4-4D4B-A0C8-508D7F0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834-2088-4F23-A8F8-67ACA0A08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226-552A-41B6-BFDE-02669F24922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Обобщение по разделу «Русские писатели».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2 класс. Литературное чт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Иван Андреевич Крыл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6" name="Группа 3"/>
          <p:cNvGrpSpPr/>
          <p:nvPr/>
        </p:nvGrpSpPr>
        <p:grpSpPr>
          <a:xfrm>
            <a:off x="636480" y="2492280"/>
            <a:ext cx="6456600" cy="3457800"/>
            <a:chOff x="636480" y="2492280"/>
            <a:chExt cx="6456600" cy="3457800"/>
          </a:xfrm>
        </p:grpSpPr>
        <p:pic>
          <p:nvPicPr>
            <p:cNvPr id="197" name="WordArt 6" descr=""/>
            <p:cNvPicPr/>
            <p:nvPr/>
          </p:nvPicPr>
          <p:blipFill>
            <a:blip r:embed="rId1"/>
            <a:stretch/>
          </p:blipFill>
          <p:spPr>
            <a:xfrm>
              <a:off x="636480" y="2638800"/>
              <a:ext cx="64566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" descr="http://img.labirint.ru/images/comments_pic/0838/04labhs3d1221553926.jpg"/>
            <p:cNvPicPr/>
            <p:nvPr/>
          </p:nvPicPr>
          <p:blipFill>
            <a:blip r:embed="rId2"/>
            <a:srcRect l="44931" t="0" r="0" b="0"/>
            <a:stretch/>
          </p:blipFill>
          <p:spPr>
            <a:xfrm>
              <a:off x="1478160" y="2492280"/>
              <a:ext cx="4249080" cy="34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«Филипок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1" name="Группа 3"/>
          <p:cNvGrpSpPr/>
          <p:nvPr/>
        </p:nvGrpSpPr>
        <p:grpSpPr>
          <a:xfrm>
            <a:off x="484200" y="1060560"/>
            <a:ext cx="4103640" cy="4816440"/>
            <a:chOff x="484200" y="1060560"/>
            <a:chExt cx="4103640" cy="4816440"/>
          </a:xfrm>
        </p:grpSpPr>
        <p:pic>
          <p:nvPicPr>
            <p:cNvPr id="202" name="WordArt 6" descr=""/>
            <p:cNvPicPr/>
            <p:nvPr/>
          </p:nvPicPr>
          <p:blipFill>
            <a:blip r:embed="rId1"/>
            <a:stretch/>
          </p:blipFill>
          <p:spPr>
            <a:xfrm>
              <a:off x="484200" y="1060560"/>
              <a:ext cx="410364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" descr="http://www.logvanov.r52.ru/data/filipok/96_97.jpg"/>
            <p:cNvPicPr/>
            <p:nvPr/>
          </p:nvPicPr>
          <p:blipFill>
            <a:blip r:embed="rId2"/>
            <a:srcRect l="50005" t="0" r="0" b="0"/>
            <a:stretch/>
          </p:blipFill>
          <p:spPr>
            <a:xfrm>
              <a:off x="1404720" y="2203920"/>
              <a:ext cx="2589480" cy="367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Лев Николаевич Толсто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6" name="Группа 3"/>
          <p:cNvGrpSpPr/>
          <p:nvPr/>
        </p:nvGrpSpPr>
        <p:grpSpPr>
          <a:xfrm>
            <a:off x="484200" y="1060560"/>
            <a:ext cx="4103640" cy="4816440"/>
            <a:chOff x="484200" y="1060560"/>
            <a:chExt cx="4103640" cy="4816440"/>
          </a:xfrm>
        </p:grpSpPr>
        <p:pic>
          <p:nvPicPr>
            <p:cNvPr id="207" name="WordArt 6" descr=""/>
            <p:cNvPicPr/>
            <p:nvPr/>
          </p:nvPicPr>
          <p:blipFill>
            <a:blip r:embed="rId1"/>
            <a:stretch/>
          </p:blipFill>
          <p:spPr>
            <a:xfrm>
              <a:off x="484200" y="1060560"/>
              <a:ext cx="410364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" descr="http://www.logvanov.r52.ru/data/filipok/96_97.jpg"/>
            <p:cNvPicPr/>
            <p:nvPr/>
          </p:nvPicPr>
          <p:blipFill>
            <a:blip r:embed="rId2"/>
            <a:srcRect l="50005" t="0" r="0" b="0"/>
            <a:stretch/>
          </p:blipFill>
          <p:spPr>
            <a:xfrm>
              <a:off x="1404720" y="2203920"/>
              <a:ext cx="2589480" cy="367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Угадай произведе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99"/>
                </a:solidFill>
                <a:latin typeface="Verdana"/>
              </a:rPr>
              <a:t>Стал дед очень стар…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Лев Николаевич Толсто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8800" spc="-1" strike="noStrike">
                <a:solidFill>
                  <a:srgbClr val="006699"/>
                </a:solidFill>
                <a:latin typeface="Verdana"/>
              </a:rPr>
              <a:t>«Старый дед и внучек»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Угадай произведе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99"/>
                </a:solidFill>
                <a:latin typeface="Verdana"/>
              </a:rPr>
              <a:t>На лад их дело не пойдёт.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Иван Андреевич Кры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99"/>
                </a:solidFill>
                <a:latin typeface="Verdana"/>
              </a:rPr>
              <a:t>«Лебедь, Щука и Рак»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Угадай произведе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99"/>
                </a:solidFill>
                <a:latin typeface="Verdana"/>
              </a:rPr>
              <a:t>Весной кошка пропала.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Лев Николаевич Толсто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Verdana"/>
              </a:rPr>
              <a:t>«Котёнок»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Угадай произведе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Там чудеса, там Леший бродит, Русалка на ветвях сидит»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Доскажи словечко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Старик ловил неводом рыбу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Старуха пряла свою ……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Александр Сергеевич Пушки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8000" spc="-1" strike="noStrike">
                <a:solidFill>
                  <a:srgbClr val="006699"/>
                </a:solidFill>
                <a:latin typeface="Verdana"/>
              </a:rPr>
              <a:t>Поэма «Руслан и Людмила»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3" descr=""/>
          <p:cNvPicPr/>
          <p:nvPr/>
        </p:nvPicPr>
        <p:blipFill>
          <a:blip r:embed="rId1"/>
          <a:stretch/>
        </p:blipFill>
        <p:spPr>
          <a:xfrm>
            <a:off x="1238400" y="85680"/>
            <a:ext cx="6705360" cy="1871640"/>
          </a:xfrm>
          <a:prstGeom prst="rect">
            <a:avLst/>
          </a:prstGeom>
          <a:ln w="0">
            <a:noFill/>
          </a:ln>
        </p:spPr>
      </p:pic>
      <p:pic>
        <p:nvPicPr>
          <p:cNvPr id="226" name="Объект 4" descr=""/>
          <p:cNvPicPr/>
          <p:nvPr/>
        </p:nvPicPr>
        <p:blipFill>
          <a:blip r:embed="rId2"/>
          <a:stretch/>
        </p:blipFill>
        <p:spPr>
          <a:xfrm>
            <a:off x="3367080" y="2112840"/>
            <a:ext cx="2409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Доскажи словечко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Он рыбачил тридцать лет и три года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И не слыхивал, чтоб рыбка …….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Доскажи словечко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Не посмел я взять с неё выкуп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Так и пустил её в синее ……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Доскажи словечко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Не хочет быть она простою крестьянкой, хочет быть столбовою…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Доскажи словечко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Вновь старик отправился к морю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Стал он кликать золотую ….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Сказка о рыбаке и рыбке»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331920" y="907920"/>
            <a:ext cx="6256080" cy="6050160"/>
            <a:chOff x="331920" y="907920"/>
            <a:chExt cx="6256080" cy="6050160"/>
          </a:xfrm>
        </p:grpSpPr>
        <p:pic>
          <p:nvPicPr>
            <p:cNvPr id="182" name="WordArt 6" descr=""/>
            <p:cNvPicPr/>
            <p:nvPr/>
          </p:nvPicPr>
          <p:blipFill>
            <a:blip r:embed="rId1"/>
            <a:stretch/>
          </p:blipFill>
          <p:spPr>
            <a:xfrm>
              <a:off x="331920" y="907920"/>
              <a:ext cx="6256080" cy="22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http://www.old-land.ru/kadr/rr16.jpg"/>
            <p:cNvPicPr/>
            <p:nvPr/>
          </p:nvPicPr>
          <p:blipFill>
            <a:blip r:embed="rId2"/>
            <a:stretch/>
          </p:blipFill>
          <p:spPr>
            <a:xfrm>
              <a:off x="1541880" y="3645000"/>
              <a:ext cx="4373640" cy="331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лександр Сергеевич Пушкин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6" name="Группа 3"/>
          <p:cNvGrpSpPr/>
          <p:nvPr/>
        </p:nvGrpSpPr>
        <p:grpSpPr>
          <a:xfrm>
            <a:off x="-684360" y="-88920"/>
            <a:ext cx="6256440" cy="6050160"/>
            <a:chOff x="-684360" y="-88920"/>
            <a:chExt cx="6256440" cy="6050160"/>
          </a:xfrm>
        </p:grpSpPr>
        <p:pic>
          <p:nvPicPr>
            <p:cNvPr id="187" name="WordArt 6" descr=""/>
            <p:cNvPicPr/>
            <p:nvPr/>
          </p:nvPicPr>
          <p:blipFill>
            <a:blip r:embed="rId1"/>
            <a:stretch/>
          </p:blipFill>
          <p:spPr>
            <a:xfrm>
              <a:off x="-684360" y="-88920"/>
              <a:ext cx="6256440" cy="21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" descr="http://www.old-land.ru/kadr/rr16.jpg"/>
            <p:cNvPicPr/>
            <p:nvPr/>
          </p:nvPicPr>
          <p:blipFill>
            <a:blip r:embed="rId2"/>
            <a:stretch/>
          </p:blipFill>
          <p:spPr>
            <a:xfrm>
              <a:off x="522360" y="2649960"/>
              <a:ext cx="4377960" cy="33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Verdana"/>
              </a:rPr>
              <a:t>Назови авто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144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«Стрекоза и Муравей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1" name="Группа 3"/>
          <p:cNvGrpSpPr/>
          <p:nvPr/>
        </p:nvGrpSpPr>
        <p:grpSpPr>
          <a:xfrm>
            <a:off x="636480" y="2492280"/>
            <a:ext cx="6456600" cy="3457800"/>
            <a:chOff x="636480" y="2492280"/>
            <a:chExt cx="6456600" cy="3457800"/>
          </a:xfrm>
        </p:grpSpPr>
        <p:pic>
          <p:nvPicPr>
            <p:cNvPr id="192" name="WordArt 6" descr=""/>
            <p:cNvPicPr/>
            <p:nvPr/>
          </p:nvPicPr>
          <p:blipFill>
            <a:blip r:embed="rId1"/>
            <a:stretch/>
          </p:blipFill>
          <p:spPr>
            <a:xfrm>
              <a:off x="636480" y="2638800"/>
              <a:ext cx="64566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" descr="http://img.labirint.ru/images/comments_pic/0838/04labhs3d1221553926.jpg"/>
            <p:cNvPicPr/>
            <p:nvPr/>
          </p:nvPicPr>
          <p:blipFill>
            <a:blip r:embed="rId2"/>
            <a:srcRect l="44931" t="0" r="0" b="0"/>
            <a:stretch/>
          </p:blipFill>
          <p:spPr>
            <a:xfrm>
              <a:off x="1478160" y="2492280"/>
              <a:ext cx="4249080" cy="34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26:20Z</dcterms:created>
  <dc:creator>www.PHILka.RU</dc:creator>
  <dc:description/>
  <dc:language>en-US</dc:language>
  <cp:lastModifiedBy>admin</cp:lastModifiedBy>
  <dcterms:modified xsi:type="dcterms:W3CDTF">2016-11-21T15:40:01Z</dcterms:modified>
  <cp:revision>20</cp:revision>
  <dc:subject/>
  <dc:title>Весёлые стихи  </dc:title>
</cp:coreProperties>
</file>