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676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FD0A0-4803-41A8-B323-35C93FF16C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C57FE-1EC4-4630-AF12-7D0F616079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44328-6CA8-4E5E-A9BA-E05B0BC294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7143A-2B2E-4930-AACF-6488BDF774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498-7F7F-43CA-A49A-EE53B25C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810-2108-4464-A520-CD84F18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D26-BEB3-4534-90D4-BF935E9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9CC-8E19-4D03-A0B4-E51524BE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E3A-9F4F-47B6-AA86-932BBEC1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B32-71C3-426E-BD5D-6DFE9B7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4D84-BC6F-4084-8031-82A153F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356-FE66-436B-AAC2-FB98F4A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7C9A-82E2-4B4A-A214-A977CEC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8FC-6C6E-470B-B841-D741503D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AEE0-CDA8-4614-9CA3-B706472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DFC-7B0E-4F15-B3F9-D422A55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F12-BC16-4FAC-89BF-F6C9F41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1CD-A1DE-496B-A074-7445F77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51D0-7187-4071-8403-F2BD16B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3E8B-9CCA-4577-A009-A84A4F86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036A-CC15-45CC-B16A-F2BC3ED8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8AB8-A87A-4BC3-865F-5823792C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6105-B89B-4F06-B0EA-22AA1B3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E3B0-1515-447C-B1CA-E6A23E71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B2BD-25F9-483E-94CC-E062437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531D-3FFD-44B3-AAD5-8A555EF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AEB-099A-41FD-AA15-39B99EED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FF4D-CD52-4FE6-B1D4-52065C8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69CB-3DBE-4123-A93F-1E798EA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AD4A-5C89-4CBD-AD90-D2122C1A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FBF8-F73C-476C-9017-A5F7453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40AC-C176-49FF-B4B8-5EA6361E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6057-8ED4-4367-AEBB-E72F384D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24D8-4379-4394-A8D2-90594FA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F8C-ABCE-47BC-AADF-7B51B9D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46E-68CD-4CD1-BF47-96A57D0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4E7-1C55-41D3-9A8C-3316175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59C-0195-4826-B787-3EAFC04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DBB-EB61-4517-A4F3-3082DA0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D1B-93FE-456B-A082-B94D47FC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39283-45C1-43C7-8B2F-93FAC84A8F3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C40C-AB5F-454F-BF59-BFF0B65B41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5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4728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8300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E0278-42BD-4B2A-A2AA-3CE568A979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1"/>
          <p:cNvSpPr txBox="1"/>
          <p:nvPr/>
        </p:nvSpPr>
        <p:spPr>
          <a:xfrm>
            <a:off x="1728720" y="1800360"/>
            <a:ext cx="648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1900"/>
                </a:solidFill>
                <a:latin typeface="Arial Black"/>
              </a:rPr>
              <a:t>Слова — близнец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1900"/>
              </a:solidFill>
              <a:latin typeface="Arial Black"/>
              <a:ea typeface="Arial Black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600360" y="3600360"/>
            <a:ext cx="2060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2 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24400" y="5718240"/>
            <a:ext cx="40546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ванова Татьяна Пав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БОУ СОШ 4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лпинский рай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896000" y="34776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720720" y="3816360"/>
            <a:ext cx="4960800" cy="33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63640" y="2303640"/>
            <a:ext cx="3687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82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Сёстры — близне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55640" y="1440000"/>
            <a:ext cx="875808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Слова, которые одинаково пишут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и одинаково слышатся, но имею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ные значения, называют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словами — близнецам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а по научному —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  <a:ea typeface="Microsoft YaHei"/>
              </a:rPr>
              <a:t>омоним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1:22:22Z</dcterms:created>
  <dc:creator>Юлия</dc:creator>
  <dc:description/>
  <dc:language>en-US</dc:language>
  <cp:lastModifiedBy>Юлия</cp:lastModifiedBy>
  <dcterms:modified xsi:type="dcterms:W3CDTF">2022-11-11T14:58:42Z</dcterms:modified>
  <cp:revision>10</cp:revision>
  <dc:subject/>
  <dc:title>Презентация PowerPoint</dc:title>
</cp:coreProperties>
</file>