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6760" cy="34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22745-9F50-4E82-9E26-E44D07F2FE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9E36B-9EBB-4FD1-BC49-E23996BBA8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7" name="Text Box 2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18945-BDC6-477F-AF17-003CB6374C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0" name="Text Box 2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0E985-E6D4-49FC-93D3-3EC2EC12C1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3" name="Text Box 2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C2411-4EDB-4892-BB3E-A640EC4D0F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6" name="Text Box 2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8C7-B06D-48DD-8BA4-FCA2DC6D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80960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876560"/>
            <a:ext cx="80960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CE2-777B-4537-9E04-30AC4533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900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9B22-C7C1-4317-AF18-C9EC0D99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800" y="182412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65240" y="182412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87656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800" y="487656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65240" y="487656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F67E-BA7A-47FC-A729-8A539288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9C68-8049-48E2-A7BA-1B6ED511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1824120"/>
            <a:ext cx="80960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0C44-A3CC-4564-87DD-401FAFCE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80960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D0F1-B79B-414C-BBD4-A83F6B0F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9621-1BAC-4814-9ED2-9B4FE02F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D946-5F80-40D7-A04A-86510188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55640" y="479160"/>
            <a:ext cx="316548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961E-8D23-4847-B070-DA64C646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3B4A-FFA1-44C9-8D6C-B3AC0409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1824120"/>
            <a:ext cx="80960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B98B-FEA0-4410-BA9B-F842D8E1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900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9B24-2A9C-41E1-8E48-8C70FADE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876560"/>
            <a:ext cx="80960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0728-2647-4186-8A17-42182B59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80960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876560"/>
            <a:ext cx="80960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2B12-5984-48A7-B50A-7852A431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900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772C-34AD-4A59-A65D-EC654613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7800" y="182412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65240" y="182412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87656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7800" y="487656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65240" y="487656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FD43-F929-4DB3-A94D-D7796179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D2DFE-626E-4B27-AFD1-42C48634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360" y="1824120"/>
            <a:ext cx="80960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C31BD-E4F5-48E7-B892-59A9167E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80960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7602C-C0E5-4E41-9DAF-64B8E9A6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136F1-21B8-41F3-AA58-30C8E410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C62DF-83E7-4669-BDC1-8DBF617F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80960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8A4-B29E-41BA-9535-168ADBD4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455640" y="479160"/>
            <a:ext cx="316548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F82EB-7408-467E-874F-D042A4AC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36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5B0E0-9EFF-473E-AEE9-20EE3394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3900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B5741-B521-4A78-884A-F0560BDC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90360" y="4876560"/>
            <a:ext cx="80960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BEEAC-5B1D-42C0-A770-80DAF0CA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80960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90360" y="4876560"/>
            <a:ext cx="80960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A7601-CDBB-4A5C-BAF3-1B820D01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9036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3900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072CF-475A-4CDC-835B-72ECAFC9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727800" y="182412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65240" y="182412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90360" y="487656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727800" y="487656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465240" y="4876560"/>
            <a:ext cx="260676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74020-24A1-418A-9B9C-B1F086B5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B12-2EB4-4C0B-B238-B39477BF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E6D-B217-4221-B97B-1A268D80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55640" y="479160"/>
            <a:ext cx="316548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00B-ED70-409D-BC25-D96181C8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E8F-72D4-4BA1-9E29-53C9DAF4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9000" y="487656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58C1-D44C-4C8B-A2CE-23DEC22F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55640" y="454320"/>
            <a:ext cx="31654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9000" y="1824120"/>
            <a:ext cx="39506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876560"/>
            <a:ext cx="809604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508-D609-4F62-B9E7-EEACB833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59A23-EF5F-4521-8867-0593841295B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9F97A-17E3-4B6A-B556-3D4591340C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2"/>
          <a:stretch/>
        </p:blipFill>
        <p:spPr>
          <a:xfrm>
            <a:off x="0" y="4680"/>
            <a:ext cx="10078920" cy="7554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55640" y="479160"/>
            <a:ext cx="316548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90360" y="1824120"/>
            <a:ext cx="80960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47280" y="688788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83000" y="688788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03ED7-1CCB-470C-95C0-A44ECF1D85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647640" y="324000"/>
            <a:ext cx="4618080" cy="3743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"/>
          <p:cNvSpPr/>
          <p:nvPr/>
        </p:nvSpPr>
        <p:spPr>
          <a:xfrm>
            <a:off x="647640" y="4067280"/>
            <a:ext cx="4753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Бык — домашнее живот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2"/>
          <a:stretch/>
        </p:blipFill>
        <p:spPr>
          <a:xfrm>
            <a:off x="4808520" y="3924360"/>
            <a:ext cx="4641840" cy="32148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1"/>
          <p:cNvSpPr/>
          <p:nvPr/>
        </p:nvSpPr>
        <p:spPr>
          <a:xfrm>
            <a:off x="5424480" y="35686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Быки — опоры мо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720720" y="376200"/>
            <a:ext cx="4556160" cy="4556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"/>
          <p:cNvSpPr/>
          <p:nvPr/>
        </p:nvSpPr>
        <p:spPr>
          <a:xfrm>
            <a:off x="576360" y="4932360"/>
            <a:ext cx="4176720" cy="21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Лисичка — звер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2"/>
          <a:stretch/>
        </p:blipFill>
        <p:spPr>
          <a:xfrm>
            <a:off x="4656240" y="3635280"/>
            <a:ext cx="4795560" cy="359748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1"/>
          <p:cNvSpPr/>
          <p:nvPr/>
        </p:nvSpPr>
        <p:spPr>
          <a:xfrm>
            <a:off x="5400720" y="2916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Лисички — гриб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576360" y="250920"/>
            <a:ext cx="4319640" cy="38289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"/>
          <p:cNvSpPr/>
          <p:nvPr/>
        </p:nvSpPr>
        <p:spPr>
          <a:xfrm>
            <a:off x="576360" y="4284720"/>
            <a:ext cx="3160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Птица — овся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2"/>
          <a:stretch/>
        </p:blipFill>
        <p:spPr>
          <a:xfrm>
            <a:off x="5016600" y="3924360"/>
            <a:ext cx="4405320" cy="330516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1"/>
          <p:cNvSpPr/>
          <p:nvPr/>
        </p:nvSpPr>
        <p:spPr>
          <a:xfrm>
            <a:off x="5688000" y="3419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Каша — овся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1224000" y="2016000"/>
            <a:ext cx="637236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2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Microsoft YaHei"/>
              </a:rPr>
              <a:t>Слова — близнец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Microsoft YaHei"/>
              </a:rPr>
              <a:t>омоним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1:22:22Z</dcterms:created>
  <dc:creator>Юлия</dc:creator>
  <dc:description/>
  <dc:language>en-US</dc:language>
  <cp:lastModifiedBy>Юлия</cp:lastModifiedBy>
  <dcterms:modified xsi:type="dcterms:W3CDTF">2022-11-11T14:59:56Z</dcterms:modified>
  <cp:revision>13</cp:revision>
  <dc:subject/>
  <dc:title>Презентация PowerPoint</dc:title>
</cp:coreProperties>
</file>