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9.jpeg" ContentType="image/jpeg"/>
  <Override PartName="/ppt/media/image11.jpeg" ContentType="image/jpeg"/>
  <Override PartName="/ppt/media/image23.wmf" ContentType="image/x-wmf"/>
  <Override PartName="/ppt/media/image8.jpeg" ContentType="image/jpeg"/>
  <Override PartName="/ppt/media/image10.jpeg" ContentType="image/jpeg"/>
  <Override PartName="/ppt/media/image2.gif" ContentType="image/gif"/>
  <Override PartName="/ppt/media/image6.gif" ContentType="image/gif"/>
  <Override PartName="/ppt/media/image5.gif" ContentType="image/gif"/>
  <Override PartName="/ppt/media/image14.jpeg" ContentType="image/jpeg"/>
  <Override PartName="/ppt/media/image4.gif" ContentType="image/gif"/>
  <Override PartName="/ppt/media/image3.gif" ContentType="image/gif"/>
  <Override PartName="/ppt/media/image12.jpeg" ContentType="image/jpeg"/>
  <Override PartName="/ppt/media/image7.jpeg" ContentType="image/jpeg"/>
  <Override PartName="/ppt/media/image27.wmf" ContentType="image/x-wmf"/>
  <Override PartName="/ppt/media/image25.wmf" ContentType="image/x-wmf"/>
  <Override PartName="/ppt/media/image22.gif" ContentType="image/gif"/>
  <Override PartName="/ppt/media/image24.wmf" ContentType="image/x-wmf"/>
  <Override PartName="/ppt/media/image19.jpeg" ContentType="image/jpe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6.wmf" ContentType="image/x-wmf"/>
  <Override PartName="/ppt/media/image15.jpeg" ContentType="image/jpeg"/>
  <Override PartName="/ppt/media/image21.gif" ContentType="image/gif"/>
  <Override PartName="/ppt/media/image1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9C20-278D-4C2D-9628-163118A7FD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90B9-FA31-42D7-A7CE-044F926182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E9C3-6953-488E-9F8E-EE12A758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110-A795-4133-A23C-F43BA455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0E01-CD84-4B8A-8302-5A1F6519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52C-E240-4EC8-8391-04CA671A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CD96-23FA-4B89-8841-A49A36A6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E29D-3DAC-4B59-99F3-14F4F2F2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A76A-69DB-447F-9A54-CDFC8ED8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814B-4C9F-430F-B175-D4D6E104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6736-C4BB-4EBA-8738-266FB826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55A9-2D11-4F7E-B3FB-816B5C58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B94C-4F7D-4F3C-967D-AB13CB48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884-D3AA-4655-8627-138CD892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D061-B285-4C45-954B-C12909CF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BB43-0B3B-4AC4-B9AC-BD346AA4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8E8D-3800-4215-ADB6-629B4F2D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47E3-92D4-4A5A-8CD2-EB3A44BF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2E9C-ED07-4ECD-9D36-1B63C40C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7D27-507B-43BE-900A-A9EC9E20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02A-E91D-4936-953E-87F18EF2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06A-C3F8-4338-B436-3DFFF645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DE2F-02B7-44AE-A645-B928752D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224-BBF0-4F73-9546-DD16DBB5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BF1-BE00-430E-BB66-A17F826B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63DB-8882-4237-8E89-CA07E2E3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2E9E-551B-473A-9995-20E75255851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D933-BDCF-4A67-A851-80FA75B9230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32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500" spc="-1" strike="noStrike">
                <a:solidFill>
                  <a:srgbClr val="ff0066"/>
                </a:solidFill>
                <a:latin typeface="Comic Sans MS"/>
              </a:rPr>
              <a:t>Детская </a:t>
            </a:r>
            <a:br>
              <a:rPr sz="6500"/>
            </a:br>
            <a:r>
              <a:rPr b="1" i="1" lang="en-US" sz="6500" spc="-1" strike="noStrike">
                <a:solidFill>
                  <a:srgbClr val="ff0066"/>
                </a:solidFill>
                <a:latin typeface="Comic Sans MS"/>
              </a:rPr>
              <a:t>агрессия и её причины</a:t>
            </a:r>
            <a:endParaRPr b="0" lang="en-US" sz="6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3" descr="agr_1"/>
          <p:cNvPicPr/>
          <p:nvPr/>
        </p:nvPicPr>
        <p:blipFill>
          <a:blip r:embed="rId1"/>
          <a:stretch/>
        </p:blipFill>
        <p:spPr>
          <a:xfrm>
            <a:off x="5796000" y="4005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640" y="3933720"/>
            <a:ext cx="87440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 рисунках видны признаки физической агрессии: зубы и шипы. Заострённые когти и хвост– это защитная агрессия. Бросаются в глаза длинные колючки торчащие в разные стороны и близко расположенные друг к друг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2735280" cy="3818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2916360" y="549360"/>
            <a:ext cx="1752480" cy="3382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2771640" cy="37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а рисунках виден оптимизм(использование ярких цветов),женственность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наличие украшения, цветов, мягких линий, форм), стремление к домашней защите (наличие цветочного горшка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103480" cy="4413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3678480" cy="3257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3"/>
          <a:stretch/>
        </p:blipFill>
        <p:spPr>
          <a:xfrm>
            <a:off x="6012000" y="549360"/>
            <a:ext cx="2947680" cy="402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08240" y="152280"/>
            <a:ext cx="592128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 Black"/>
              </a:rPr>
              <a:t>Характерные особенности агрессивных дет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750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Воспринимают большинство ситуаций как угрожающие или враждебные по отношению к ним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Сверхчувствительные к негативному отношению к себ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Заранее настроены на негативное восприятие себя со стороны окружающих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Не оценивают собственную агрессию, как агрессивное поведени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Всегда винят окружающих в своём агрессивном поведен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В случае намеренной агрессии отсутствует чувство вин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Склонны не брать на себя ответственность за свои поступк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Слабо развит контроль над своими эмоциями, кроме гнев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Боится непредсказуемости в поведении родителе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Характерны неустойчивое, рассеянное внимание, неустойчивое запоминани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Не умеет прогнозировать последствия своих действи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Положительно относится к агрессии, т. к. через неё получает чувство собственной значимости, силы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4" descr="88"/>
          <p:cNvPicPr/>
          <p:nvPr/>
        </p:nvPicPr>
        <p:blipFill>
          <a:blip r:embed="rId1"/>
          <a:stretch/>
        </p:blipFill>
        <p:spPr>
          <a:xfrm>
            <a:off x="428760" y="214200"/>
            <a:ext cx="10000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Кукла «Бобо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1403280" y="3789360"/>
            <a:ext cx="6264360" cy="3068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2"/>
          <a:stretch/>
        </p:blipFill>
        <p:spPr>
          <a:xfrm>
            <a:off x="1476360" y="765000"/>
            <a:ext cx="6407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56840" y="999720"/>
            <a:ext cx="7643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Как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не надо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вести себя родителям с  агрессивным ребенко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28400" y="149976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стоянно внушать ему, что он плохой, Помните, что отрицательная оценка взрослых формирует отрицательную самооценку у ребенка и затрудняет его общение с внешним миро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гибкими воспитательными мероприятиями загонять ребенка в угол. Ожесточая ег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спользовать агрессивные методы воспитания и наказания (шлепки, угол, ремень). Не забывайте, что агрессивность – это следствие враждебности, а воспитательные мероприятия – не орудия сраж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зволять ребенку даже нарочно стрелять во взрослых игрушечным пистолето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чить мучить домашних животн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ультивировать вражду между ним и сверстник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скорблять достоинство ребенка грубыми слов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любить его или любить только «оценочной» любовь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caveman2a"/>
          <p:cNvPicPr/>
          <p:nvPr/>
        </p:nvPicPr>
        <p:blipFill>
          <a:blip r:embed="rId1"/>
          <a:stretch/>
        </p:blipFill>
        <p:spPr>
          <a:xfrm>
            <a:off x="0" y="71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CALVIN4"/>
          <p:cNvPicPr/>
          <p:nvPr/>
        </p:nvPicPr>
        <p:blipFill>
          <a:blip r:embed="rId2"/>
          <a:stretch/>
        </p:blipFill>
        <p:spPr>
          <a:xfrm>
            <a:off x="7451640" y="4797360"/>
            <a:ext cx="1497240" cy="16318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"/>
          <p:cNvSpPr/>
          <p:nvPr/>
        </p:nvSpPr>
        <p:spPr>
          <a:xfrm>
            <a:off x="1500120" y="142920"/>
            <a:ext cx="7269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Baskerville Old Face"/>
              </a:rPr>
              <a:t>Родителям на заметку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0200" y="142560"/>
            <a:ext cx="6500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Baskerville Old Face"/>
              </a:rPr>
              <a:t>Родителям на заметку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13880" y="1785960"/>
            <a:ext cx="7983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вым делом нащупать все болевые точки в семь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ормализовать семейные отнош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нимать его таким, какой он есть и любить со всеми недостатк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то-то требуется от ребенка, учитывать его возможности, а не то, как Вам хотелось бы его виде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пытайтесь погасить конфликт еще в зародыше, направляя интерес ребенка в другое русл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ать понять ему, что он любим, даже если в семье появился новорожден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учить его общению со сверстник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 драчливости ребенка главное – не разъяснить, а предотвратить уда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мнить ,что слово может ранить ребе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нимать ребенка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baby04"/>
          <p:cNvPicPr/>
          <p:nvPr/>
        </p:nvPicPr>
        <p:blipFill>
          <a:blip r:embed="rId1"/>
          <a:stretch/>
        </p:blipFill>
        <p:spPr>
          <a:xfrm>
            <a:off x="7786800" y="542916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C:\Program Files\Microsoft Office\MEDIA\CAGCAT10\j0284916.jpg"/>
          <p:cNvPicPr/>
          <p:nvPr/>
        </p:nvPicPr>
        <p:blipFill>
          <a:blip r:embed="rId2"/>
          <a:stretch/>
        </p:blipFill>
        <p:spPr>
          <a:xfrm>
            <a:off x="142920" y="142920"/>
            <a:ext cx="2368440" cy="1566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"/>
          <p:cNvSpPr/>
          <p:nvPr/>
        </p:nvSpPr>
        <p:spPr>
          <a:xfrm>
            <a:off x="2857680" y="1000080"/>
            <a:ext cx="5943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Как надо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вести себя родителям с агрессивными деть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cc"/>
                </a:solidFill>
                <a:latin typeface="Comic Sans MS"/>
              </a:rPr>
              <a:t>Я люблю вас, родители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2" descr="C:\Documents and Settings\Конфетка\Мои документы\Все для сайтов\www.gifpark.ru\Человеческие\Детские\2\mother.gif"/>
          <p:cNvPicPr/>
          <p:nvPr/>
        </p:nvPicPr>
        <p:blipFill>
          <a:blip r:embed="rId1"/>
          <a:stretch/>
        </p:blipFill>
        <p:spPr>
          <a:xfrm>
            <a:off x="395280" y="1989000"/>
            <a:ext cx="3168720" cy="4104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" descr="C:\Documents and Settings\Конфетка\Мои документы\Все для сайтов\www.gifpark.ru\Человеческие\Детские\2\CALVIN2.gif"/>
          <p:cNvPicPr/>
          <p:nvPr/>
        </p:nvPicPr>
        <p:blipFill>
          <a:blip r:embed="rId2"/>
          <a:stretch/>
        </p:blipFill>
        <p:spPr>
          <a:xfrm>
            <a:off x="4067280" y="1197000"/>
            <a:ext cx="2016000" cy="2881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C:\Documents and Settings\Конфетка\Мои документы\Все для сайтов\www.gifpark.ru\Человеческие\Детские\1\66.gif"/>
          <p:cNvPicPr/>
          <p:nvPr/>
        </p:nvPicPr>
        <p:blipFill>
          <a:blip r:embed="rId3"/>
          <a:stretch/>
        </p:blipFill>
        <p:spPr>
          <a:xfrm>
            <a:off x="6659640" y="3933720"/>
            <a:ext cx="1800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Rectangle 4"/>
          <p:cNvGraphicFramePr/>
          <p:nvPr/>
        </p:nvGraphicFramePr>
        <p:xfrm>
          <a:off x="539640" y="260280"/>
          <a:ext cx="7345440" cy="51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1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280"/>
                    <a:ext cx="734544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87280" y="33228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Comic Sans MS"/>
                <a:ea typeface="Times New Roman"/>
              </a:rPr>
              <a:t>Мне хорошо, когда меня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848360" cy="4059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5983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76360" y="48312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Мне плохо, когда меня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066160" cy="4032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-190440" y="622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428400"/>
            <a:ext cx="851832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99"/>
                </a:solidFill>
                <a:latin typeface="Comic Sans MS"/>
              </a:rPr>
              <a:t>Человек обладает способностью любить, и если он не может найти применения своей способности любить, он способен ненавидеть, проявляя агрессию и жестокость. Этим средством он руководствуется, как бегством от собственной душевной боли…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Эрих Фромм</a:t>
            </a:r>
            <a:br>
              <a:rPr sz="2800"/>
            </a:br>
            <a:r>
              <a:rPr b="1" i="1" lang="ru-RU" sz="2800" spc="-1" strike="noStrike">
                <a:solidFill>
                  <a:srgbClr val="00b200"/>
                </a:solidFill>
                <a:latin typeface="Comic Sans MS"/>
              </a:rPr>
              <a:t>« Промедление может обернуться чем угодно, ибо время приносит с собой как зло, так и добро, как добро, так и зло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икколо Макиавелли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021040" y="116640"/>
            <a:ext cx="576432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cc"/>
                </a:solidFill>
                <a:latin typeface="Comic Sans MS"/>
              </a:rPr>
              <a:t>Чаще всего я радуюсь, когд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200"/>
                </a:solidFill>
                <a:latin typeface="Comic Sans MS"/>
              </a:rPr>
              <a:t>Наступает день рождения -33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200"/>
                </a:solidFill>
                <a:latin typeface="Comic Sans MS"/>
              </a:rPr>
              <a:t>Наступает Новый год – 8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200"/>
                </a:solidFill>
                <a:latin typeface="Comic Sans MS"/>
              </a:rPr>
              <a:t>Дарят подарки – 13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200"/>
                </a:solidFill>
                <a:latin typeface="Comic Sans MS"/>
              </a:rPr>
              <a:t>Рассказывают сказки -8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200"/>
                </a:solidFill>
                <a:latin typeface="Comic Sans MS"/>
              </a:rPr>
              <a:t>Любят родители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200"/>
                </a:solidFill>
                <a:latin typeface="Comic Sans MS"/>
              </a:rPr>
              <a:t>Со мной верные друзья – 8%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200"/>
                </a:solidFill>
                <a:latin typeface="Comic Sans MS"/>
              </a:rPr>
              <a:t>Папа рядом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200"/>
                </a:solidFill>
                <a:latin typeface="Comic Sans MS"/>
              </a:rPr>
              <a:t>Иду на танцы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200"/>
                </a:solidFill>
                <a:latin typeface="Comic Sans MS"/>
              </a:rPr>
              <a:t>Получу «5» -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200"/>
                </a:solidFill>
                <a:latin typeface="Comic Sans MS"/>
              </a:rPr>
              <a:t>Смотрю телевизор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200"/>
                </a:solidFill>
                <a:latin typeface="Comic Sans MS"/>
              </a:rPr>
              <a:t>Родители рядом – 4%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2000" spc="-1" strike="noStrike">
                <a:solidFill>
                  <a:srgbClr val="cc00cc"/>
                </a:solidFill>
                <a:latin typeface="Comic Sans MS"/>
              </a:rPr>
              <a:t>Чаще всего я смеюсь, когд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Смешит сосед по парте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Слушаю анекдоты – 39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Щекочут  - 8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Рассказываю шутки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Играю в «Геймбой» -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Играю с другом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Говорят что-то смешное -13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Смотрю на повадки животных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Смешат родственники – 8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Дают смешные роли на праздники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Играю с мобильным телефоном – 4%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1" descr="C:\Documents and Settings\Конфетка\Мои документы\Все для сайтов\www.gifpark.ru\Человеческие\Детские\2\CALVIN2.gif"/>
          <p:cNvPicPr/>
          <p:nvPr/>
        </p:nvPicPr>
        <p:blipFill>
          <a:blip r:embed="rId1"/>
          <a:stretch/>
        </p:blipFill>
        <p:spPr>
          <a:xfrm>
            <a:off x="6443640" y="1484280"/>
            <a:ext cx="201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415880" y="895320"/>
            <a:ext cx="64123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cc"/>
                </a:solidFill>
                <a:latin typeface="Comic Sans MS"/>
              </a:rPr>
              <a:t>Чаще всего у меня хорошее настроение, когд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Едем на отдых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Смотрю телевизор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Получил (а) «5» - 20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Меня целуют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Родители  рядом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Светит солнце -8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Папа покупает шоколадки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На душе хорошо и сердце радуется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Выигрывает любимый футбольный клуб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Мама дома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Не злит сестра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Играю в компьютер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Качаюсь на качелях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Покупают игрушки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Иду в школу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Дают конфеты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Гуляю с другом -4%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1" descr="C:\Documents and Settings\Конфетка\Мои документы\Все для сайтов\www.gifpark.ru\Человеческие\Детские\2\CALVIN2.gif"/>
          <p:cNvPicPr/>
          <p:nvPr/>
        </p:nvPicPr>
        <p:blipFill>
          <a:blip r:embed="rId1"/>
          <a:stretch/>
        </p:blipFill>
        <p:spPr>
          <a:xfrm>
            <a:off x="6732720" y="3645000"/>
            <a:ext cx="2016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30960" y="457560"/>
            <a:ext cx="5566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Comic Sans MS"/>
              </a:rPr>
              <a:t>Чаще всего я плачу, когд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Мне плохо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Мама уезжает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Меня ругают – 12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Ставят в угол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Не дают конфеты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Меня бьют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У меня горе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Со мной не соглашаются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Ошибки в домашней работе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Заставляют делать уроки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Папы нет рядом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Меня обижают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На меня кричат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Меня наказывают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Плохое настроение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Делают укол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Со мной дерется сестра – 4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Кусает собака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Достают родственники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 -4%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3" descr="C:\Documents and Settings\Конфетка\Мои документы\Все для сайтов\www.gifpark.ru\Человеческие\Детские\1\66.gif"/>
          <p:cNvPicPr/>
          <p:nvPr/>
        </p:nvPicPr>
        <p:blipFill>
          <a:blip r:embed="rId1"/>
          <a:stretch/>
        </p:blipFill>
        <p:spPr>
          <a:xfrm>
            <a:off x="611280" y="1197000"/>
            <a:ext cx="2736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31760" y="1965240"/>
            <a:ext cx="54838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Comic Sans MS"/>
              </a:rPr>
              <a:t>Чаще всего я злюсь, когд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Меня никто не слушает – 16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Бьют - 12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Не разрешают смотреть телевизор – 16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Плохо про меня говорят – 8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Одна дома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Меня ругают – 8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Надо мной смеются – 12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Меня дразнят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Не соглашаются со мной – 8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5" descr="CALVIN4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7" name="Rectangle 4"/>
          <p:cNvGraphicFramePr/>
          <p:nvPr/>
        </p:nvGraphicFramePr>
        <p:xfrm>
          <a:off x="468360" y="260280"/>
          <a:ext cx="727236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0280"/>
                    <a:ext cx="72723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Rectangle 4"/>
          <p:cNvGraphicFramePr/>
          <p:nvPr/>
        </p:nvGraphicFramePr>
        <p:xfrm>
          <a:off x="468360" y="549360"/>
          <a:ext cx="7343640" cy="489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34364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94920" y="112536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9640" y="1773360"/>
            <a:ext cx="7848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пехов в воспитани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cc"/>
                </a:solidFill>
                <a:uFillTx/>
                <a:latin typeface="Comic Sans MS"/>
              </a:rPr>
              <a:t>Задач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обсудить с родителями причины детской агрессии, ее влияние на поведение ребенка; формировать у родителей культуру понимания проблемы детской агрессии и путей ее преодол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cc"/>
                </a:solidFill>
                <a:uFillTx/>
                <a:latin typeface="Comic Sans MS"/>
              </a:rPr>
              <a:t>Форма проведе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бесед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cc"/>
                </a:solidFill>
                <a:uFillTx/>
                <a:latin typeface="Comic Sans MS"/>
              </a:rPr>
              <a:t>Вопросы для обсужде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причины детской агрессии; родительская власть, ее виды и пути влияния на ребенка; пути преодоления детской агрессив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cc"/>
                </a:solidFill>
                <a:uFillTx/>
                <a:latin typeface="Comic Sans MS"/>
              </a:rPr>
              <a:t>Подготовительная работ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анкетирование, подготовка памятки для родителей, выставка рисунков «Мои чувства», проведение исследования по проблеме детской агрессив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C:\Documents and Settings\Конфетка\Мои документы\Все для сайтов\www.gifpark.ru\Вещественные\Разные\Писанина\book.gif"/>
          <p:cNvPicPr/>
          <p:nvPr/>
        </p:nvPicPr>
        <p:blipFill>
          <a:blip r:embed="rId1"/>
          <a:stretch/>
        </p:blipFill>
        <p:spPr>
          <a:xfrm>
            <a:off x="6372360" y="4508640"/>
            <a:ext cx="20984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920" y="259920"/>
            <a:ext cx="828036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Comic Sans MS"/>
              </a:rPr>
              <a:t>                         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Агрессивност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мотивированное, деструктивное   поведение, которое противоречит нормам и правилам  существования людей в обществе, наносящее физический вред или моральный ущерб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Агрессивность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общих чертах понимается как целенаправленное нанесение физического или психического ущерба другому лиц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Агресс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ФИЗИЧЕСКАЯ                                  </a:t>
            </a: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  ВЕРБАЛЬНА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4" descr="gif016"/>
          <p:cNvPicPr/>
          <p:nvPr/>
        </p:nvPicPr>
        <p:blipFill>
          <a:blip r:embed="rId1"/>
          <a:stretch/>
        </p:blipFill>
        <p:spPr>
          <a:xfrm>
            <a:off x="1071720" y="3214800"/>
            <a:ext cx="1333440" cy="99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93"/>
          <p:cNvPicPr/>
          <p:nvPr/>
        </p:nvPicPr>
        <p:blipFill>
          <a:blip r:embed="rId2"/>
          <a:stretch/>
        </p:blipFill>
        <p:spPr>
          <a:xfrm>
            <a:off x="6429240" y="3143160"/>
            <a:ext cx="1371600" cy="133344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5"/>
          <p:cNvSpPr/>
          <p:nvPr/>
        </p:nvSpPr>
        <p:spPr>
          <a:xfrm>
            <a:off x="214200" y="4572000"/>
            <a:ext cx="842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Причины???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Comic Sans MS"/>
              </a:rPr>
              <a:t>Для чего нужна агресс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95280" y="1628640"/>
          <a:ext cx="8748720" cy="4525920"/>
        </p:xfrm>
        <a:graphic>
          <a:graphicData uri="http://schemas.openxmlformats.org/drawingml/2006/table">
            <a:tbl>
              <a:tblPr/>
              <a:tblGrid>
                <a:gridCol w="874872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askerville Old Face"/>
                        </a:rPr>
                        <a:t>Средство достижения какой - нибудь цели        ( отнять что - либо, принудить к чему – то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askerville Old Face"/>
                        </a:rPr>
                        <a:t>Как средство защит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Baskerville Old Face"/>
                        </a:rPr>
                        <a:t>Как средство самоутвержден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Picture 6" descr="C:\Documents and Settings\Конфетка\Мои документы\Все для сайтов\Анимация\Другое\b2.gif"/>
          <p:cNvPicPr/>
          <p:nvPr/>
        </p:nvPicPr>
        <p:blipFill>
          <a:blip r:embed="rId1"/>
          <a:stretch/>
        </p:blipFill>
        <p:spPr>
          <a:xfrm>
            <a:off x="7072200" y="5715000"/>
            <a:ext cx="1809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Результаты детских анк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37  %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детей обижаются и злятся, когда их обзывают, не хотят с ними разговаривать, гулять, игнорируют их «будто они воздух»;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27%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детей обижаются и злятся, когда на них кричат, несправедливо ругают;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22 % 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-- когда их предают, «используют», бьют;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8 %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-- когда дома одни;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6 %</a:t>
            </a:r>
            <a:r>
              <a:rPr b="1" lang="en-US" sz="23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-- не обижаются и не злятся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C:\Documents and Settings\Конфетка\Мои документы\Все для сайтов\Анимация\Люди\b38.gif"/>
          <p:cNvPicPr/>
          <p:nvPr/>
        </p:nvPicPr>
        <p:blipFill>
          <a:blip r:embed="rId1"/>
          <a:stretch/>
        </p:blipFill>
        <p:spPr>
          <a:xfrm>
            <a:off x="7620120" y="4800600"/>
            <a:ext cx="15238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Результат анкет родителе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42960" y="1356840"/>
            <a:ext cx="80438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2%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читают, что у их детей возникали случаи агресси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58%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тей жаловались родителям, что были объектом агресс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C:\Documents and Settings\Конфетка\Мои документы\Все для сайтов\www.gifpark.ru\Вещественные\Разные\Писанина\book.gif"/>
          <p:cNvPicPr/>
          <p:nvPr/>
        </p:nvPicPr>
        <p:blipFill>
          <a:blip r:embed="rId1"/>
          <a:stretch/>
        </p:blipFill>
        <p:spPr>
          <a:xfrm>
            <a:off x="6858000" y="4786200"/>
            <a:ext cx="2098800" cy="17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Результат анкетирования дет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42960" y="1213920"/>
            <a:ext cx="8043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52%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етей смотрят сериалы, мультфильм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38%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мотрят передачи познавательного характер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10%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смотрят телевизор по причине занятости или запрета врач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69%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считают, что компьютер для развлечения (игр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31%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детей считают, что компьютер содержит познавательную информаци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 Black"/>
              </a:rPr>
              <a:t>ПРИЧИНЫ ДЕТСКОЙ АГРЕСС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99680" y="1196640"/>
            <a:ext cx="835812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indent="446040"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собенности семейного воспитания (грубость, жестокость в семье, атмосфера «неприятия», противоречивые требования, непоследовательность родителей, наказание и поощрение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indent="446040"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indent="446040"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заимоотношения со сверстниками (чувство взрослости, отсутствие навыков общения, желание самоутвердиться в коллективе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indent="446040"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indent="446040"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меры агрессивного поведен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 телеэкране, компьютерные игры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3" descr="agr_1"/>
          <p:cNvPicPr/>
          <p:nvPr/>
        </p:nvPicPr>
        <p:blipFill>
          <a:blip r:embed="rId1"/>
          <a:stretch/>
        </p:blipFill>
        <p:spPr>
          <a:xfrm>
            <a:off x="6588000" y="4221000"/>
            <a:ext cx="2376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5:28:50Z</dcterms:created>
  <dc:creator>Ксения</dc:creator>
  <dc:description/>
  <dc:language>en-US</dc:language>
  <cp:lastModifiedBy>Виталий</cp:lastModifiedBy>
  <dcterms:modified xsi:type="dcterms:W3CDTF">2008-12-16T20:58:03Z</dcterms:modified>
  <cp:revision>51</cp:revision>
  <dc:subject/>
  <dc:title>Детская агрессия и её причины</dc:title>
</cp:coreProperties>
</file>