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91063-2CE5-46E0-9730-096ECEB6F91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946F9-398D-464F-AAEE-3D5D11B6A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DEEBE-D9CB-4448-A78D-210DE19C5D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1A53D-2DEE-467B-A07E-FC7700E503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6785A-676E-4FBF-B27E-983229D155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F497A-8462-4C27-B244-7788872F10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F3132-5B76-4403-9132-66544C2646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3028A-E7A8-452B-A287-C4581E0379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415BA-C2E5-4E8B-9B49-F493F337F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67A33-07AD-4E15-99F6-B6DCB5B38F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C95A2-587F-404B-8278-34F8B2D99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1BEAD-B8F7-49A6-8F1E-1CB79088B3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47BCA-A227-4F4F-845C-42064F1542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CDC3D-8077-4207-BE0B-62357B9135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15086-505F-4F1B-B84E-8299DDB6B2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CD68B-E9A0-4532-A670-6B22739C56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C02-6970-4009-9BC8-93D12934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062-3FFF-44CB-A57C-253C3212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2A5B0-319D-4B7D-B1BE-64BBF874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3F225-538D-41D6-9126-07C4A838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47B84-14B3-41C6-A108-61200C8A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EFD31-9A9E-40C6-9C91-3AFAF51B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E283B-862E-476E-8D05-6A2425F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F8D0C-3746-4D63-8B03-6F5CE093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6B9BE-CAC9-4114-84FD-2091D105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6AD7A-5AE2-497D-B986-F11C3A8E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052B1-102A-43A9-B83C-63E3B295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BB413-DF53-4728-B407-421E03BF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BC0-A9DA-4FA0-8E3C-987D4B10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7F223-F461-4F87-829B-DFA85C19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63DB0-40FE-477D-BEE5-7979798B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8710E-061E-44E2-8B4A-14A3C1A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5B996-23CA-4602-8D10-71D750FC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43271-D87F-4D84-9BD5-49D4DF97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886F2-7169-4B99-958E-AE63DD0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69AEF-DA23-4DF8-805E-947FB8A4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2E166-D49A-4EE7-8192-2876057F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8EE0C-32AC-40F6-8A28-36C5E7F7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1D651-C5C9-4206-8739-A15251AD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CDF-B009-47FE-933E-40DFF7A6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4E136-C54B-4504-BB9B-C568BD83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43BA4-A762-418C-86A1-49915B2F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71CB5-C19A-499D-961A-487EF438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66C90-7667-4505-B10A-4E879FA6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BA7BD-4237-4C52-ACF4-457F951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638CA-4EE8-4E35-BCDA-599715BF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9E7E2-4DF6-44D3-BE90-6C15A494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C5181-8167-42A4-86D2-57AB8FD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FEB1F-89BD-4076-8053-8E42F286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CD3D6-E4A8-4811-BE3D-318EF3F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209-E153-47C6-A88C-AE905189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9741D-664B-4CD0-9A7E-D32F4965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341DE-B851-471B-A80F-E7B88261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351EC-E176-415F-A95C-15F49EE8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7D994-4623-4C20-93D8-75F822CD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7666B-D372-4A5C-854D-39596F06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AC76-0527-4130-A2C0-B899F065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1558C-70AB-4DC7-B8AB-286CBCB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1F133-DAD1-40C8-BB8B-80FA6A2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5C382-31F7-4104-B165-12D3A347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06DCB-B9ED-4BC3-AC80-8590DFB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C16C-18D9-4787-AD95-A85109BD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9CD0A-B714-4BA5-8725-F5589BC7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70F6D-FC52-45E2-9A32-56CCF893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429C5-E58B-4CA1-BAFD-E7F23117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68BC2-C897-4016-B845-58853A30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9D441-FF48-401A-B9D9-3621D8E1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A1743-C761-4992-9845-0EC09799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82455-FFA0-444B-8E0A-F450C5CB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E2C45-34EB-4CB2-AB16-7D268A8A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09613-26D3-4CB1-86FB-EB8B9CB1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E440C-C078-46BB-8BC4-3E048051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7C73-BDDB-464B-B229-378FBD4C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9D67F-36B9-4ABD-935C-47C46906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F94E0-5096-4EB9-99EA-85DB554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D2EE1-22FF-4754-8E1D-0A4370D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361D2-664F-4971-A931-398909EF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569CD-3038-4EB6-9806-39E677E7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485AE-F8AF-4CB6-BC13-16F37D6C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38808-59E5-4E4B-9B0A-41E41E83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D20E4-C6ED-4168-B330-E55148D3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25198-89B1-4E00-89E2-28A0CAC5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BE31B-6E70-44FD-829B-FBEEE2C1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14E9-D0CE-43EB-8912-1D20CE7D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198A4-7A59-4D6E-95F7-2F1CCAEE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14940-050E-4418-A44F-07CDDAB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B02A9-C1C2-4296-AC01-A4D29CDE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486F2-77D7-4662-BD8B-084DB6E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138F0-5313-472F-B945-655FFE9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158E8-5F47-4FAF-9752-7A48F35C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186B3-3B37-448C-BBBE-C70C7D7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DAA03-F73A-4725-827D-F314470A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FCB15-F5A0-4D3C-92F6-AA927BB9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AE2A8-6EA9-47FD-8BA6-5376C638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9C82-283D-4A0D-8267-2BE63497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29565-8943-4C04-BFF7-9358F62E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50BDA-E730-4662-8653-672ADCEB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2473A-9C60-48E1-9ED8-EBC4F088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01021-5E49-4228-9D6D-674F348C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01B57-EEB3-4D45-9AC8-A90B36F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B4341-03A6-4FE4-BC44-45F6CF48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2FB19-CF9C-4DEB-B109-DDDEC703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76369-296E-4B56-B7C9-6003B833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429A0-07D1-4475-B213-77A1358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48125-E2FF-46F3-8BEC-878E0E57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FDF8-450C-43F0-93C1-DB0A2C75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4B53C-900D-419E-B0F0-54E37BA9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DBFB1-5BB5-4FD5-8751-474BD425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EEE69-F60A-47D0-AE04-A52EEB9D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4E5144-48AE-4475-93CA-D4AA873B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78131-5C00-4671-9FE1-F2BED2C9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E1797-027B-4DFF-8C25-53D175B0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EF8E5-2514-4E5E-942E-BAEE95B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F0842-1063-43DA-A4D0-930D4EAB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3B350-C0F9-46DF-A583-DE229560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54B0D-C6AE-4AC2-9207-B8CB0C7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7D39-29E8-405A-A659-4F43EB3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B7AA7-64A7-421F-B69D-AB4CF00C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8F20A-0966-4AE3-9C11-CED43BAE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49203-3D82-4E1D-A8D0-228761F9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76CC2-5664-46AC-BF08-E7B90B77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A7BB4-3875-4016-B13D-54BF7891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66A16-D713-44E9-80F1-6C0D7DFE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4C7A2-9406-4647-9D0C-B8F6CF79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A3C03-B472-4EEB-8EF2-222CCE03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537B0-FBC6-465E-9D27-4EB755A7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A7367-8DA4-4E69-92F3-5D2548ED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767-CA49-4A4C-B6F9-4468EF7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1092-EBBA-402C-A4B2-F3E5A39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A77F2-305A-4CEB-BB20-AD587F59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DD07B-6FB7-4C12-A67F-803ABDF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5B111-A452-4370-9A0E-FD8088A5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A8452-5693-4373-8790-C8E77582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9FEE3-D35B-4786-A78A-E9E780B5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DD51-8F85-44E2-9E1B-D4D3B63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EFAC-457A-4EB8-8181-6F5E29DB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2048-B072-40FB-BD34-ADD42C78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64FA-2547-436D-835C-7CAA0037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D4A6-CC25-4378-941F-438C8951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51FF-9206-4A2F-B03A-C530A66B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84F7-D913-461B-AD4E-27CCECE6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18DD-3788-4B0F-AF17-539D6E79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0C47-0AF4-4B7B-951D-59FECF0F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8F5-CFA8-4929-9F05-FCAC46A4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9655-86A7-4C32-955C-4EBF287B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EE013-9C93-4F4B-ADB8-CA14986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1046-6ADE-4B95-B08E-13102C8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344B-EAD7-449E-8A49-983EAD58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C319-68BF-4E8E-B398-8088367D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8F47-6E69-4F31-BC4A-FE301DC3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EE0A-4700-49C9-A769-1AE3BEB4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A4BF-CC1A-4686-AE3D-622D83A2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8239-F9AA-4FAA-B8F2-8E43FA99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7112-89F7-43FC-AF5B-5E01C4BB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56D-9971-4F50-B7A5-72BB1620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3F515-FC2F-4756-94F2-A2C5785B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874A0-55B4-45EF-8358-9DDFAA1E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E6B4-0F87-4566-A508-B02F93FB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D2EDA-E0ED-43D9-8DDB-AD36004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8801A-FB96-4B1D-A103-03C9CEB2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15DE-5C7B-49EF-8A80-FA3950C5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3E74-47D9-47FA-BB2D-F0BC4303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013E-B99D-465C-B344-393A3F53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B4E8-DBC1-4D6F-BDC3-710B02B1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E7C1-D5BB-446D-AB92-4C464906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EE9-F28B-49A9-820B-9AA02BDF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19E45-DEBD-42A3-BC2A-D05859BA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32B5-ADDE-4DBC-8B46-397CD10E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198B0-E31E-48E2-9EC3-D47E16FB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B345-EE21-4943-8EC9-BA8FC1F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DA820-7359-4A73-ABE0-5D74C6A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D04B8-6834-41FC-A85A-0AA3E583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DFDF-85D0-4BE3-976A-CD4D959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7190-D5B3-45C8-BE91-A1DEAD0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086DF-47AD-4F6C-8DE4-9CD3869A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FCDD-DAD9-4366-BC50-DFA69F12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F75-B2CF-462B-9556-EEDF67B0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962B-E6AD-4901-989A-47A0DF17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6B86C-65AD-486F-AE79-F334616F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47700-6286-46C9-8E35-166CC591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DB7B-D7D6-4A19-824C-DA48261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78E6E-76A4-4AC1-870A-555EA691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0CEF7-AFEE-4EDA-B20B-381E2E90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003D2-A676-41B7-B67C-12E89EB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F365A-916A-497B-A2B3-81CB2019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56D2D-DE9A-40D4-9A0B-FE5532E4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FE36-D898-46F6-A031-0F098B5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C71-7F01-4D21-909A-F6DDF721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6D549-8125-4B54-B6DE-79CB007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0C7A-BF9D-4EC8-B88D-BB14034F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A52CE-2358-4E0E-A00F-53241ED1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555FE-D75E-4A27-AE92-707A9B06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6AFCA-94B8-4E7A-904C-7611E7D5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3928B-F130-4BE2-A943-AC384595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E8A1C-B7F3-4F23-A9DF-26D6A143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364EA-B08E-4ABE-8E33-62DC3B23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0BF85-884C-45CA-AE29-7ECBAEB2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8D7F2-17E6-4724-8BF0-B9AE0434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F4A-B5C8-4A5E-9FD7-E5AB7AF5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90B3D-5EA8-489E-AC32-C1DC495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3963F-5627-40A5-85AE-AC88650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C264D-940C-4697-B737-71D827CB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07DE3-A20E-4603-9DF1-B2AC81EE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E44B-C988-45DD-90AD-26478FCC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3DEA9-4422-4981-9CED-F9374925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8E364-C236-482D-A005-F7127B19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5A861-CFFE-4CC3-B30B-21B4A169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CFC92-B53E-4453-940E-25A5332D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30041-D47F-4A91-9630-E1516EA0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D8D-E95A-43DF-8D1C-563481D5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283A4-AFBD-46B0-BBF4-4F1E36C6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76CB9-6A6B-477F-97B5-31638217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7F037-D23E-44A3-B977-D5037B84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ED9C3-20D9-48B4-B1C6-49EAE29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02A60-F658-4676-97F6-7E727185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4015-828D-445D-AE79-C42B0D4F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51C28-4E3A-4060-A2AB-7596BFBA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11D90-F9D1-4003-9ABF-A2F6E8DA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0D8B0-80DA-492C-B88E-C65C4873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27769-8C88-4390-A7E7-E137C722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16AB4-52FD-4EAD-8FED-00A0E700780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294C6-62AF-4F8A-972D-6093E20B50E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317A8-903D-445E-9986-CA5CB8A5EDE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E1C3D-203D-47A9-9C6B-19521EEBD0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17B9C-C935-437D-8AF2-9357F8A7AC1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93D92-A3D6-4116-94DB-8CDDA483AE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60100-63DC-4112-AE66-94C549EB855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6B621-06A2-48F0-833F-7E9B1665D5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75268-8805-457C-9FCE-B688F333880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28A2C-BF23-4A5A-BE5E-262D67BFE3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A4959-44EE-4442-8A25-C54641E32E5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8DAEA-0386-4CC2-B48C-5662C1A2DF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D7B6D-CC58-4B3E-A0F1-E6D2AE02711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194B6-E809-4AAB-A637-526A3F91717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0FEEF-7F75-4568-83CF-BB3405A4C3F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4B4FE-EFFC-4DF9-9EFD-F6CE252980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BEC69-1AE5-40D7-8E5C-7046C33B35F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52D5E-C5C0-42AF-BEB1-FB3AC80F399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3AF42-EE68-430C-A4B2-60C02BD59DC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16517-6AB6-4D06-A5E0-F6A10DE8FA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0B21C-0B06-47D6-B280-98CE0F6111F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5D8F5-518F-4E51-8579-FD879350B3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650F2-14EE-45D6-A016-C30232F59D3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99BE7-5EB3-4272-8569-BAE8310AD64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AD319-0E30-459E-8AB7-44E2C38DDB4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A3D64-628F-414B-B169-C004BEE058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0A082-2CD2-4878-931A-E76095DF406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34F3C-51B4-4091-B84F-DA1911A847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9394E-A2A4-471B-AC2F-EE2205DFB28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E07E8-4329-42DA-829A-305C336B90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75D0C-9A64-441D-808C-6827946762E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C2758-DF64-4E71-972C-B1BF811FD7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26717-28D0-4A84-A37B-1745FAC5ADB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44E8B-3531-4002-9A1C-ABBAEACA32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Заголовок 3" descr=""/>
          <p:cNvPicPr/>
          <p:nvPr/>
        </p:nvPicPr>
        <p:blipFill>
          <a:blip r:embed="rId1"/>
          <a:stretch/>
        </p:blipFill>
        <p:spPr>
          <a:xfrm>
            <a:off x="1116000" y="274680"/>
            <a:ext cx="7888320" cy="5315040"/>
          </a:xfrm>
          <a:prstGeom prst="rect">
            <a:avLst/>
          </a:prstGeom>
          <a:ln w="0">
            <a:noFill/>
          </a:ln>
        </p:spPr>
      </p:pic>
      <p:sp>
        <p:nvSpPr>
          <p:cNvPr id="1184" name="Прямоугольник 2"/>
          <p:cNvSpPr/>
          <p:nvPr/>
        </p:nvSpPr>
        <p:spPr>
          <a:xfrm>
            <a:off x="4592520" y="61214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: Адышкина В.С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0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2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7b724f"/>
                </a:solidFill>
                <a:latin typeface="Century Gothic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Century Gothic"/>
              </a:rPr>
              <a:t>Правовой статус с рождения :</a:t>
            </a: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1. Право на жизнь;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2.  Право на имя; 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3. Право на всестороннее развитие и уважение человеческого достоинства;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6.  Право быть заслушанным в ходе судебного или административного заседания;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Місце для нижнього колонтитула 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7b724f"/>
                </a:solidFill>
                <a:latin typeface="Century Gothic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Gothic"/>
              </a:rPr>
              <a:t>Правовой статус с рождения: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7. Право жить и воспитываться в семье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8. Право на имущественные права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9. Право на гражданство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0. Право на использование совершенными услугами здравоохранения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0" name="Місце для нижнього колонтитула 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7b724f"/>
                </a:solidFill>
                <a:latin typeface="Century Gothic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Gothic"/>
              </a:rPr>
              <a:t>Правовой статус с рождения: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1.  Право на отдых и досуг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2.  Право на всестороннее участие в культурной и творческой жизни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3.  Право на защиту от экономической эксплуатации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Місце для нижнього колонтитула 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7b724f"/>
                </a:solidFill>
                <a:latin typeface="Century Gothic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Gothic"/>
              </a:rPr>
              <a:t>Правовой статус с  6 лет: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5.  Право на образование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6.  Право на  совершение мелких бытовых сделок;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Місце для нижнього колонтитула 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8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0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Місце для нижнього колонтитула 1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Зема</cp:lastModifiedBy>
  <dcterms:modified xsi:type="dcterms:W3CDTF">2018-11-17T08:30:47Z</dcterms:modified>
  <cp:revision>29</cp:revision>
  <dc:subject/>
  <dc:title>Правовой статус несовершеннолетних с рождения до совершеннолетия</dc:title>
</cp:coreProperties>
</file>