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C0BC-B732-4B72-B49C-B73B09255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C91F-6E8E-4E6E-A03C-F08038B53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D491-02E0-4839-A6AE-0F606A5A5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A1D3-01B7-438F-BA28-004651457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D210-D85F-42EA-A401-97E46E908E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E6A2-3BF0-4431-97CD-C40C20C2C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C8A2-75F3-4853-8763-FDDEABBD15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88C4-CF28-4FC5-B2B1-A206B724A5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3A4E-5D94-41A3-B752-35CF0FC97A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028B-F43C-42EF-9861-20E2826F46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DB02-72E8-4F50-B4B8-DB11D18C0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41EA-5DBC-4334-9FF1-9F253729B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B65B-8CA4-44F3-AF31-C4476DA06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ADA3-2F51-44A4-87E2-8FAF9C5518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07B0-DF66-4F3E-9BC7-3AA551BC74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9B24-0DCB-46D8-B4E6-BABB6A205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5B4B-2C65-4334-B319-C5D66EB3D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CDD6-66A7-41F8-80EB-C5C720020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CCF0-6657-47A6-B677-F5FE1F958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4327-3537-40D0-809C-38AA1EA2C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36A3-EE78-4102-9D49-D76749749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6805-E862-4C91-8E63-6386110E6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D5AF-7093-4ECE-9689-A566D5F92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1674-4CF5-4BC9-871D-D7E4DA80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8FF94-9D5E-44FD-A68C-FE3BAB8EEA4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0" y="663228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 rot="600000">
            <a:off x="460080" y="30168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60" y="3657600"/>
            <a:ext cx="9140760" cy="3196440"/>
            <a:chOff x="-360" y="3657600"/>
            <a:chExt cx="9140760" cy="319644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-360" y="3657240"/>
              <a:ext cx="9140760" cy="31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2447640" y="5693760"/>
              <a:ext cx="1358640" cy="116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4BD055-261B-4832-923F-1A93E31F66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523880"/>
            <a:ext cx="861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эрзянского языка в 3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«Тундось сась . Весна приш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66880" y="304920"/>
            <a:ext cx="457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тко 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физминут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3544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тон тундо, тунд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алдо, мазый, пиж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Тонь тердеме кундын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Тон пек учозь инжен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ака, сака, тунды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ака, цецяв паци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Тонеть каша пиден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Тонеть брага теин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06840" y="3048120"/>
            <a:ext cx="46148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мекстамось</a:t>
            </a:r>
            <a:br>
              <a:rPr sz="3200"/>
            </a:b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484280"/>
            <a:ext cx="838188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реведите пословицы на эрзян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есна с цветами, осень с пир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есенний день год корм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есной день упустишь,  годом не верн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15000" y="4084560"/>
            <a:ext cx="3429000" cy="2806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4159080"/>
            <a:ext cx="3048120" cy="26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nodeType="clickEffect" fill="hold">
                      <p:stCondLst>
                        <p:cond delay="0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8640" y="1447920"/>
            <a:ext cx="838188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реведите пословицы на эрзян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есна с цветами, осень с пир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ундось цецькав, сексесь пряк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есенний день год корм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ундонь чись ие а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есной день упустишь, годом не верн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ундонь чинть менстясак, ие а усас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9640" y="0"/>
            <a:ext cx="3024360" cy="2087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15238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Кодамо ковсто ушоды тунд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С какого месяца начинается весн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- давол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- панж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- эйзюр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2. Евтынк тундонь ковтн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Назовите весенние меся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3. Кие аварди ансяк тун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Кто плачет только весн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- эйкакшт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- эйзюрот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- покшт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76360" y="304920"/>
            <a:ext cx="477216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b2b2b2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кторина</a:t>
            </a:r>
            <a:endParaRPr b="0" lang="en-US" sz="1800" spc="1" strike="noStrike">
              <a:ln cap="sq" w="12600">
                <a:solidFill>
                  <a:srgbClr val="b2b2b2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9640" y="0"/>
            <a:ext cx="3024360" cy="1655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3520" y="1152360"/>
            <a:ext cx="81532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Кодамо ковсто ушоды тунд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 какого месяца начинается весн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даво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панж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эйзюр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Arial"/>
              </a:rPr>
              <a:t>2. Евтынк тундонь ковтн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Назовите весенние меся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эйзюр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чад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панж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d0d"/>
                </a:solidFill>
                <a:latin typeface="Arial"/>
              </a:rPr>
              <a:t>3. Кие аварди ансяк тун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Кто плачет только весн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эйкакш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- эйзюрот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покш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6360" y="304920"/>
            <a:ext cx="3851280" cy="55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b2b2b2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кторина</a:t>
            </a:r>
            <a:endParaRPr b="0" lang="en-US" sz="1800" spc="1" strike="noStrike">
              <a:ln cap="sq" w="12600">
                <a:solidFill>
                  <a:srgbClr val="b2b2b2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1487520" y="1584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арядим весеннее 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4a4a"/>
                </a:solidFill>
                <a:latin typeface="Arial"/>
              </a:rPr>
              <a:t>Если на уроке все было понят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4a4a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4a4a"/>
                </a:solidFill>
                <a:latin typeface="Arial"/>
              </a:rPr>
              <a:t>украшаем дерево цвет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4a4a"/>
                </a:solidFill>
                <a:latin typeface="Arial"/>
              </a:rPr>
              <a:t>Было не все понятно- украш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4a4a"/>
                </a:solidFill>
                <a:latin typeface="Arial"/>
              </a:rPr>
              <a:t>зеленым лист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Кудонь т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(домашняя раб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Arial"/>
              </a:rPr>
              <a:t>Стр. 104 упр- 2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рисовать рису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 вес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256360" y="2160720"/>
            <a:ext cx="3867120" cy="44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10080" y="3465360"/>
            <a:ext cx="3733920" cy="329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838080"/>
            <a:ext cx="822960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деятельности учителя: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знакомить обучающихся с красотой эрзянского языка; формировать представления о приметах весн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591000"/>
            <a:ext cx="3200400" cy="32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271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УН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2133720"/>
            <a:ext cx="5486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Листь ушов, варштак пертьпельг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Тундо тенек са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Чудикерькстнэ мельга- мель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Леентень сырг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Лейс сявордсь домка менел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едесь весе сэ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шо галакс шожда пеле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Экшели ведьсэн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ырнень сеелькс эрькинесэн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лкси тундонь ч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андо чирентень эжн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Луганарнэ лиссь. (А. Эск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414520"/>
            <a:ext cx="425592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41360" y="25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ксема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«Дивань парги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0" t="0" r="11769" b="0"/>
          <a:stretch/>
        </p:blipFill>
        <p:spPr>
          <a:xfrm>
            <a:off x="5334120" y="1317600"/>
            <a:ext cx="1295280" cy="1992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13400" y="4343400"/>
            <a:ext cx="2027160" cy="1319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0" t="5008" r="3198" b="0"/>
          <a:stretch/>
        </p:blipFill>
        <p:spPr>
          <a:xfrm>
            <a:off x="2435400" y="4262400"/>
            <a:ext cx="1908000" cy="133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rcRect l="21650" t="6490" r="20630" b="0"/>
          <a:stretch/>
        </p:blipFill>
        <p:spPr>
          <a:xfrm>
            <a:off x="0" y="3459240"/>
            <a:ext cx="225756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rcRect l="27379" t="0" r="2589" b="0"/>
          <a:stretch/>
        </p:blipFill>
        <p:spPr>
          <a:xfrm>
            <a:off x="3048120" y="1428840"/>
            <a:ext cx="177480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934320" y="2441520"/>
            <a:ext cx="226836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600" y="27367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чип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89040" y="2889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л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6880" y="3459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эйзю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8800" y="60847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чудикерь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68880" y="58896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тик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54160" y="58896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ись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8160" y="607536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исьмар ку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85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ундонь ковтне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есенние меся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287496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76560" y="274320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3080" y="1800360"/>
            <a:ext cx="1904400" cy="52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эйзюр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14400" y="1827360"/>
            <a:ext cx="1726200" cy="52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ады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1832040"/>
            <a:ext cx="1890720" cy="52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анж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162840" y="2743200"/>
            <a:ext cx="298116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9240" y="5986440"/>
            <a:ext cx="1031040" cy="52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92800" y="6095880"/>
            <a:ext cx="1451880" cy="52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апр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35920" y="6084720"/>
            <a:ext cx="858960" cy="52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ик марто важодема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абота по учебни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2776680" cy="383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4800" y="2057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. 105, упр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124080"/>
            <a:ext cx="579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Ловномс мельстуезь. Муемс весе предметэнь невтиця валтнэнь ды ютавтомс сынст рузонь кель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итать выразительно. Найти все слова- предметы и перевести их на русский язы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ик марто важодема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абота по учебнику)</a:t>
            </a:r>
            <a:br>
              <a:rPr sz="2400"/>
            </a:b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Муемс весе предметэнь невтиця валтнэнь ды ютавтомс сынст рузонь кель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549440"/>
            <a:ext cx="36352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ундо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Ловось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кармась солам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Тундось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са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Нармунть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кармасть морам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Тундось са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Чийнить, налксить </a:t>
            </a: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эйкакштне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Тундось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са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Лангсост </a:t>
            </a: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чизэ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пеедькшн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Тундось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са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Паксят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лаймот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пижелды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Тундось са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Ломанть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весе мизолды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Тундось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са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825560"/>
            <a:ext cx="36356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. 105, упр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ундось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ловось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рмунть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йкакштне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чизэ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аксят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лаймот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й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ломанть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лангсо важодема.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абота над текстом)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Путомс асатыкс валтнэ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927080"/>
            <a:ext cx="363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тундос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ловос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армунт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эйкакштне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чизэ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аксят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лаймот - пой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ломант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51460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н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сь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… эжди модан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лы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мбе масторсто састь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желдыть …,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ецить тундонтень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ёрмадомань тев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исьменная раб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2096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н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сь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ундос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из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жди модан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лы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ловос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мбе масторсто састь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рмунт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желдыть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акся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лайм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цить тундонтень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ломант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Windows User</cp:lastModifiedBy>
  <dcterms:modified xsi:type="dcterms:W3CDTF">2021-03-21T20:18:32Z</dcterms:modified>
  <cp:revision>111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