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2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DB74-9DB6-4DD2-AD1C-8B796EDFCA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17C1-8CAC-4CA9-8377-DE1769A3E75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0E9-9A6F-4943-940F-E0C0C671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0ED-84D5-40F2-A583-5C3337E3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17E-FAE0-4E9A-A176-CF0B3CD8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512-CEB8-4547-83F4-452736E9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C26A-FACC-40FA-9697-71F25755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1E76-F232-4CF9-9917-D40B7FA6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C3CE-7930-4D14-BED6-3F8F467A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4007-084F-4B2D-88C2-52B765DF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8DFD-2BC8-4213-8AE0-D4F1607C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14D5-E177-4CCE-9656-A59FFE9D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DCD8-8B07-43B2-B09B-2AA40F5E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74D-A1F8-463C-968D-96E5FB7A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BC1D-F2A4-4066-A510-1630CC11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DB91-80DC-40DA-90BC-A5718F59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C440-9735-40C1-B6EF-4246D7DD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C9CC-3220-42D0-9C47-0D1232D6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EF79-6EA3-43D5-BCF2-41764DB9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F9A3-6D02-4DAE-A01F-7938B353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382E-D116-45A3-9C08-40AF1B70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0D1B-91D5-41D1-BAA4-D5F664B1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9BB0-4B8E-4370-8E33-5C2FDF96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B2309-9491-4381-AFD5-2C663A5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2E1-8488-47AC-8D64-74D75289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2BD7-8DC9-4091-BB15-5CBE845F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44D5-3FF2-4C5C-A81F-BFC49B74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68D7-311B-49B0-8628-B9A5F010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F351-880F-45E4-BCEE-2962814E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5797C-9769-46AA-A10B-0607F766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17A2-4BCE-4994-8146-3D9B0CB8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7078-269C-4331-9E4D-068A72B7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FA551-518F-4F09-AB3D-AE4D9EBA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D198-1602-4E3F-9EBD-6BE33B15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4A4DA-B7B3-416F-9DDD-A2D1DB45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8D4-DC1D-49F8-B55D-AB114293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A7EF-5C39-444F-A183-C3A77D95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983F9-E85F-4F1B-B949-80AA210A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CE05E-F0E8-4DE0-80BA-7A0E7C2B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655E-8892-4C76-9DFE-249697B6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94110-8704-4448-A7FC-F0CF7066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E23ED-EBCF-4F01-9963-45EE2D93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E9D7-E344-4AE4-8502-D51E893E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F4C5E-607A-41C8-9BBE-EDE1B8D5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21B4C-302A-455A-9C58-3FAEE17B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FC9-C065-4AC2-BC56-8A844D1E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516-22E0-46E2-B9E7-64E422F2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9D8-B0D8-4DE3-B54A-8A086C81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B34-19F2-4A83-8DFC-0FFE5055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C74-4CC6-4F38-9456-76A2ED2B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276120" y="1670040"/>
            <a:ext cx="7391520" cy="318960"/>
            <a:chOff x="276120" y="1670040"/>
            <a:chExt cx="7391520" cy="318960"/>
          </a:xfrm>
        </p:grpSpPr>
        <p:sp>
          <p:nvSpPr>
            <p:cNvPr id="4" name="AutoShape 6"/>
            <p:cNvSpPr/>
            <p:nvPr/>
          </p:nvSpPr>
          <p:spPr>
            <a:xfrm>
              <a:off x="657000" y="1670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>
              <a:off x="276120" y="1670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4120" y="702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2F20-7ED1-4745-8D83-A10AF2F90FA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3959-0B2C-47F3-BBB8-2063DE37D69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702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6320" y="6248520"/>
            <a:ext cx="588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F4A4-73AB-4809-B8FC-BA4A19104FB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225B-01CE-42F0-8552-4573CB105EC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33.gif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5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3524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2163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мотивацион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планирующий – подготовитель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информационно-операцион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рефлексивно-оценоч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стрелка"/>
          <p:cNvPicPr/>
          <p:nvPr/>
        </p:nvPicPr>
        <p:blipFill>
          <a:blip r:embed="rId2"/>
          <a:stretch/>
        </p:blipFill>
        <p:spPr>
          <a:xfrm>
            <a:off x="611280" y="299736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стрелка"/>
          <p:cNvPicPr/>
          <p:nvPr/>
        </p:nvPicPr>
        <p:blipFill>
          <a:blip r:embed="rId3"/>
          <a:stretch/>
        </p:blipFill>
        <p:spPr>
          <a:xfrm>
            <a:off x="611280" y="4076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стрелка"/>
          <p:cNvPicPr/>
          <p:nvPr/>
        </p:nvPicPr>
        <p:blipFill>
          <a:blip r:embed="rId4"/>
          <a:stretch/>
        </p:blipFill>
        <p:spPr>
          <a:xfrm>
            <a:off x="611280" y="51577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стрелка"/>
          <p:cNvPicPr/>
          <p:nvPr/>
        </p:nvPicPr>
        <p:blipFill>
          <a:blip r:embed="rId5"/>
          <a:stretch/>
        </p:blipFill>
        <p:spPr>
          <a:xfrm>
            <a:off x="611280" y="623736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682560" y="0"/>
            <a:ext cx="7925040" cy="1365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981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 algn="just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Исследовательский проект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 – это исследование какой-либо проблемы по правилам научного исслед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2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Творческий проект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 предполагает максимально свободный авторский подход в решении проблемы. Продукт – альманахи, совместная газета и сочинение, театрализация, произведения изобразительного или декоративно-прикладного искус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2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Ролево-игровые проекты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 – участники принимают на себя определенные роли, обусловленные характером и содержанием проекта, особенностью решаемой проблемы.</a:t>
            </a: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Это</a:t>
            </a: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могут быть литературные персонажи или выдуманные герои, имитирующие социальные или деловые отношения с придуманными участниками, ситуация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2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Информационные проект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 – это сбор и обработка информации по значимой проблеме с целью ее презентации широкой аудитории (статья в СМИ, информация в сети Интернет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WordArt 8"/>
          <p:cNvSpPr txBox="1"/>
          <p:nvPr/>
        </p:nvSpPr>
        <p:spPr>
          <a:xfrm>
            <a:off x="1042920" y="2060640"/>
            <a:ext cx="28796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Исследовательские 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2" name="WordArt 9"/>
          <p:cNvSpPr txBox="1"/>
          <p:nvPr/>
        </p:nvSpPr>
        <p:spPr>
          <a:xfrm>
            <a:off x="6012000" y="2060640"/>
            <a:ext cx="27842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Информационные 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WordArt 10"/>
          <p:cNvSpPr txBox="1"/>
          <p:nvPr/>
        </p:nvSpPr>
        <p:spPr>
          <a:xfrm>
            <a:off x="5796000" y="3213000"/>
            <a:ext cx="3097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Ролево-игровые 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11"/>
          <p:cNvSpPr txBox="1"/>
          <p:nvPr/>
        </p:nvSpPr>
        <p:spPr>
          <a:xfrm>
            <a:off x="1042920" y="3213000"/>
            <a:ext cx="266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Творческие 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5" name="WordArt 12"/>
          <p:cNvSpPr txBox="1"/>
          <p:nvPr/>
        </p:nvSpPr>
        <p:spPr>
          <a:xfrm>
            <a:off x="1403280" y="5084640"/>
            <a:ext cx="172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Личностн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WordArt 13"/>
          <p:cNvSpPr txBox="1"/>
          <p:nvPr/>
        </p:nvSpPr>
        <p:spPr>
          <a:xfrm rot="21201600">
            <a:off x="7019640" y="5229000"/>
            <a:ext cx="1384200" cy="98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796000"/>
                </a:gradFill>
                <a:latin typeface="Arial"/>
              </a:rPr>
              <a:t>Парн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796000"/>
              </a:gradFill>
              <a:latin typeface="Arial"/>
              <a:ea typeface="Arial"/>
            </a:endParaRPr>
          </a:p>
        </p:txBody>
      </p:sp>
      <p:sp>
        <p:nvSpPr>
          <p:cNvPr id="237" name="WordArt 15"/>
          <p:cNvSpPr txBox="1"/>
          <p:nvPr/>
        </p:nvSpPr>
        <p:spPr>
          <a:xfrm>
            <a:off x="3924360" y="4508640"/>
            <a:ext cx="194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Группов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38" name="Picture 18" descr="j0343363"/>
          <p:cNvPicPr/>
          <p:nvPr/>
        </p:nvPicPr>
        <p:blipFill>
          <a:blip r:embed="rId9"/>
          <a:stretch/>
        </p:blipFill>
        <p:spPr>
          <a:xfrm>
            <a:off x="4140360" y="5229360"/>
            <a:ext cx="1452240" cy="1309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vveden1"/>
          <p:cNvPicPr/>
          <p:nvPr/>
        </p:nvPicPr>
        <p:blipFill>
          <a:blip r:embed="rId10"/>
          <a:stretch/>
        </p:blipFill>
        <p:spPr>
          <a:xfrm>
            <a:off x="3851280" y="2492280"/>
            <a:ext cx="1581120" cy="1460520"/>
          </a:xfrm>
          <a:prstGeom prst="rect">
            <a:avLst/>
          </a:prstGeom>
          <a:ln w="0">
            <a:noFill/>
          </a:ln>
        </p:spPr>
      </p:pic>
      <p:sp>
        <p:nvSpPr>
          <p:cNvPr id="240" name="WordArt 21"/>
          <p:cNvSpPr txBox="1"/>
          <p:nvPr/>
        </p:nvSpPr>
        <p:spPr>
          <a:xfrm>
            <a:off x="1116000" y="4221000"/>
            <a:ext cx="2232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моно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22"/>
          <p:cNvSpPr txBox="1"/>
          <p:nvPr/>
        </p:nvSpPr>
        <p:spPr>
          <a:xfrm>
            <a:off x="6012000" y="3716280"/>
            <a:ext cx="280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межпредметн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(интегрированные)  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pull dir="r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755640" y="328680"/>
            <a:ext cx="7924680" cy="1366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0" y="14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Монопроекты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– реализуются, как правило, в рамках одного учебного предмета, т.е. выполняется на материале конкретного предмета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0" y="278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Межпредметный (интегрированный)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– это проект, интегрирующий смежную тематику нескольких предметов, выполняется в основном во внеурочное время под руководством нескольких специалистов в различных областя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0" y="4797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Это могут быть небольшие проекты, затрагивающие две-три предметные области, а могут быть достаточно объемные, продолжительны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0605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0" y="1557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	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Интеграция позволяет перейти от изолированного рассмотрения различных явлений действительности к их взаимосвязанному комплексному изучению, дает возможность показать мир во всем его многообразии с привлечением научных знаний, литературы, живописи, что способствует эмоциональному развитию личности ребёнка и формированию его творческого мышл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0" y="4508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	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Учащиеся с большим интересом начинают подходить к изучению программного материала, понимая, что он им необходим в дальнейшей работе по проекту.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50920" y="1700280"/>
            <a:ext cx="86421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Мини-проекты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 – укладываются в 1 урок или часть уро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Краткосрочные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 – рассчитаны на 4-6 уро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Средней продолжительности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 – укладываются в 1-2 месяц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4" descr="image533"/>
          <p:cNvPicPr/>
          <p:nvPr/>
        </p:nvPicPr>
        <p:blipFill>
          <a:blip r:embed="rId2"/>
          <a:stretch/>
        </p:blipFill>
        <p:spPr>
          <a:xfrm>
            <a:off x="3492360" y="4292640"/>
            <a:ext cx="21592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395280" y="1773360"/>
            <a:ext cx="6573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333360"/>
            <a:ext cx="8506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Темы проектов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тесно связаны с предметным содержани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роблема проекта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должна быть в области познавательных интересов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Новизна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–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способ достижения уже известного матери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артнёрство: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учитель- ученик-родите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Длительность: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2-3 урока, 1-2 недели в режиме урочно-внеурочных зан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98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98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98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98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98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08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0"/>
          <p:cNvSpPr/>
          <p:nvPr/>
        </p:nvSpPr>
        <p:spPr>
          <a:xfrm>
            <a:off x="324000" y="2205000"/>
            <a:ext cx="2232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РОЛЬ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УЧИТЕЛ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3059280" y="2205000"/>
            <a:ext cx="287964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РО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УЧЕ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516720" y="2205000"/>
            <a:ext cx="230328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РО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РОДИТЕЛ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324000" y="3068640"/>
            <a:ext cx="2232000" cy="1727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Консультируе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Мотивируе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Наблюдает</a:t>
            </a: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Bell Gothic Std Black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3059280" y="2997360"/>
            <a:ext cx="2952720" cy="30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Является субъект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познавательн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Выбирае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(принимает решения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Выстраивает систем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взаимоотношени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с людь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Оценивает</a:t>
            </a:r>
            <a:r>
              <a:rPr b="0" lang="ru-RU" sz="1600" spc="-1" strike="noStrike">
                <a:solidFill>
                  <a:srgbClr val="003332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3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3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6516720" y="3068640"/>
            <a:ext cx="2305080" cy="1727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Консультируе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Мотивируе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Picture 26" descr="computer_girl[1]"/>
          <p:cNvPicPr/>
          <p:nvPr/>
        </p:nvPicPr>
        <p:blipFill>
          <a:blip r:embed="rId2"/>
          <a:stretch/>
        </p:blipFill>
        <p:spPr>
          <a:xfrm>
            <a:off x="1116000" y="5084640"/>
            <a:ext cx="1401840" cy="151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7" descr="peo-day_dreaming[1]"/>
          <p:cNvPicPr/>
          <p:nvPr/>
        </p:nvPicPr>
        <p:blipFill>
          <a:blip r:embed="rId3"/>
          <a:stretch/>
        </p:blipFill>
        <p:spPr>
          <a:xfrm flipH="1">
            <a:off x="6732720" y="4869000"/>
            <a:ext cx="1536480" cy="168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22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611280" y="1773360"/>
            <a:ext cx="7392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справочник; газета; журна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альб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гербарий; кар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экскурс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игра; сценарий празд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костюм; макет; модель;  сувени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мультимедийный продук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учебное пособие и др.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5" descr="b21[1]"/>
          <p:cNvPicPr/>
          <p:nvPr/>
        </p:nvPicPr>
        <p:blipFill>
          <a:blip r:embed="rId2"/>
          <a:stretch/>
        </p:blipFill>
        <p:spPr>
          <a:xfrm flipH="1">
            <a:off x="7164360" y="4581360"/>
            <a:ext cx="1487520" cy="1716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250920" y="1125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Bell Gothic Std Black"/>
              </a:rPr>
              <a:t>демонстрация медиа – презентации, коллажа, макета, журнала, игрушек, предметов домашнего обих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Bell Gothic Std Black"/>
              </a:rPr>
              <a:t>защита реферат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Bell Gothic Std Black"/>
              </a:rPr>
              <a:t>сюжетно-ролевая игра или экскурси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Bell Gothic Std Black"/>
              </a:rPr>
              <a:t>праздник или инсценировка</a:t>
            </a:r>
            <a:r>
              <a:rPr b="0" lang="en-US" sz="36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Bell Gothic Std Black"/>
              </a:rPr>
              <a:t>демонстрация учебного пособия и т.п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1708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0" y="177336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Достижение конечного результата</a:t>
            </a:r>
            <a:r>
              <a:rPr b="0" lang="en-US" sz="28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Овладение учащимися учебными умениями, связанными с приемами самостоятельного приобретения знан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Сплоченность участников команды</a:t>
            </a:r>
            <a:r>
              <a:rPr b="0" lang="en-US" sz="28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Получение полного и глубокого удовлетворения от сделанного</a:t>
            </a:r>
            <a:r>
              <a:rPr b="0" lang="en-US" sz="28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Уверенность детей в том, что они могут создавать продукт, востребованный для них и других людей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6" descr="__________6__747"/>
          <p:cNvPicPr/>
          <p:nvPr/>
        </p:nvPicPr>
        <p:blipFill>
          <a:blip r:embed="rId7"/>
          <a:stretch/>
        </p:blipFill>
        <p:spPr>
          <a:xfrm>
            <a:off x="6732720" y="907920"/>
            <a:ext cx="1095120" cy="1095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828720" y="49320"/>
            <a:ext cx="7772400" cy="14810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900000" y="1125360"/>
            <a:ext cx="7559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роект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 (латин. «</a:t>
            </a:r>
            <a:r>
              <a:rPr b="1" i="1" lang="ru-RU" sz="2000" spc="-1" strike="noStrike">
                <a:solidFill>
                  <a:srgbClr val="3333ff"/>
                </a:solidFill>
                <a:latin typeface="Bell Gothic Std Black"/>
              </a:rPr>
              <a:t>projectus»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) - </a:t>
            </a: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«брошенный вперед», 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т.е. замысел в виде прототипа, прообраза объекта</a:t>
            </a:r>
            <a:r>
              <a:rPr b="1" lang="en-US" sz="2000" spc="-1" strike="noStrike">
                <a:solidFill>
                  <a:srgbClr val="3333ff"/>
                </a:solidFill>
                <a:latin typeface="Bell Gothic Std Black"/>
              </a:rPr>
              <a:t>: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  </a:t>
            </a: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971640" y="5445000"/>
            <a:ext cx="72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Bell Gothic Std Black"/>
              </a:rPr>
              <a:t>Проектирование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 - </a:t>
            </a: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процесс создания проек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826920" y="3716280"/>
            <a:ext cx="770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ff"/>
                </a:solidFill>
                <a:uFillTx/>
                <a:latin typeface="Bell Gothic Std Black"/>
              </a:rPr>
              <a:t>Учебный проект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 - специально организованный педагогом и самостоятельно выполняемый обучающимися комплекс действий по решению значимой для учащихся проблемы, завершающийся созданием творческого продук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900000" y="1989000"/>
            <a:ext cx="763272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а) совокупность документов для создания изделия</a:t>
            </a:r>
            <a:r>
              <a:rPr b="1" lang="en-US" sz="20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б) предварительный текст документа</a:t>
            </a:r>
            <a:r>
              <a:rPr b="1" lang="en-US" sz="20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в) замысел, план, прообраз какого-либо объек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828720" y="219240"/>
            <a:ext cx="7924680" cy="2133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971640" y="2276640"/>
            <a:ext cx="75596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развитие познавательных интересов обучающихся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умений самостоятельно конструировать свои знания и ориентироваться в информационном пространстве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развивать критическое мышл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971640" y="494172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Основной тезис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:</a:t>
            </a: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1" i="1" lang="ru-RU" sz="2800" spc="-1" strike="noStrike">
                <a:solidFill>
                  <a:srgbClr val="3333ff"/>
                </a:solidFill>
                <a:latin typeface="Bell Gothic Std Black"/>
              </a:rPr>
              <a:t>«Все, что я познаю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Bell Gothic Std Black"/>
              </a:rPr>
              <a:t>я знаю, для чего мне это надо и где и как я могу эти знания применить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822240" y="34128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971640" y="227664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Младший школьный возраст является начальным этапом вхождения в проектную деятельность, закладывающий фундамент дальнейшего овладения е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71640" y="41497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Этот период обучения может быть назван </a:t>
            </a: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«Введением в проектную деятельность».</a:t>
            </a:r>
            <a:r>
              <a:rPr b="1" lang="ru-RU" sz="2400" spc="-1" strike="noStrike">
                <a:solidFill>
                  <a:srgbClr val="003366"/>
                </a:solidFill>
                <a:latin typeface="Bell Gothic Std Black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10" descr="dividers_94"/>
          <p:cNvPicPr/>
          <p:nvPr/>
        </p:nvPicPr>
        <p:blipFill>
          <a:blip r:embed="rId2"/>
          <a:stretch/>
        </p:blipFill>
        <p:spPr>
          <a:xfrm>
            <a:off x="1332000" y="5229360"/>
            <a:ext cx="662472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396720" y="6480"/>
            <a:ext cx="8302680" cy="2133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существование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некой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значимой проблем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значимость предполагаемых результато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применение исследовательских методов при проектировани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структурирование этапов выполнения проекто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самостоятельная деятельность учащихся в ситуации выб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д"/>
          <p:cNvPicPr/>
          <p:nvPr/>
        </p:nvPicPr>
        <p:blipFill>
          <a:blip r:embed="rId1"/>
          <a:stretch/>
        </p:blipFill>
        <p:spPr>
          <a:xfrm>
            <a:off x="3203640" y="4365720"/>
            <a:ext cx="1985760" cy="2492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600" spc="-1" strike="noStrike">
                <a:solidFill>
                  <a:srgbClr val="3333ff"/>
                </a:solidFill>
                <a:latin typeface="Bell Gothic Std Black"/>
              </a:rPr>
              <a:t>Рекомендуется непосредственную проектную деятельность начинать со 2 класса. Это благоприятный возраст для развития творческого мышления, воображе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Bell Gothic Std Black"/>
              </a:rPr>
              <a:t>     </a:t>
            </a:r>
            <a:r>
              <a:rPr b="1" lang="ru-RU" sz="2600" spc="-1" strike="noStrike">
                <a:solidFill>
                  <a:srgbClr val="3333ff"/>
                </a:solidFill>
                <a:latin typeface="Bell Gothic Std Black"/>
              </a:rPr>
              <a:t>Одним из ведущих новообразований этого возраста - произвольность психических процессов, которая предполагает волевое регулирование и направленность деятельности. Ребенок хочет что-то создать, поднять свой имидж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Bell Gothic Std Black"/>
              </a:rPr>
              <a:t>Проектная деятельность является средством развития личности ребенка, привития интереса к познавательной деятельност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4" descr="middle_49ccf8bf938b0"/>
          <p:cNvPicPr/>
          <p:nvPr/>
        </p:nvPicPr>
        <p:blipFill>
          <a:blip r:embed="rId1"/>
          <a:stretch/>
        </p:blipFill>
        <p:spPr>
          <a:xfrm>
            <a:off x="2268360" y="3213000"/>
            <a:ext cx="460872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Rectangle 2" descr=""/>
          <p:cNvPicPr/>
          <p:nvPr/>
        </p:nvPicPr>
        <p:blipFill>
          <a:blip r:embed="rId1"/>
          <a:stretch/>
        </p:blipFill>
        <p:spPr>
          <a:xfrm>
            <a:off x="281160" y="146160"/>
            <a:ext cx="8734320" cy="15858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539640" y="1989000"/>
            <a:ext cx="8280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ОСТАНОВКА ПРОБЛЕМЫ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ТЕМА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ЦЕЛЬ ПРОЕКТ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ЗАДАЧИ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ГИПОТЕЗ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ЛАН РАБО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РОДУКТ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ВЫВОДЫ (ИТОГ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Picture 4" descr="стрелка"/>
          <p:cNvPicPr/>
          <p:nvPr/>
        </p:nvPicPr>
        <p:blipFill>
          <a:blip r:embed="rId2"/>
          <a:stretch/>
        </p:blipFill>
        <p:spPr>
          <a:xfrm>
            <a:off x="826920" y="2133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стрелка"/>
          <p:cNvPicPr/>
          <p:nvPr/>
        </p:nvPicPr>
        <p:blipFill>
          <a:blip r:embed="rId3"/>
          <a:stretch/>
        </p:blipFill>
        <p:spPr>
          <a:xfrm>
            <a:off x="826920" y="2565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стрелка"/>
          <p:cNvPicPr/>
          <p:nvPr/>
        </p:nvPicPr>
        <p:blipFill>
          <a:blip r:embed="rId4"/>
          <a:stretch/>
        </p:blipFill>
        <p:spPr>
          <a:xfrm>
            <a:off x="826920" y="292428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стрелка"/>
          <p:cNvPicPr/>
          <p:nvPr/>
        </p:nvPicPr>
        <p:blipFill>
          <a:blip r:embed="rId5"/>
          <a:stretch/>
        </p:blipFill>
        <p:spPr>
          <a:xfrm>
            <a:off x="826920" y="3357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стрелка"/>
          <p:cNvPicPr/>
          <p:nvPr/>
        </p:nvPicPr>
        <p:blipFill>
          <a:blip r:embed="rId6"/>
          <a:stretch/>
        </p:blipFill>
        <p:spPr>
          <a:xfrm>
            <a:off x="826920" y="3789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стрелка"/>
          <p:cNvPicPr/>
          <p:nvPr/>
        </p:nvPicPr>
        <p:blipFill>
          <a:blip r:embed="rId7"/>
          <a:stretch/>
        </p:blipFill>
        <p:spPr>
          <a:xfrm>
            <a:off x="826920" y="4653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стрелка"/>
          <p:cNvPicPr/>
          <p:nvPr/>
        </p:nvPicPr>
        <p:blipFill>
          <a:blip r:embed="rId8"/>
          <a:stretch/>
        </p:blipFill>
        <p:spPr>
          <a:xfrm>
            <a:off x="826920" y="4221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стрелка"/>
          <p:cNvPicPr/>
          <p:nvPr/>
        </p:nvPicPr>
        <p:blipFill>
          <a:blip r:embed="rId9"/>
          <a:stretch/>
        </p:blipFill>
        <p:spPr>
          <a:xfrm>
            <a:off x="826920" y="5084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дети"/>
          <p:cNvPicPr/>
          <p:nvPr/>
        </p:nvPicPr>
        <p:blipFill>
          <a:blip r:embed="rId10"/>
          <a:stretch/>
        </p:blipFill>
        <p:spPr>
          <a:xfrm>
            <a:off x="5580000" y="4029120"/>
            <a:ext cx="3240000" cy="266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394840" cy="213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ученик 2"/>
          <p:cNvPicPr/>
          <p:nvPr/>
        </p:nvPicPr>
        <p:blipFill>
          <a:blip r:embed="rId2"/>
          <a:stretch/>
        </p:blipFill>
        <p:spPr>
          <a:xfrm>
            <a:off x="3708360" y="3284640"/>
            <a:ext cx="2303640" cy="2089080"/>
          </a:xfrm>
          <a:prstGeom prst="rect">
            <a:avLst/>
          </a:prstGeom>
          <a:ln w="0">
            <a:noFill/>
          </a:ln>
        </p:spPr>
      </p:pic>
      <p:sp>
        <p:nvSpPr>
          <p:cNvPr id="216" name="Oval 8"/>
          <p:cNvSpPr/>
          <p:nvPr/>
        </p:nvSpPr>
        <p:spPr>
          <a:xfrm>
            <a:off x="3635280" y="1844640"/>
            <a:ext cx="2521080" cy="136836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сследовательск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435640" y="5229360"/>
            <a:ext cx="2736720" cy="129528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муникативны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6372360" y="3860640"/>
            <a:ext cx="2771640" cy="115272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формационны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1042920" y="2492280"/>
            <a:ext cx="2594160" cy="129708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 в решени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бле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179280" y="3933720"/>
            <a:ext cx="2735280" cy="122400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флексивны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1979640" y="5229360"/>
            <a:ext cx="2952720" cy="122400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зентацион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Oval 16"/>
          <p:cNvSpPr/>
          <p:nvPr/>
        </p:nvSpPr>
        <p:spPr>
          <a:xfrm>
            <a:off x="6084720" y="2492280"/>
            <a:ext cx="2735280" cy="115092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6:43:28Z</dcterms:created>
  <dc:creator>Andrew</dc:creator>
  <dc:description/>
  <dc:language>en-US</dc:language>
  <cp:lastModifiedBy>user</cp:lastModifiedBy>
  <dcterms:modified xsi:type="dcterms:W3CDTF">2022-11-12T04:37:59Z</dcterms:modified>
  <cp:revision>136</cp:revision>
  <dc:subject/>
  <dc:title>Проектная деятельность</dc:title>
</cp:coreProperties>
</file>