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gif" ContentType="image/gif"/>
  <Override PartName="/ppt/media/image9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33.gif" ContentType="image/gif"/>
  <Override PartName="/ppt/media/image26.png" ContentType="image/png"/>
  <Override PartName="/ppt/media/image2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20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68DD-EB4F-45C3-B0D8-EC980C116D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28CC-090B-48D8-819E-0E6FB35E1B2A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1F0A-DABB-4E9A-8A18-9BB35EDEB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F1C-AA74-4A2A-A405-2A955309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3C9-7614-4F67-83B5-41930678E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8644-A89D-4EDE-8CC7-D847AB00E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46515-297F-484F-A14E-045FC4B2A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2288-A28A-4097-AADF-588AA8C5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07CF-795C-458D-9040-CC09F17E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0833-99B9-48A9-982D-C0127706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8ED3B-3E07-4986-A28E-DA6DF6865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A0C3-46A1-416E-ACB3-4486540C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64DC-8E7E-43ED-824D-DDAA897A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4B3-4570-4AC2-98D8-EEE11415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516E-BB78-4793-8085-DA13D428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1CA8-C0F4-4DF3-9B27-E3E0DE6D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6F17E-A604-44E9-B726-3A40D8D8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03F2-F937-4617-8714-5CB720D9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AD5F-E760-40C4-8CCD-F1EA14374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6058C-6FB8-497E-9C51-CCAC0AC50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2C0AA-5F76-4690-B8BB-13AE94A8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7696F-CA57-47C7-BC37-D4BC6ED3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D3827-DAE2-47FD-8953-411F59CAC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704EB-C368-4801-9612-C12E1644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99FA-C27C-4310-8358-A45FFD26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CADDC-C96E-4B25-8EAC-88B63C39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D56A1-6C18-4E37-8E24-1E860CDE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B197-7EE2-48F4-B702-9EB687C8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A07F-1B88-41F5-BC2F-F583F349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9D2E2-CF91-433A-951A-01A4CD27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5F8AD-D8BF-4529-932E-AC91949C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347BC-742C-4283-BFB0-FD1307C5A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58491-A4CB-4360-AB97-A93EDBCE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60255-7C3C-4473-B45E-7A5E4282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F6CB4-F56D-4231-9B05-28D46175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690-A6AE-40BC-9B2D-7F38DBF2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8B272-CFD8-4FF8-923C-706D8F45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BB606-782A-46A1-B39A-19BD1C3B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8073B-0ACB-44C9-B788-04614D36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FBE4F-83B8-4C13-B749-743CB392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CA161-5410-4A87-95C2-019CB7E7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4E004-BD76-4D30-8A90-55B9DA6F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24E0B-3F66-44E1-A2AC-46AC3E0A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B1146-3290-4682-A20F-B1C548E0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8D4F4-7815-4787-AFBB-EBF9084E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AACD-1525-4444-8263-C8566ED5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2D7F-4955-427A-AB71-5A59AB46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F89-1047-4754-B066-7450D38C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1AA9-7493-4A45-8302-220273E0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0BF4-08F9-4E0C-8B4B-90C46BB2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27000"/>
            <a:ext cx="3200400" cy="6858000"/>
            <a:chOff x="0" y="-2700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-2700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457200" y="-2700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276120" y="1670040"/>
            <a:ext cx="7391520" cy="318960"/>
            <a:chOff x="276120" y="1670040"/>
            <a:chExt cx="7391520" cy="318960"/>
          </a:xfrm>
        </p:grpSpPr>
        <p:sp>
          <p:nvSpPr>
            <p:cNvPr id="4" name="AutoShape 6"/>
            <p:cNvSpPr/>
            <p:nvPr/>
          </p:nvSpPr>
          <p:spPr>
            <a:xfrm>
              <a:off x="657000" y="167004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>
              <a:off x="276120" y="1670040"/>
              <a:ext cx="39384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4120" y="702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FCA9-6254-45C9-A137-03DBA62ECF0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3333-FF5E-4D9D-AC70-51B14DF95EDB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4120" y="702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2437920" y="624852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6320" y="6248520"/>
            <a:ext cx="5889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946F-D8F0-4587-945E-4AEC6F74D83D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1C37-D625-4C28-9BBC-4BC4720DF00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20.wmf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33.gif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Rectangle 5" descr=""/>
          <p:cNvPicPr/>
          <p:nvPr/>
        </p:nvPicPr>
        <p:blipFill>
          <a:blip r:embed="rId1"/>
          <a:stretch/>
        </p:blipFill>
        <p:spPr>
          <a:xfrm>
            <a:off x="420840" y="212760"/>
            <a:ext cx="8229600" cy="3524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Rectangle 2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2163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мотивацион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планирующий – подготовитель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информационно-операцион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рефлексивно-оценочны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4" descr="стрелка"/>
          <p:cNvPicPr/>
          <p:nvPr/>
        </p:nvPicPr>
        <p:blipFill>
          <a:blip r:embed="rId2"/>
          <a:stretch/>
        </p:blipFill>
        <p:spPr>
          <a:xfrm>
            <a:off x="611280" y="2997360"/>
            <a:ext cx="285480" cy="2854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стрелка"/>
          <p:cNvPicPr/>
          <p:nvPr/>
        </p:nvPicPr>
        <p:blipFill>
          <a:blip r:embed="rId3"/>
          <a:stretch/>
        </p:blipFill>
        <p:spPr>
          <a:xfrm>
            <a:off x="611280" y="407664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стрелка"/>
          <p:cNvPicPr/>
          <p:nvPr/>
        </p:nvPicPr>
        <p:blipFill>
          <a:blip r:embed="rId4"/>
          <a:stretch/>
        </p:blipFill>
        <p:spPr>
          <a:xfrm>
            <a:off x="611280" y="51577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стрелка"/>
          <p:cNvPicPr/>
          <p:nvPr/>
        </p:nvPicPr>
        <p:blipFill>
          <a:blip r:embed="rId5"/>
          <a:stretch/>
        </p:blipFill>
        <p:spPr>
          <a:xfrm>
            <a:off x="611280" y="6237360"/>
            <a:ext cx="285480" cy="285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Rectangle 2" descr=""/>
          <p:cNvPicPr/>
          <p:nvPr/>
        </p:nvPicPr>
        <p:blipFill>
          <a:blip r:embed="rId1"/>
          <a:stretch/>
        </p:blipFill>
        <p:spPr>
          <a:xfrm>
            <a:off x="682560" y="0"/>
            <a:ext cx="7925040" cy="1365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0" y="98100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 algn="just">
              <a:lnSpc>
                <a:spcPct val="7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Bell Gothic Std Black"/>
              </a:rPr>
              <a:t>Исследовательский проект</a:t>
            </a:r>
            <a:r>
              <a:rPr b="0" lang="ru-RU" sz="2200" spc="-1" strike="noStrike">
                <a:solidFill>
                  <a:srgbClr val="3333ff"/>
                </a:solidFill>
                <a:latin typeface="Bell Gothic Std Black"/>
              </a:rPr>
              <a:t> – это исследование какой-либо проблемы по правилам научного исследования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70000"/>
              </a:lnSpc>
              <a:spcBef>
                <a:spcPts val="2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7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Bell Gothic Std Black"/>
              </a:rPr>
              <a:t>Творческий проект</a:t>
            </a:r>
            <a:r>
              <a:rPr b="0" lang="ru-RU" sz="2200" spc="-1" strike="noStrike">
                <a:solidFill>
                  <a:srgbClr val="3333ff"/>
                </a:solidFill>
                <a:latin typeface="Bell Gothic Std Black"/>
              </a:rPr>
              <a:t> предполагает максимально свободный авторский подход в решении проблемы. Продукт – альманахи, совместная газета и сочинение, театрализация, произведения изобразительного или декоративно-прикладного искус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70000"/>
              </a:lnSpc>
              <a:spcBef>
                <a:spcPts val="2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7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Bell Gothic Std Black"/>
              </a:rPr>
              <a:t>Ролево-игровые проекты</a:t>
            </a:r>
            <a:r>
              <a:rPr b="0" lang="ru-RU" sz="2200" spc="-1" strike="noStrike">
                <a:solidFill>
                  <a:srgbClr val="3333ff"/>
                </a:solidFill>
                <a:latin typeface="Bell Gothic Std Black"/>
              </a:rPr>
              <a:t> – участники принимают на себя определенные роли, обусловленные характером и содержанием проекта, особенностью решаемой проблемы.</a:t>
            </a:r>
            <a:r>
              <a:rPr b="1" lang="ru-RU" sz="22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200" spc="-1" strike="noStrike">
                <a:solidFill>
                  <a:srgbClr val="3333ff"/>
                </a:solidFill>
                <a:latin typeface="Bell Gothic Std Black"/>
              </a:rPr>
              <a:t>Это</a:t>
            </a:r>
            <a:r>
              <a:rPr b="1" lang="ru-RU" sz="22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200" spc="-1" strike="noStrike">
                <a:solidFill>
                  <a:srgbClr val="3333ff"/>
                </a:solidFill>
                <a:latin typeface="Bell Gothic Std Black"/>
              </a:rPr>
              <a:t>могут быть литературные персонажи или выдуманные герои, имитирующие социальные или деловые отношения с придуманными участниками, ситуациями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70000"/>
              </a:lnSpc>
              <a:spcBef>
                <a:spcPts val="2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7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ff"/>
                </a:solidFill>
                <a:latin typeface="Bell Gothic Std Black"/>
              </a:rPr>
              <a:t>Информационные проект</a:t>
            </a:r>
            <a:r>
              <a:rPr b="0" lang="ru-RU" sz="2200" spc="-1" strike="noStrike">
                <a:solidFill>
                  <a:srgbClr val="3333ff"/>
                </a:solidFill>
                <a:latin typeface="Bell Gothic Std Black"/>
              </a:rPr>
              <a:t> – это сбор и обработка информации по значимой проблеме с целью ее презентации широкой аудитории (статья в СМИ, информация в сети Интернет)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WordArt 8"/>
          <p:cNvSpPr txBox="1"/>
          <p:nvPr/>
        </p:nvSpPr>
        <p:spPr>
          <a:xfrm>
            <a:off x="1042920" y="2060640"/>
            <a:ext cx="28796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Исследовательские проек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2" name="WordArt 9"/>
          <p:cNvSpPr txBox="1"/>
          <p:nvPr/>
        </p:nvSpPr>
        <p:spPr>
          <a:xfrm>
            <a:off x="6012000" y="2060640"/>
            <a:ext cx="278424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Информационные проек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3" name="WordArt 10"/>
          <p:cNvSpPr txBox="1"/>
          <p:nvPr/>
        </p:nvSpPr>
        <p:spPr>
          <a:xfrm>
            <a:off x="5796000" y="3213000"/>
            <a:ext cx="3097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Ролево-игровые проек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4" name="WordArt 11"/>
          <p:cNvSpPr txBox="1"/>
          <p:nvPr/>
        </p:nvSpPr>
        <p:spPr>
          <a:xfrm>
            <a:off x="1042920" y="3213000"/>
            <a:ext cx="2665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Творческие проек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5" name="WordArt 12"/>
          <p:cNvSpPr txBox="1"/>
          <p:nvPr/>
        </p:nvSpPr>
        <p:spPr>
          <a:xfrm>
            <a:off x="1403280" y="5084640"/>
            <a:ext cx="172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Личностн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36" name="WordArt 13"/>
          <p:cNvSpPr txBox="1"/>
          <p:nvPr/>
        </p:nvSpPr>
        <p:spPr>
          <a:xfrm rot="21201600">
            <a:off x="7019640" y="5229000"/>
            <a:ext cx="1384200" cy="98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796000"/>
                </a:gradFill>
                <a:latin typeface="Arial"/>
              </a:rPr>
              <a:t>Парн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796000"/>
              </a:gradFill>
              <a:latin typeface="Arial"/>
              <a:ea typeface="Arial"/>
            </a:endParaRPr>
          </a:p>
        </p:txBody>
      </p:sp>
      <p:sp>
        <p:nvSpPr>
          <p:cNvPr id="237" name="WordArt 15"/>
          <p:cNvSpPr txBox="1"/>
          <p:nvPr/>
        </p:nvSpPr>
        <p:spPr>
          <a:xfrm>
            <a:off x="3924360" y="4508640"/>
            <a:ext cx="194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Группов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238" name="Picture 18" descr="j0343363"/>
          <p:cNvPicPr/>
          <p:nvPr/>
        </p:nvPicPr>
        <p:blipFill>
          <a:blip r:embed="rId9"/>
          <a:stretch/>
        </p:blipFill>
        <p:spPr>
          <a:xfrm>
            <a:off x="4140360" y="5229360"/>
            <a:ext cx="1452240" cy="13096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vveden1"/>
          <p:cNvPicPr/>
          <p:nvPr/>
        </p:nvPicPr>
        <p:blipFill>
          <a:blip r:embed="rId10"/>
          <a:stretch/>
        </p:blipFill>
        <p:spPr>
          <a:xfrm>
            <a:off x="3851280" y="2492280"/>
            <a:ext cx="1581120" cy="1460520"/>
          </a:xfrm>
          <a:prstGeom prst="rect">
            <a:avLst/>
          </a:prstGeom>
          <a:ln w="0">
            <a:noFill/>
          </a:ln>
        </p:spPr>
      </p:pic>
      <p:sp>
        <p:nvSpPr>
          <p:cNvPr id="240" name="WordArt 21"/>
          <p:cNvSpPr txBox="1"/>
          <p:nvPr/>
        </p:nvSpPr>
        <p:spPr>
          <a:xfrm>
            <a:off x="1116000" y="4221000"/>
            <a:ext cx="2232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монопроек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41" name="WordArt 22"/>
          <p:cNvSpPr txBox="1"/>
          <p:nvPr/>
        </p:nvSpPr>
        <p:spPr>
          <a:xfrm>
            <a:off x="6012000" y="3716280"/>
            <a:ext cx="280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межпредметные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"/>
              </a:rPr>
              <a:t>(интегрированные)  проекты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>
    <p:pull dir="r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1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2" descr=""/>
          <p:cNvPicPr/>
          <p:nvPr/>
        </p:nvPicPr>
        <p:blipFill>
          <a:blip r:embed="rId1"/>
          <a:stretch/>
        </p:blipFill>
        <p:spPr>
          <a:xfrm>
            <a:off x="755640" y="328680"/>
            <a:ext cx="7924680" cy="136692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0" y="1413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Монопроекты 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– реализуются, как правило, в рамках одного учебного предмета, т.е. выполняется на материале конкретного предмета.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0" y="2781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Межпредметный (интегрированный)</a:t>
            </a: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 – это проект, интегрирующий смежную тематику нескольких предметов, выполняется в основном во внеурочное время под руководством нескольких специалистов в различных областях знаний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0" y="4797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Arial"/>
              </a:rPr>
              <a:t>Это могут быть небольшие проекты, затрагивающие две-три предметные области, а могут быть достаточно объемные, продолжительные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0605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0" y="1557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	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Интеграция позволяет перейти от изолированного рассмотрения различных явлений действительности к их взаимосвязанному комплексному изучению, дает возможность показать мир во всем его многообразии с привлечением научных знаний, литературы, живописи, что способствует эмоциональному развитию личности ребёнка и формированию его творческого мышлен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0" y="450864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	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Учащиеся с большим интересом начинают подходить к изучению программного материала, понимая, что он им необходим в дальнейшей работе по проекту.</a:t>
            </a: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651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250920" y="1700280"/>
            <a:ext cx="86421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Мини-проекты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 – укладываются в 1 урок или часть урок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Краткосрочные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 – рассчитаны на 4-6 урок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Средней продолжительности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 – укладываются в 1-2 месяц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4" descr="image533"/>
          <p:cNvPicPr/>
          <p:nvPr/>
        </p:nvPicPr>
        <p:blipFill>
          <a:blip r:embed="rId2"/>
          <a:stretch/>
        </p:blipFill>
        <p:spPr>
          <a:xfrm>
            <a:off x="3492360" y="4292640"/>
            <a:ext cx="215928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0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395280" y="1773360"/>
            <a:ext cx="6573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79280" y="333360"/>
            <a:ext cx="8506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Темы проектов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тесно связаны с предметным содержани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роблема проекта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должна быть в области познавательных интересов ребенк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Новизна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–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способ достижения уже известного матери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артнёрство: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учитель- ученик-родител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Длительность: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2-3 урока, 1-2 недели в режиме урочно-внеурочных заняти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nodeType="clickEffect" fill="hold">
                      <p:stCondLst>
                        <p:cond delay="0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98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898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98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898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898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0820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10"/>
          <p:cNvSpPr/>
          <p:nvPr/>
        </p:nvSpPr>
        <p:spPr>
          <a:xfrm>
            <a:off x="324000" y="2205000"/>
            <a:ext cx="2232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РОЛЬ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УЧИТЕЛ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3059280" y="2205000"/>
            <a:ext cx="287964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РОЛ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УЧЕНИК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12"/>
          <p:cNvSpPr/>
          <p:nvPr/>
        </p:nvSpPr>
        <p:spPr>
          <a:xfrm>
            <a:off x="6516720" y="2205000"/>
            <a:ext cx="230328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РОЛ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РОДИТЕЛ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324000" y="3068640"/>
            <a:ext cx="2232000" cy="1727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Консультируе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Мотивируе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Наблюдает</a:t>
            </a:r>
            <a:r>
              <a:rPr b="1" lang="ru-RU" sz="1800" spc="-1" strike="noStrike">
                <a:solidFill>
                  <a:srgbClr val="000099"/>
                </a:solidFill>
                <a:latin typeface="Bell Gothic Std Black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Bell Gothic Std Black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3059280" y="2997360"/>
            <a:ext cx="2952720" cy="302400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Является субъекто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познавательн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деятельност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Выбирае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(принимает решения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Выстраивает систем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взаимоотношений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с людьм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Оценивает</a:t>
            </a:r>
            <a:r>
              <a:rPr b="0" lang="ru-RU" sz="1600" spc="-1" strike="noStrike">
                <a:solidFill>
                  <a:srgbClr val="003332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32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3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Rectangle 21"/>
          <p:cNvSpPr/>
          <p:nvPr/>
        </p:nvSpPr>
        <p:spPr>
          <a:xfrm>
            <a:off x="6516720" y="3068640"/>
            <a:ext cx="2305080" cy="1727280"/>
          </a:xfrm>
          <a:prstGeom prst="rect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Консультируе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Bell Gothic Std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Bell Gothic Std Black"/>
              </a:rPr>
              <a:t>Мотивируе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1" name="Picture 26" descr="computer_girl[1]"/>
          <p:cNvPicPr/>
          <p:nvPr/>
        </p:nvPicPr>
        <p:blipFill>
          <a:blip r:embed="rId2"/>
          <a:stretch/>
        </p:blipFill>
        <p:spPr>
          <a:xfrm>
            <a:off x="1116000" y="5084640"/>
            <a:ext cx="1401840" cy="151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7" descr="peo-day_dreaming[1]"/>
          <p:cNvPicPr/>
          <p:nvPr/>
        </p:nvPicPr>
        <p:blipFill>
          <a:blip r:embed="rId3"/>
          <a:stretch/>
        </p:blipFill>
        <p:spPr>
          <a:xfrm flipH="1">
            <a:off x="6732720" y="4869000"/>
            <a:ext cx="1536480" cy="1689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nodeType="clickEffect" fill="hold">
                      <p:stCondLst>
                        <p:cond delay="0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Rectangle 2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6225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611280" y="1773360"/>
            <a:ext cx="73929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справочник; газета; журнал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альбом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гербарий; кар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экскурси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игра; сценарий празд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костюм; макет; модель;  сувенир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мультимедийный продукт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учебное пособие и др.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5" descr="b21[1]"/>
          <p:cNvPicPr/>
          <p:nvPr/>
        </p:nvPicPr>
        <p:blipFill>
          <a:blip r:embed="rId2"/>
          <a:stretch/>
        </p:blipFill>
        <p:spPr>
          <a:xfrm flipH="1">
            <a:off x="7164360" y="4581360"/>
            <a:ext cx="1487520" cy="1716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0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6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000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Rectangl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24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250920" y="1125360"/>
            <a:ext cx="864216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Bell Gothic Std Black"/>
              </a:rPr>
              <a:t>демонстрация медиа – презентации, коллажа, макета, журнала, игрушек, предметов домашнего обиход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Bell Gothic Std Black"/>
              </a:rPr>
              <a:t>защита реферата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Bell Gothic Std Black"/>
              </a:rPr>
              <a:t>сюжетно-ролевая игра или экскурсия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Bell Gothic Std Black"/>
              </a:rPr>
              <a:t>праздник или инсценировка</a:t>
            </a:r>
            <a:r>
              <a:rPr b="0" lang="en-US" sz="3600" spc="-1" strike="noStrike">
                <a:solidFill>
                  <a:srgbClr val="3333ff"/>
                </a:solidFill>
                <a:latin typeface="Bell Gothic Std Black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ff"/>
                </a:solidFill>
                <a:latin typeface="Bell Gothic Std Black"/>
              </a:rPr>
              <a:t>демонстрация учебного пособия и т.п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19840" indent="-39024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Rectangle 2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17082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0" y="177336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06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Достижение конечного результата</a:t>
            </a:r>
            <a:r>
              <a:rPr b="0" lang="en-US" sz="2800" spc="-1" strike="noStrike">
                <a:solidFill>
                  <a:srgbClr val="3333ff"/>
                </a:solidFill>
                <a:latin typeface="Bell Gothic Std Black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Овладение учащимися учебными умениями, связанными с приемами самостоятельного приобретения знан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Сплоченность участников команды</a:t>
            </a:r>
            <a:r>
              <a:rPr b="0" lang="en-US" sz="2800" spc="-1" strike="noStrike">
                <a:solidFill>
                  <a:srgbClr val="3333ff"/>
                </a:solidFill>
                <a:latin typeface="Bell Gothic Std Black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Получение полного и глубокого удовлетворения от сделанного</a:t>
            </a:r>
            <a:r>
              <a:rPr b="0" lang="en-US" sz="2800" spc="-1" strike="noStrike">
                <a:solidFill>
                  <a:srgbClr val="3333ff"/>
                </a:solidFill>
                <a:latin typeface="Bell Gothic Std Black"/>
              </a:rPr>
              <a:t>;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800" indent="-406800" algn="just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Уверенность детей в том, что они могут создавать продукт, востребованный для них и других людей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Picture 6" descr="__________6__747"/>
          <p:cNvPicPr/>
          <p:nvPr/>
        </p:nvPicPr>
        <p:blipFill>
          <a:blip r:embed="rId7"/>
          <a:stretch/>
        </p:blipFill>
        <p:spPr>
          <a:xfrm>
            <a:off x="6732720" y="907920"/>
            <a:ext cx="1095120" cy="1095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828720" y="49320"/>
            <a:ext cx="7772400" cy="148104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900000" y="1125360"/>
            <a:ext cx="7559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роект</a:t>
            </a: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 (латин. «</a:t>
            </a:r>
            <a:r>
              <a:rPr b="1" i="1" lang="ru-RU" sz="2000" spc="-1" strike="noStrike">
                <a:solidFill>
                  <a:srgbClr val="3333ff"/>
                </a:solidFill>
                <a:latin typeface="Bell Gothic Std Black"/>
              </a:rPr>
              <a:t>projectus»</a:t>
            </a: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) - </a:t>
            </a: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«брошенный вперед», </a:t>
            </a: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т.е. замысел в виде прототипа, прообраза объекта</a:t>
            </a:r>
            <a:r>
              <a:rPr b="1" lang="en-US" sz="2000" spc="-1" strike="noStrike">
                <a:solidFill>
                  <a:srgbClr val="3333ff"/>
                </a:solidFill>
                <a:latin typeface="Bell Gothic Std Black"/>
              </a:rPr>
              <a:t>: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  </a:t>
            </a: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0" lang="ru-RU" sz="24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971640" y="5445000"/>
            <a:ext cx="727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ff"/>
                </a:solidFill>
                <a:latin typeface="Bell Gothic Std Black"/>
              </a:rPr>
              <a:t>Проектирование</a:t>
            </a: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 - </a:t>
            </a: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процесс создания проект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826920" y="3716280"/>
            <a:ext cx="770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ff"/>
                </a:solidFill>
                <a:uFillTx/>
                <a:latin typeface="Bell Gothic Std Black"/>
              </a:rPr>
              <a:t>Учебный проект</a:t>
            </a: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 - специально организованный педагогом и самостоятельно выполняемый обучающимися комплекс действий по решению значимой для учащихся проблемы, завершающийся созданием творческого продук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900000" y="1989000"/>
            <a:ext cx="7632720" cy="15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а) совокупность документов для создания изделия</a:t>
            </a:r>
            <a:r>
              <a:rPr b="1" lang="en-US" sz="2000" spc="-1" strike="noStrike">
                <a:solidFill>
                  <a:srgbClr val="3333ff"/>
                </a:solidFill>
                <a:latin typeface="Bell Gothic Std Black"/>
              </a:rPr>
              <a:t>;</a:t>
            </a: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б) предварительный текст документа</a:t>
            </a:r>
            <a:r>
              <a:rPr b="1" lang="en-US" sz="2000" spc="-1" strike="noStrike">
                <a:solidFill>
                  <a:srgbClr val="3333ff"/>
                </a:solidFill>
                <a:latin typeface="Bell Gothic Std Black"/>
              </a:rPr>
              <a:t>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Bell Gothic Std Black"/>
              </a:rPr>
              <a:t>в) замысел, план, прообраз какого-либо объект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Rectangle 2" descr=""/>
          <p:cNvPicPr/>
          <p:nvPr/>
        </p:nvPicPr>
        <p:blipFill>
          <a:blip r:embed="rId1"/>
          <a:stretch/>
        </p:blipFill>
        <p:spPr>
          <a:xfrm>
            <a:off x="828720" y="219240"/>
            <a:ext cx="7924680" cy="21333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971640" y="2276640"/>
            <a:ext cx="755964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развитие познавательных интересов обучающихся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умений самостоятельно конструировать свои знания и ориентироваться в информационном пространстве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развивать критическое мышле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971640" y="4941720"/>
            <a:ext cx="7705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Основной тезис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:</a:t>
            </a: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1" i="1" lang="ru-RU" sz="2800" spc="-1" strike="noStrike">
                <a:solidFill>
                  <a:srgbClr val="3333ff"/>
                </a:solidFill>
                <a:latin typeface="Bell Gothic Std Black"/>
              </a:rPr>
              <a:t>«Все, что я познаю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Bell Gothic Std Black"/>
              </a:rPr>
              <a:t>я знаю, для чего мне это надо и где и как я могу эти знания применить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Rectangle 2" descr=""/>
          <p:cNvPicPr/>
          <p:nvPr/>
        </p:nvPicPr>
        <p:blipFill>
          <a:blip r:embed="rId1"/>
          <a:stretch/>
        </p:blipFill>
        <p:spPr>
          <a:xfrm>
            <a:off x="822240" y="341280"/>
            <a:ext cx="777240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971640" y="2276640"/>
            <a:ext cx="755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Младший школьный возраст является начальным этапом вхождения в проектную деятельность, закладывающий фундамент дальнейшего овладения е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971640" y="41497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Этот период обучения может быть назван </a:t>
            </a:r>
            <a:r>
              <a:rPr b="1" lang="ru-RU" sz="2400" spc="-1" strike="noStrike">
                <a:solidFill>
                  <a:srgbClr val="3333ff"/>
                </a:solidFill>
                <a:latin typeface="Bell Gothic Std Black"/>
              </a:rPr>
              <a:t>«Введением в проектную деятельность».</a:t>
            </a:r>
            <a:r>
              <a:rPr b="1" lang="ru-RU" sz="2400" spc="-1" strike="noStrike">
                <a:solidFill>
                  <a:srgbClr val="003366"/>
                </a:solidFill>
                <a:latin typeface="Bell Gothic Std Black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5" name="Picture 10" descr="dividers_94"/>
          <p:cNvPicPr/>
          <p:nvPr/>
        </p:nvPicPr>
        <p:blipFill>
          <a:blip r:embed="rId2"/>
          <a:stretch/>
        </p:blipFill>
        <p:spPr>
          <a:xfrm>
            <a:off x="1332000" y="5229360"/>
            <a:ext cx="662472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396720" y="6480"/>
            <a:ext cx="8302680" cy="21333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существование 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некой</a:t>
            </a: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 значимой проблемы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значимость предполагаемых результатов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применение исследовательских методов при проектировании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структурирование этапов выполнения проектов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imes New Roman"/>
              </a:rPr>
              <a:t>самостоятельная деятельность учащихся в ситуации выбор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д"/>
          <p:cNvPicPr/>
          <p:nvPr/>
        </p:nvPicPr>
        <p:blipFill>
          <a:blip r:embed="rId1"/>
          <a:stretch/>
        </p:blipFill>
        <p:spPr>
          <a:xfrm>
            <a:off x="3203640" y="4365720"/>
            <a:ext cx="1985760" cy="249228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r>
              <a:rPr b="1" lang="ru-RU" sz="2600" spc="-1" strike="noStrike">
                <a:solidFill>
                  <a:srgbClr val="3333ff"/>
                </a:solidFill>
                <a:latin typeface="Bell Gothic Std Black"/>
              </a:rPr>
              <a:t>Рекомендуется непосредственную проектную деятельность начинать со 2 класса. Это благоприятный возраст для развития творческого мышления, воображени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Bell Gothic Std Black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-360"/>
            <a:ext cx="403848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Bell Gothic Std Black"/>
              </a:rPr>
              <a:t>     </a:t>
            </a:r>
            <a:r>
              <a:rPr b="1" lang="ru-RU" sz="2600" spc="-1" strike="noStrike">
                <a:solidFill>
                  <a:srgbClr val="3333ff"/>
                </a:solidFill>
                <a:latin typeface="Bell Gothic Std Black"/>
              </a:rPr>
              <a:t>Одним из ведущих новообразований этого возраста - произвольность психических процессов, которая предполагает волевое регулирование и направленность деятельности. Ребенок хочет что-то создать, поднять свой имидж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Bell Gothic Std Black"/>
              </a:rPr>
              <a:t>Проектная деятельность является средством развития личности ребенка, привития интереса к познавательной деятельност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Picture 4" descr="middle_49ccf8bf938b0"/>
          <p:cNvPicPr/>
          <p:nvPr/>
        </p:nvPicPr>
        <p:blipFill>
          <a:blip r:embed="rId1"/>
          <a:stretch/>
        </p:blipFill>
        <p:spPr>
          <a:xfrm>
            <a:off x="2268360" y="3213000"/>
            <a:ext cx="4608720" cy="323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Rectangle 2" descr=""/>
          <p:cNvPicPr/>
          <p:nvPr/>
        </p:nvPicPr>
        <p:blipFill>
          <a:blip r:embed="rId1"/>
          <a:stretch/>
        </p:blipFill>
        <p:spPr>
          <a:xfrm>
            <a:off x="281160" y="146160"/>
            <a:ext cx="8734320" cy="158580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539640" y="1989000"/>
            <a:ext cx="8280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ОСТАНОВКА ПРОБЛЕМЫ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ТЕМА</a:t>
            </a:r>
            <a:r>
              <a:rPr b="0" lang="ru-RU" sz="2800" spc="-1" strike="noStrike">
                <a:solidFill>
                  <a:srgbClr val="3333ff"/>
                </a:solidFill>
                <a:latin typeface="Bell Gothic Std Black"/>
              </a:rPr>
              <a:t>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ЦЕЛЬ ПРОЕКТА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ЗАДАЧИ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ГИПОТЕЗ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ЛАН РАБО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ПРОДУКТ ПРОЕК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          </a:t>
            </a:r>
            <a:r>
              <a:rPr b="1" lang="ru-RU" sz="2800" spc="-1" strike="noStrike">
                <a:solidFill>
                  <a:srgbClr val="3333ff"/>
                </a:solidFill>
                <a:latin typeface="Bell Gothic Std Black"/>
              </a:rPr>
              <a:t>ВЫВОДЫ (ИТОГ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Picture 4" descr="стрелка"/>
          <p:cNvPicPr/>
          <p:nvPr/>
        </p:nvPicPr>
        <p:blipFill>
          <a:blip r:embed="rId2"/>
          <a:stretch/>
        </p:blipFill>
        <p:spPr>
          <a:xfrm>
            <a:off x="826920" y="2133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стрелка"/>
          <p:cNvPicPr/>
          <p:nvPr/>
        </p:nvPicPr>
        <p:blipFill>
          <a:blip r:embed="rId3"/>
          <a:stretch/>
        </p:blipFill>
        <p:spPr>
          <a:xfrm>
            <a:off x="826920" y="2565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стрелка"/>
          <p:cNvPicPr/>
          <p:nvPr/>
        </p:nvPicPr>
        <p:blipFill>
          <a:blip r:embed="rId4"/>
          <a:stretch/>
        </p:blipFill>
        <p:spPr>
          <a:xfrm>
            <a:off x="826920" y="292428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стрелка"/>
          <p:cNvPicPr/>
          <p:nvPr/>
        </p:nvPicPr>
        <p:blipFill>
          <a:blip r:embed="rId5"/>
          <a:stretch/>
        </p:blipFill>
        <p:spPr>
          <a:xfrm>
            <a:off x="826920" y="3357720"/>
            <a:ext cx="285840" cy="285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стрелка"/>
          <p:cNvPicPr/>
          <p:nvPr/>
        </p:nvPicPr>
        <p:blipFill>
          <a:blip r:embed="rId6"/>
          <a:stretch/>
        </p:blipFill>
        <p:spPr>
          <a:xfrm>
            <a:off x="826920" y="37893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стрелка"/>
          <p:cNvPicPr/>
          <p:nvPr/>
        </p:nvPicPr>
        <p:blipFill>
          <a:blip r:embed="rId7"/>
          <a:stretch/>
        </p:blipFill>
        <p:spPr>
          <a:xfrm>
            <a:off x="826920" y="4653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стрелка"/>
          <p:cNvPicPr/>
          <p:nvPr/>
        </p:nvPicPr>
        <p:blipFill>
          <a:blip r:embed="rId8"/>
          <a:stretch/>
        </p:blipFill>
        <p:spPr>
          <a:xfrm>
            <a:off x="826920" y="42210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стрелка"/>
          <p:cNvPicPr/>
          <p:nvPr/>
        </p:nvPicPr>
        <p:blipFill>
          <a:blip r:embed="rId9"/>
          <a:stretch/>
        </p:blipFill>
        <p:spPr>
          <a:xfrm>
            <a:off x="826920" y="5084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дети"/>
          <p:cNvPicPr/>
          <p:nvPr/>
        </p:nvPicPr>
        <p:blipFill>
          <a:blip r:embed="rId10"/>
          <a:stretch/>
        </p:blipFill>
        <p:spPr>
          <a:xfrm>
            <a:off x="5580000" y="4029120"/>
            <a:ext cx="3240000" cy="26607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8850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98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394840" cy="2133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ученик 2"/>
          <p:cNvPicPr/>
          <p:nvPr/>
        </p:nvPicPr>
        <p:blipFill>
          <a:blip r:embed="rId2"/>
          <a:stretch/>
        </p:blipFill>
        <p:spPr>
          <a:xfrm>
            <a:off x="3708360" y="3284640"/>
            <a:ext cx="2303640" cy="2089080"/>
          </a:xfrm>
          <a:prstGeom prst="rect">
            <a:avLst/>
          </a:prstGeom>
          <a:ln w="0">
            <a:noFill/>
          </a:ln>
        </p:spPr>
      </p:pic>
      <p:sp>
        <p:nvSpPr>
          <p:cNvPr id="216" name="Oval 8"/>
          <p:cNvSpPr/>
          <p:nvPr/>
        </p:nvSpPr>
        <p:spPr>
          <a:xfrm>
            <a:off x="3635280" y="1844640"/>
            <a:ext cx="2521080" cy="136836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сследовательски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435640" y="5229360"/>
            <a:ext cx="2736720" cy="129528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оммуникативны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Oval 12"/>
          <p:cNvSpPr/>
          <p:nvPr/>
        </p:nvSpPr>
        <p:spPr>
          <a:xfrm>
            <a:off x="6372360" y="3860640"/>
            <a:ext cx="2771640" cy="115272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нформационны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Oval 13"/>
          <p:cNvSpPr/>
          <p:nvPr/>
        </p:nvSpPr>
        <p:spPr>
          <a:xfrm>
            <a:off x="1042920" y="2492280"/>
            <a:ext cx="2594160" cy="129708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 в решени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обле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Oval 14"/>
          <p:cNvSpPr/>
          <p:nvPr/>
        </p:nvSpPr>
        <p:spPr>
          <a:xfrm>
            <a:off x="179280" y="3933720"/>
            <a:ext cx="2735280" cy="122400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Рефлексивные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Oval 15"/>
          <p:cNvSpPr/>
          <p:nvPr/>
        </p:nvSpPr>
        <p:spPr>
          <a:xfrm>
            <a:off x="1979640" y="5229360"/>
            <a:ext cx="2952720" cy="122400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Презентацион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Oval 16"/>
          <p:cNvSpPr/>
          <p:nvPr/>
        </p:nvSpPr>
        <p:spPr>
          <a:xfrm>
            <a:off x="6084720" y="2492280"/>
            <a:ext cx="2735280" cy="1150920"/>
          </a:xfrm>
          <a:prstGeom prst="ellipse">
            <a:avLst/>
          </a:prstGeom>
          <a:gradFill rotWithShape="0">
            <a:gsLst>
              <a:gs pos="0">
                <a:srgbClr val="3333ff"/>
              </a:gs>
              <a:gs pos="50000">
                <a:srgbClr val="99ccff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Технолог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м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slow">
    <p:pull dir="r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3T06:43:28Z</dcterms:created>
  <dc:creator>Andrew</dc:creator>
  <dc:description/>
  <dc:language>en-US</dc:language>
  <cp:lastModifiedBy>user</cp:lastModifiedBy>
  <dcterms:modified xsi:type="dcterms:W3CDTF">2022-11-12T04:37:59Z</dcterms:modified>
  <cp:revision>136</cp:revision>
  <dc:subject/>
  <dc:title>Проектная деятельность</dc:title>
</cp:coreProperties>
</file>