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575-5D5C-4195-88D2-5B2FE013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194-2389-4818-8301-D7322C4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F21-8933-46BE-9AD9-BBA24FA2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45E-5C15-4F38-96F9-6637B348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F7DF-C34E-4555-9F5F-628A6E91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05E7-35D3-4458-AE58-E1D939D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BB34-FC98-4BFA-886B-E004ECF1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1C06-776D-457F-902E-0F96A99F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0F78-E505-4D69-A323-78A4AEB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7AA7-1AAD-45AF-A262-7D0E417E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983E-77B7-4F20-8ADE-8BB4230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233-BADA-4D08-B052-19F8E9F9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52E7-C1D6-440E-B5AD-0AC9787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3626-9A72-496E-B7D9-0EE73031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3F7E-2D8A-4CC6-B832-35124B6B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0A2-ADCD-466B-93B0-FDE9A1AC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355B-980D-4B7F-8D4B-97A3F46C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165-28E0-41CD-BC6B-0E0D5C32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0BB-7EB7-4BA6-B7B3-20F0F3A1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821-626F-4344-9C10-D48A124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14E-0B57-48E7-8885-0A1BDE4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229-673E-43BE-B98D-2BC4C146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251-F25A-4ED6-8E3F-6478FB4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287-8438-47E4-8FDB-7B94998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9B3D-526F-42C6-B0F6-A59670761A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097C-91CE-4906-8344-A51B090036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8191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тили семейного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воспитания детей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340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Хаотический стиль (непоследовательное руководство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это отсутствие единого подхода к воспитанию, когда нет ясно выраженных, определенных, конкретных требований к ребенку или наблюдаются противоречия, разногласия в выборе воспитательных средств между родителя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Еще выделяют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14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23888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645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Опекающий стиль (гиперопека, концентрация внимания на ребенке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стремление постоянно быть около ребенка, решать за него все возникающие проблемы. Родители бдительно следят за поведением подростка, ограничивают его самостоятельное поведение, тревожатся, что с ним может что-то произой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3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69800" y="1523880"/>
            <a:ext cx="731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.Л. Амонашвили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лохими дети не рождаются. Ребенок рождается, чтобы узнать мир, а не злить родителей или учителя. Настоящая основа человека – не отдельные его качества, а образ жизни. Ребенок живет с первых минут рождения, а не готовится к жизни. Ребенок – существо социальное. Всякая личность развивается в общении. Ребенку необходимо сотрудничество. В сотрудничестве ребенок оказывается гораздо умнее, сильнее, чем при самостоятельной работе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086600" y="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38862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ы все такие разные! Есть дети симпатичные, милые, умненькие или вредные и противны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о для каждого родителя его ребенок самый лучший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03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16292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1827360"/>
            <a:ext cx="4187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нимание ребенка, принятие его не только сердцем, но и умом, осознание ответственности за судьбу маленького человека поможет взрослым выбрать тот стиль воспитания, который принесет благо и ребенку и родителя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3070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16292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1760" y="1827360"/>
            <a:ext cx="4187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Любви -10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епла-58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добрения-33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боты-58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хвалы-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держки-87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нимания-10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жности-31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лыбки-10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мощи-6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3070080" cy="4530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1371600" y="4572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то вы ждете от своих родител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600440" cy="373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4572000" cy="3581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3"/>
          <a:stretch/>
        </p:blipFill>
        <p:spPr>
          <a:xfrm>
            <a:off x="71629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з всех вообще безнравственных отношений – отношение к детям как к рабам  есть самое безнравственно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егел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наете ли, какой самый верный способ сделать вашего ребёнка несчастным, - это приучить его не встречать ни в чём отказ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Жан – Жак Русс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238880" y="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086600" y="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340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 ребенка семья - это целый мир, в котором он живет, действует, делает открытия, учится любить, ненавидеть, радоваться, сочувствовать. Ребенок вступает в отношения с родителями, которые могут оказывать на него как положительное, так и негативное влиян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286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ем для родителей может быть ребенок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ое место занимает он в семье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ие отношения  складываются у ребенка с родителями с раннего детства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71629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шения в семье можно представить в виде формулы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СЕМЕЙНЫХ ОТНОШЕНИЙ = (родители + родители) + (родители + дети)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ти + дети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010280" y="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040" y="1523520"/>
            <a:ext cx="776916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 е годы XX века психолог Д. Баумринд предложил  типологию стилей семейного воспитания, описал  основные стили семейного воспита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авторитарный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демократически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 попустительск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086600" y="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919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44792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4187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вторитарный стиль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в терминологии других авторов — «автократический», «диктат», «доминирование») — все решения принимают родители, считающие, что ребенок во всем должен подчиняться их воле, авторитет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581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4187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мократический стил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в терминологии других авторов — «авторитетный», «сотрудничество») — родители поощряют личную ответственность и самостоятельность своих детей в соответствии с их возрастными возможност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71629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882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пустительский стиль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в терминологии других авторов - «либеральный», «снисходительный», «гипоопека») — ребенок должным образом не направляется, не знает запретов и ограничений со стороны родителей или не выполняет указаний родителей, для которых характерно неумение, неспособность или нежелание руководить деть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5102280" y="1752480"/>
            <a:ext cx="3660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05T12:20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