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8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C016-E058-4551-ABF8-1768507F7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BCCC-19BA-42DA-B7DA-6A2A3300CB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15E-331A-40D7-8D9D-D0DAE2AA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922-3D3B-49FC-90D0-B4461BB6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CB1-6BF2-4D25-9825-58D74AE9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E36-1A4A-4C94-AF08-C0F89216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1C40-72D9-433A-BF2F-9AD27368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A9FE-618B-4E1C-A17D-64E0467A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9307-9DE9-4144-B68C-55CB1804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6429-F055-479B-BFDF-EC2BC13D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4930-AB74-435B-968A-9FAA428C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1472-E965-4432-AF8E-11FA3FA8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51DD-A065-4CEF-A2B7-9B68CD70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97C-38D9-423C-B999-9F186D7A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05CB-895B-4D3F-BB08-EE14554F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E4E6-8BEC-40EC-89D9-8CEEF53B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FF47-B48F-4330-B72C-EC7E58C1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349D-E1F9-488E-BC22-5B243E39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310-BC81-4E25-AC96-3494F27B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21CF-EEE6-469D-97CA-CBCFDF16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BE27-8528-46D6-82DA-F9AEB6F4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002F5-8E90-415F-A72D-D69FCB48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D255-47DB-4A63-A1FF-E849A7D0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5515-C8BA-458D-96C9-BD73E8DA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C1E-B04C-4434-AE07-6DF1D5CD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BBFA5-46C5-48C2-84BF-D3AA3F35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CF116-DB68-4A75-B93B-A3E67058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E5ECC-21C7-4D13-9AEA-6177A4CA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BC6E-3C1A-402E-BBF3-671BDEA6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62303-117C-4473-97B8-E14AF162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A4FF1-2BEC-4847-954C-D32985DD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5662-F0A8-441B-88ED-1A9AF2C4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BC7E1-7D39-47FA-9C3B-343186D7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10F8D-4BAA-496D-85A8-DE090AA0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21186-E0E3-4151-B7B3-7E87AB1F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612-19D9-42A5-82F7-069066DB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55C74-0527-49C4-A2B4-7FD9F2B4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A082-4E93-4A38-9ED9-9A427B55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8028-51D7-46A6-8DC7-4564EA79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EF6C-3CDA-43E0-9489-939C6751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BBC1F-0804-4DBC-B566-7F460E56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FAC7-C220-4961-8A1D-FF0A3FF0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91927-E774-449D-8504-75706249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1E476-18C6-4DCD-97C0-BAFB6517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B0C48-EB68-4DEA-9FD7-CC69382F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C57-E53D-49C9-80D8-0DFB59CB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720-5070-49E0-9336-C423D73A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F9A-52BB-441A-BA28-4D9701AD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90C-6BA3-43BC-A6B6-9EF8780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3CB-A050-4F2F-BD21-64D2A0A2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7FC7-FB3F-417D-8D57-43523C361C8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08B8-299B-42A2-BBB1-470C4CD675F9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BFEA-36E9-42BF-A22B-9EDEB914D89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7A55-C35B-4A2A-A5C8-AE2053EA0726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https://catherineasquithgallery.com/uploads/posts/2021-02/1612743485_28-p-fon-morskoi-volni-46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2"/>
          <p:cNvSpPr/>
          <p:nvPr/>
        </p:nvSpPr>
        <p:spPr>
          <a:xfrm>
            <a:off x="4211640" y="573264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хонова Ольга Александров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</a:t>
            </a:r>
            <a:r>
              <a:rPr b="1" lang="de-DE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Прямоугольник 3" descr=""/>
          <p:cNvPicPr/>
          <p:nvPr/>
        </p:nvPicPr>
        <p:blipFill>
          <a:blip r:embed="rId2"/>
          <a:stretch/>
        </p:blipFill>
        <p:spPr>
          <a:xfrm>
            <a:off x="469800" y="706320"/>
            <a:ext cx="8498160" cy="409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2416680" y="414360"/>
            <a:ext cx="4310640" cy="764280"/>
          </a:xfrm>
          <a:prstGeom prst="rect">
            <a:avLst/>
          </a:prstGeom>
          <a:solidFill>
            <a:srgbClr val="146194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ЕРЕЧ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250920" y="3933720"/>
            <a:ext cx="4572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еречные волны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волны сдвига, значит, они могут распространяться только в твёрдых тел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179280" y="1700280"/>
            <a:ext cx="878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при распространении волны направление колебаний частиц перпендикулярно направлению распространения волны, то такие волны называют 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перечными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https://myslide.ru/documents_3/4da3c0e8b3adea88ac074732507e1d8a/img4.jpg"/>
          <p:cNvPicPr/>
          <p:nvPr/>
        </p:nvPicPr>
        <p:blipFill>
          <a:blip r:embed="rId1"/>
          <a:stretch/>
        </p:blipFill>
        <p:spPr>
          <a:xfrm>
            <a:off x="5003640" y="3833640"/>
            <a:ext cx="21956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468360" y="1500120"/>
            <a:ext cx="29322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брационный камерт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108000" y="189000"/>
            <a:ext cx="8928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Ы ПРОДОЛЬНЫХ ВОЛН В ПОВСЕДНЕВНОЙ ЖИЗН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https://new-science.ru/wp-content/uploads/2020/09/8448.jpeg"/>
          <p:cNvPicPr/>
          <p:nvPr/>
        </p:nvPicPr>
        <p:blipFill>
          <a:blip r:embed="rId1"/>
          <a:stretch/>
        </p:blipFill>
        <p:spPr>
          <a:xfrm>
            <a:off x="208080" y="2073240"/>
            <a:ext cx="3454200" cy="11397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4"/>
          <p:cNvSpPr/>
          <p:nvPr/>
        </p:nvSpPr>
        <p:spPr>
          <a:xfrm>
            <a:off x="3948120" y="1428840"/>
            <a:ext cx="487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ртон наглядно иллюстрирует, как вибрирующий объект может генерировать звук. Он содержит рукоятку и два зубца, изготовленные из эластичного металла (обычно из стали). Когда вы ударяете по камертону резиновым молотком, его зубцы начинают вибриро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6" descr="https://new-science.ru/wp-content/uploads/2020/09/7887-9.jpg"/>
          <p:cNvPicPr/>
          <p:nvPr/>
        </p:nvPicPr>
        <p:blipFill>
          <a:blip r:embed="rId2"/>
          <a:stretch/>
        </p:blipFill>
        <p:spPr>
          <a:xfrm>
            <a:off x="5651640" y="5092560"/>
            <a:ext cx="2847960" cy="15876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5"/>
          <p:cNvSpPr/>
          <p:nvPr/>
        </p:nvSpPr>
        <p:spPr>
          <a:xfrm>
            <a:off x="5629320" y="4292640"/>
            <a:ext cx="2863800" cy="642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-apple-system"/>
              </a:rPr>
              <a:t>Дрожание окон при приближении гро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122400" y="4149720"/>
            <a:ext cx="538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грозы разряды молнии производят мощные и быстрые волны давления, которые распространяются на очень большие расстояния. Когда эти волны достигают вашего дома, они заставляют оконные стекла вибрировать таким же образом, как наша барабанная перепонка вибрирует в ответ на звуковые волн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539640" y="260280"/>
            <a:ext cx="8353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Ы ПОПЕРЕЧНЫХ ВОЛН В ПОВСЕДНЕВНОЙ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https://new-science.ru/wp-content/uploads/2020/09/585-8.jpg"/>
          <p:cNvPicPr/>
          <p:nvPr/>
        </p:nvPicPr>
        <p:blipFill>
          <a:blip r:embed="rId1"/>
          <a:stretch/>
        </p:blipFill>
        <p:spPr>
          <a:xfrm>
            <a:off x="324000" y="1844640"/>
            <a:ext cx="2798640" cy="191448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2"/>
          <p:cNvSpPr/>
          <p:nvPr/>
        </p:nvSpPr>
        <p:spPr>
          <a:xfrm>
            <a:off x="168120" y="1282680"/>
            <a:ext cx="339588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ебания гитарной стру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3492360" y="1996920"/>
            <a:ext cx="54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ипы струнных инструментов - гитары, скрипки, пианино - содержат натянутые струны, которые колеблются при щипании. Это колебание в струне производит звук. Нота зависит от частоты вибрирующей пруж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5504040" y="4135320"/>
            <a:ext cx="3024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ракрасное излу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https://new-science.ru/wp-content/uploads/2020/09/585.png"/>
          <p:cNvPicPr/>
          <p:nvPr/>
        </p:nvPicPr>
        <p:blipFill>
          <a:blip r:embed="rId2"/>
          <a:stretch/>
        </p:blipFill>
        <p:spPr>
          <a:xfrm>
            <a:off x="5508720" y="4724280"/>
            <a:ext cx="3019320" cy="19098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5"/>
          <p:cNvSpPr/>
          <p:nvPr/>
        </p:nvSpPr>
        <p:spPr>
          <a:xfrm>
            <a:off x="147600" y="4135320"/>
            <a:ext cx="518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мы не видим инфракрасное излучение, мы можем ощущать энергию этих волн как тепло. Тепловое излучение, излучаемое большинством объектов вблизи комнатной температуры, является инфракрасным. Многие бытовые приборы, такие как тостеры и тепловые лампы, используют инфракрасное излучение для передачи теп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1069920" y="189000"/>
            <a:ext cx="71056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крепление новых зна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395280" y="1197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На каком из рисунков показана поперечная волна? Продольная волн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04292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11160" y="1844640"/>
            <a:ext cx="3353040" cy="16556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 flipV="1">
            <a:off x="4859280" y="1915920"/>
            <a:ext cx="2836800" cy="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859280" y="1835280"/>
            <a:ext cx="3465720" cy="1665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6"/>
          <p:cNvSpPr/>
          <p:nvPr/>
        </p:nvSpPr>
        <p:spPr>
          <a:xfrm>
            <a:off x="657360" y="3933720"/>
            <a:ext cx="7038720" cy="23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spcBef>
                <a:spcPts val="1624"/>
              </a:spcBef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лна, возбуждаемая смычком в струне, явля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624"/>
              </a:lnSpc>
              <a:spcBef>
                <a:spcPts val="1624"/>
              </a:spcBef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одольн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624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переч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624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624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дольная волна возбужда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624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624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твердых тел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624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жидкост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624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газ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50920" y="148428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28, вопрос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ь сообщения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«Сейсмические волны» и «Сейсмограф» как дополнение к новому материал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1580400" y="333360"/>
            <a:ext cx="6362280" cy="764280"/>
          </a:xfrm>
          <a:prstGeom prst="rect">
            <a:avLst/>
          </a:prstGeom>
          <a:solidFill>
            <a:srgbClr val="146194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"/>
          <p:cNvSpPr/>
          <p:nvPr/>
        </p:nvSpPr>
        <p:spPr>
          <a:xfrm>
            <a:off x="1785960" y="2857680"/>
            <a:ext cx="700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468360" y="78120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ть усвоение знаний о распространении колебаний в сред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умение различать продольные и поперечные вол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1048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ОНТАЛЬНЫЙ ОПРОС:</a:t>
            </a:r>
            <a:br>
              <a:rPr sz="2900"/>
            </a:br>
            <a:br>
              <a:rPr sz="29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Т ЛИ СВОБОДНЫЕ КОЛЕБАНИЯ БЫТЬ НЕЗАТУХАЮЩИМИ? ПОЧЕМУ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КОЛЕБАНИЯ НАЗЫВАЮТСЯ ВЫНУЖДЕННЫМИ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МЕХАНИЧЕСКИЙ РЕЗОНАНС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ИМ КОЛЕБАНИЯМ – СВОБОДНЫМ ИЛИ ВЫНУЖДЕННЫМ – ПРИМЕНИМО ПОНЯТИЕ РЕЗОНАНСА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ЕДИТЕ ПРИМЕРЫ ВРЕДНОГО И ПОЛЕЗНОГО ПРОЯВЛЕНИЯ МЕХАНИЧЕСКОГО РЕЗОНАНСА.</a:t>
            </a:r>
            <a:br>
              <a:rPr sz="29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https://avatars.mds.yandex.net/i?id=7a600b119cb3a0fb0855c8024889cc9a_l-5249548-images-thumbs&amp;n=13"/>
          <p:cNvPicPr/>
          <p:nvPr/>
        </p:nvPicPr>
        <p:blipFill>
          <a:blip r:embed="rId1"/>
          <a:stretch/>
        </p:blipFill>
        <p:spPr>
          <a:xfrm>
            <a:off x="0" y="-27000"/>
            <a:ext cx="4643280" cy="3095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5021280" y="237960"/>
            <a:ext cx="38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р механических вол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10" descr="https://avatars.mds.yandex.net/i?id=ebcb5f5443a642cca1fea0ede19ea4a0_l-6947142-images-thumbs&amp;n=13"/>
          <p:cNvPicPr/>
          <p:nvPr/>
        </p:nvPicPr>
        <p:blipFill>
          <a:blip r:embed="rId2"/>
          <a:stretch/>
        </p:blipFill>
        <p:spPr>
          <a:xfrm>
            <a:off x="4716360" y="3855960"/>
            <a:ext cx="4427640" cy="3002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s://stihi.ru/pics/2021/10/21/5985.jpg"/>
          <p:cNvPicPr/>
          <p:nvPr/>
        </p:nvPicPr>
        <p:blipFill>
          <a:blip r:embed="rId3"/>
          <a:stretch/>
        </p:blipFill>
        <p:spPr>
          <a:xfrm>
            <a:off x="2967120" y="2736720"/>
            <a:ext cx="3351240" cy="20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5"/>
          <p:cNvSpPr/>
          <p:nvPr/>
        </p:nvSpPr>
        <p:spPr>
          <a:xfrm>
            <a:off x="116640" y="404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Что же такое вол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6"/>
          <p:cNvSpPr/>
          <p:nvPr/>
        </p:nvSpPr>
        <p:spPr>
          <a:xfrm>
            <a:off x="684360" y="981000"/>
            <a:ext cx="8064360" cy="94716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на - это колебания, которые перемещаются в пространстве с течением врем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7"/>
          <p:cNvSpPr/>
          <p:nvPr/>
        </p:nvSpPr>
        <p:spPr>
          <a:xfrm>
            <a:off x="868320" y="213372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лны бывают механические и электромагнитные. Электромагнитные волны, представляющие собой распространяющиеся возмущения электромагнитного поля, будут рассмотрены нами позже. А сегодня рассмотрим более подробно механические волны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8" descr="https://avatars.mds.yandex.net/i?id=4f0ee5e6fdd19bb0f1bba783f526cbc5_l-3974798-images-thumbs&amp;n=13"/>
          <p:cNvPicPr/>
          <p:nvPr/>
        </p:nvPicPr>
        <p:blipFill>
          <a:blip r:embed="rId1"/>
          <a:stretch/>
        </p:blipFill>
        <p:spPr>
          <a:xfrm>
            <a:off x="4716360" y="4638600"/>
            <a:ext cx="3497400" cy="1968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https://rossaprimavera.ru/static/files/9b81ac625176.jpg"/>
          <p:cNvPicPr/>
          <p:nvPr/>
        </p:nvPicPr>
        <p:blipFill>
          <a:blip r:embed="rId2"/>
          <a:stretch/>
        </p:blipFill>
        <p:spPr>
          <a:xfrm>
            <a:off x="684360" y="4638600"/>
            <a:ext cx="331308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3"/>
          <p:cNvSpPr/>
          <p:nvPr/>
        </p:nvSpPr>
        <p:spPr>
          <a:xfrm>
            <a:off x="468360" y="115920"/>
            <a:ext cx="83059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сновное свойство волны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волне происходит перенос энергии без переноса вещ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4" descr="Simple_harmonic_motion_animation.gif"/>
          <p:cNvPicPr/>
          <p:nvPr/>
        </p:nvPicPr>
        <p:blipFill>
          <a:blip r:embed="rId1"/>
          <a:stretch/>
        </p:blipFill>
        <p:spPr>
          <a:xfrm>
            <a:off x="2124000" y="2133720"/>
            <a:ext cx="508788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503280" y="1508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угие механические волны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- это возмущения, которые распространяются только в веществе - упругой сре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3240000" y="191628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в каких же упругих средах могут распространяться механические вол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108000" y="2882880"/>
            <a:ext cx="46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лны распространяются в жидкости (картины Айвазовского, фотография моря, все мы бросали камешек в реку и видели волны, распространяющиеся от него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de9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e9f8"/>
                </a:solidFill>
                <a:latin typeface="Times New Roman"/>
                <a:ea typeface="Times New Roman"/>
              </a:rPr>
              <a:t>Волны распространяются в газах (звуковая волн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 твёрдом теле может возникнуть вол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https://holsta.net/photos/picfull2_61b9645901fe6.jpg"/>
          <p:cNvPicPr/>
          <p:nvPr/>
        </p:nvPicPr>
        <p:blipFill>
          <a:blip r:embed="rId1"/>
          <a:stretch/>
        </p:blipFill>
        <p:spPr>
          <a:xfrm>
            <a:off x="4695840" y="3716280"/>
            <a:ext cx="4448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4"/>
          <p:cNvSpPr/>
          <p:nvPr/>
        </p:nvSpPr>
        <p:spPr>
          <a:xfrm>
            <a:off x="611280" y="333360"/>
            <a:ext cx="7416720" cy="70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XAH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Ч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CK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BO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5"/>
          <p:cNvSpPr/>
          <p:nvPr/>
        </p:nvSpPr>
        <p:spPr>
          <a:xfrm>
            <a:off x="1563840" y="1233360"/>
            <a:ext cx="558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М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xa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нич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ки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 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в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лны м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гут 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pa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п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po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pa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нять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я т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льк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 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в к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к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й- нибудь 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cpe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д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 (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в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щ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тв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в г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з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, 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в жидк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ти, в тв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p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д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м т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л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B 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в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куум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 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м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xa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нич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к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я в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лн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a 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в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зникнуть н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 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м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ж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чник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м в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лн являют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я к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л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блющи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я т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л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a, 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к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p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ы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 c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зд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ют в 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к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p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уж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ющ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м п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po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pa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тв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 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д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ф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op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м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цию </a:t>
            </a:r>
            <a:r>
              <a:rPr b="1" lang="en-US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cpe</a:t>
            </a:r>
            <a:r>
              <a:rPr b="1" lang="ru-RU" sz="24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Прямая со стрелкой 9" descr=""/>
          <p:cNvPicPr/>
          <p:nvPr/>
        </p:nvPicPr>
        <p:blipFill>
          <a:blip r:embed="rId1"/>
          <a:stretch/>
        </p:blipFill>
        <p:spPr>
          <a:xfrm>
            <a:off x="7437600" y="1243080"/>
            <a:ext cx="639720" cy="423072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ая со стрелкой 12" descr=""/>
          <p:cNvPicPr/>
          <p:nvPr/>
        </p:nvPicPr>
        <p:blipFill>
          <a:blip r:embed="rId2"/>
          <a:stretch/>
        </p:blipFill>
        <p:spPr>
          <a:xfrm>
            <a:off x="6480" y="1268280"/>
            <a:ext cx="645840" cy="4138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4"/>
          <p:cNvSpPr/>
          <p:nvPr/>
        </p:nvSpPr>
        <p:spPr>
          <a:xfrm>
            <a:off x="191160" y="5373720"/>
            <a:ext cx="2431800" cy="58140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ьн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15"/>
          <p:cNvSpPr/>
          <p:nvPr/>
        </p:nvSpPr>
        <p:spPr>
          <a:xfrm>
            <a:off x="6383880" y="5373720"/>
            <a:ext cx="2405880" cy="58140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e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н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2"/>
          <p:cNvSpPr/>
          <p:nvPr/>
        </p:nvSpPr>
        <p:spPr>
          <a:xfrm>
            <a:off x="179280" y="1341360"/>
            <a:ext cx="878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Если при распространении волны направление колебаний частиц и распространения волны совпадают, то такие волны называют 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продольными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792000" y="2851200"/>
            <a:ext cx="813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оздухе или воде распространение волны может происходить за счёт разряжения и сжатия среды. При этом движение отдельных частиц параллельно или другими словами продольно направлению распространения волны. Звук - один из примеров подобных вол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2412360" y="260280"/>
            <a:ext cx="4236120" cy="764280"/>
          </a:xfrm>
          <a:prstGeom prst="rect">
            <a:avLst/>
          </a:prstGeom>
          <a:solidFill>
            <a:srgbClr val="146194"/>
          </a:solidFill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Ь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395280" y="4486320"/>
            <a:ext cx="4392720" cy="1740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ольные волны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волны сжатия и растяжения, поэтому они могут распространяться в любой среде (твёрдой, жидкой, газообразно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https://pandia.ru/text/82/087/images/img877.jpg"/>
          <p:cNvPicPr/>
          <p:nvPr/>
        </p:nvPicPr>
        <p:blipFill>
          <a:blip r:embed="rId1"/>
          <a:stretch/>
        </p:blipFill>
        <p:spPr>
          <a:xfrm>
            <a:off x="5003640" y="4843440"/>
            <a:ext cx="20955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5:04:09Z</dcterms:created>
  <dc:creator>Александрова З.В.</dc:creator>
  <dc:description/>
  <dc:language>en-US</dc:language>
  <cp:lastModifiedBy>Ольга Александровна</cp:lastModifiedBy>
  <dcterms:modified xsi:type="dcterms:W3CDTF">2022-11-12T12:52:26Z</dcterms:modified>
  <cp:revision>294</cp:revision>
  <dc:subject/>
  <dc:title>Колебания и волны</dc:title>
</cp:coreProperties>
</file>