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6.png" ContentType="image/png"/>
  <Override PartName="/ppt/media/drumroll.wav" ContentType="audio/x-wav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pplause.wav" ContentType="audio/x-wav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542-7634-4DAD-B145-763298FF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249-AA92-4E36-9488-8438EFA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D5F-7AE4-4D32-BF49-9EB69849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149-09A9-43A4-9F5B-DAC33108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AC3-2081-4C7F-BB30-AFF5E190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39F-960A-489C-8BA5-CFB44A7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967-2207-4E1A-8DFF-35BFCF8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16A-CE2D-406D-8A9F-A91764D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35F-A78E-49AB-A415-9EC9321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87A-FD20-449A-8966-BADCE70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5B9-C14C-4901-80CD-F875657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48D-1681-4868-A279-270C0B3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CCD-6919-487D-9E5E-3743A4F7F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84240" y="2060640"/>
            <a:ext cx="3225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рны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71320" y="2852640"/>
            <a:ext cx="627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овек, г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он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е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за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ё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ди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нн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ь,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е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едл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енн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,шес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1" lang="ru-RU" sz="4000" spc="-1" strike="noStrike">
                <a:solidFill>
                  <a:srgbClr val="92d050"/>
                </a:solidFill>
                <a:latin typeface="Arial"/>
                <a:ea typeface="Arial"/>
              </a:rPr>
              <a:t>с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ж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11120" y="189000"/>
            <a:ext cx="5895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е падежи имён 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50920" y="1052640"/>
            <a:ext cx="85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 глобусе, без моло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коло деревни, на  ведр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 дочурку, к гор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о зайца,  около речк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д селом, перед работо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 дороге, о нежност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 курочке, по тетрад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98520" y="189000"/>
            <a:ext cx="365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:\4 класс\русский язык уроки\таблицы\падеж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клипарты\цифры буквы\цифры запятые точки\0_4bc3a_c392e0c9_L.png"/>
          <p:cNvPicPr/>
          <p:nvPr/>
        </p:nvPicPr>
        <p:blipFill>
          <a:blip r:embed="rId2"/>
          <a:stretch/>
        </p:blipFill>
        <p:spPr>
          <a:xfrm>
            <a:off x="7164360" y="260280"/>
            <a:ext cx="1590840" cy="1590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81680" y="4653000"/>
            <a:ext cx="412632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о трудн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ыполнял(а) задан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, 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могу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11280" y="148428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Как определить падеж имён существительных в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Какие имена существительные называются несклоняем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едите примеры несклоняемых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4932360" y="2924280"/>
            <a:ext cx="381636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нгуру в кафу зашёл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л там свободный сто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идит за доминой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шимпанзой и кака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огромный обезья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 играть на фортепьян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и взрослый, сняв пенсн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хотал на всю ки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ное кин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ль, что кончилось он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ардероб пора бежать -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т польта выда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324000" y="189000"/>
            <a:ext cx="403200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-то рано поутру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другом сели мы в метр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ехали в метре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ьм смотреть о кенг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идим мы с ним в кине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пальта и без кашн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ернее, я и 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кашны и без паль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т кины детвора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кинах кенгура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ит – бродит по шоссу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сит в сумке шимпан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4859280" y="404640"/>
            <a:ext cx="3097440" cy="115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слушать Радионя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fb.ru/misc/i/gallery/10597/14640.jpg"/>
          <p:cNvPicPr/>
          <p:nvPr/>
        </p:nvPicPr>
        <p:blipFill>
          <a:blip r:embed="rId1"/>
          <a:stretch/>
        </p:blipFill>
        <p:spPr>
          <a:xfrm>
            <a:off x="179280" y="3933720"/>
            <a:ext cx="4032360" cy="26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0" y="1627200"/>
            <a:ext cx="9174240" cy="193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2511360" y="5730840"/>
            <a:ext cx="88416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3"/>
          <a:stretch/>
        </p:blipFill>
        <p:spPr>
          <a:xfrm>
            <a:off x="6242040" y="5803920"/>
            <a:ext cx="2921040" cy="92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11280" y="26028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склоняем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называются существительные, которые имеют во всех падежах одну и ту же форму: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т метро, вхожу в метро, пользуюсь метро, говорю о метро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и них встречаются как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арицательн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ак и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обствен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: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фе, радио, жюри, кино, шоссе, пианино, Гёте, Золя, Сочи, Тольят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68360" y="4797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склоняемые имена существительные не имеют падежных фор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несклоняемых существительных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кончание не выде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39640" y="260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 несклоняемым существительным относя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многие существительные иноязычного происхождения на -о, -е, -и, -у, -ю с конечным ударным -а: 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абло, пенсне, такси, рагу, меню, боа; Дюма, Гейне, Миссисипи, О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иноязычные фамилии, обозначающие лиц женского пола и оканчивающиеся на согласный: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игер, Войни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русские и украинские фамилии на -их/-ых и -о: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урново, Франко, Белых, Долги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) сложносокращённые слова буквенного и смешанного характера: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ГУ, ГАИ, сельпо, райо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39640" y="404640"/>
            <a:ext cx="69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либри, кенгуру, шоссе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ламинго, пони, шимпанзе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ао, кофе, домино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оэ, радио, кино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кси, метро, купе, пальто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шне, кафе, трюмо, манто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какаду, драже, пари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интервью, рагу, жюри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пианино, и фойе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юре, бюро и ателье -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ы все слова запоминай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 никогда их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склон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pleteniebiserom.ru/wp-content/uploads/2011/08/%D1%84%D0%BB%D0%B0%D0%BC%D0%B8%D0%BD%D0%B3%D0%BE-%D0%B3%D0%BB%D0%B0%D0%B2%D0%BD%D0%B0%D1%8F.gif"/>
          <p:cNvPicPr/>
          <p:nvPr/>
        </p:nvPicPr>
        <p:blipFill>
          <a:blip r:embed="rId1"/>
          <a:stretch/>
        </p:blipFill>
        <p:spPr>
          <a:xfrm>
            <a:off x="7164360" y="189000"/>
            <a:ext cx="174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dreamfood.ua/uploads/forum/images/1358705467.png"/>
          <p:cNvPicPr/>
          <p:nvPr/>
        </p:nvPicPr>
        <p:blipFill>
          <a:blip r:embed="rId2"/>
          <a:stretch/>
        </p:blipFill>
        <p:spPr>
          <a:xfrm>
            <a:off x="6227640" y="4365720"/>
            <a:ext cx="1484280" cy="215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marketolog.biz/pics/content/radio.jpg"/>
          <p:cNvPicPr/>
          <p:nvPr/>
        </p:nvPicPr>
        <p:blipFill>
          <a:blip r:embed="rId3"/>
          <a:stretch/>
        </p:blipFill>
        <p:spPr>
          <a:xfrm>
            <a:off x="7093080" y="2997360"/>
            <a:ext cx="1868400" cy="144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Скругленный прямоугольник 11"/>
          <p:cNvSpPr/>
          <p:nvPr/>
        </p:nvSpPr>
        <p:spPr>
          <a:xfrm>
            <a:off x="5796000" y="2924280"/>
            <a:ext cx="3240000" cy="381780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3817800"/>
              <a:gd name="textAreaBottom" fmla="*/ 3659760 h 3817800"/>
            </a:gdLst>
            <a:ahLst/>
            <a:rect l="textAreaLeft" t="textAreaTop" r="textAreaRight" b="textAreaBottom"/>
            <a:pathLst>
              <a:path w="21600" h="25452">
                <a:moveTo>
                  <a:pt x="3600" y="0"/>
                </a:moveTo>
                <a:arcTo wR="3600" hR="3600" stAng="16200000" swAng="-5400000"/>
                <a:lnTo>
                  <a:pt x="0" y="21852"/>
                </a:lnTo>
                <a:arcTo wR="3600" hR="3600" stAng="10800000" swAng="-5400000"/>
                <a:lnTo>
                  <a:pt x="18000" y="25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489600" y="404640"/>
            <a:ext cx="43596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несклоняемые 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ществ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497760" y="1484280"/>
            <a:ext cx="212400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а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08960" y="2492280"/>
            <a:ext cx="224280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ди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03920" y="5589720"/>
            <a:ext cx="161928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и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70800" y="2492280"/>
            <a:ext cx="257184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мин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068640" y="4508640"/>
            <a:ext cx="127944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у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552960" y="1484280"/>
            <a:ext cx="221976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апог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02840" y="4508640"/>
            <a:ext cx="237384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ол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65360" y="3429000"/>
            <a:ext cx="156456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не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клипарты\Дети\0_8e998_5de0bb29_S.png"/>
          <p:cNvPicPr/>
          <p:nvPr/>
        </p:nvPicPr>
        <p:blipFill>
          <a:blip r:embed="rId1"/>
          <a:stretch/>
        </p:blipFill>
        <p:spPr>
          <a:xfrm>
            <a:off x="6659640" y="260280"/>
            <a:ext cx="1965240" cy="2562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2927160" y="3429000"/>
            <a:ext cx="168948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л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-1.11111E-006 2.98797E-006 L 0.30851 0.23311 E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Motion origin="layout" path="M 2.5E-006 -5.08788E-007 L 0.64774 0.3487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1.11111E-006 -3.09898E-006 L 0.65087 0.02359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0.05104 0.00231 L 0.30955 0.21231 E">
                                      <p:cBhvr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06:29:13Z</dcterms:created>
  <dc:creator>Еленга Берюхова</dc:creator>
  <dc:description/>
  <dc:language>en-US</dc:language>
  <cp:lastModifiedBy>EXPERT</cp:lastModifiedBy>
  <dcterms:modified xsi:type="dcterms:W3CDTF">2022-11-13T10:26:04Z</dcterms:modified>
  <cp:revision>21</cp:revision>
  <dc:subject/>
  <dc:title>Слайд 1</dc:title>
</cp:coreProperties>
</file>